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28.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_rels/presentation.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3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151.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352.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0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2.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89.xml.rels" ContentType="application/vnd.openxmlformats-package.relationships+xml"/>
  <Override PartName="/ppt/slideLayouts/_rels/slideLayout233.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47.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43.xml" ContentType="application/vnd.openxmlformats-officedocument.presentationml.slideLayout+xml"/>
  <Override PartName="/ppt/slideLayouts/slideLayout354.xml" ContentType="application/vnd.openxmlformats-officedocument.presentationml.slideLayout+xml"/>
  <Override PartName="/ppt/slideLayouts/slideLayout34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41.xml" ContentType="application/vnd.openxmlformats-officedocument.presentationml.slideLayout+xml"/>
  <Override PartName="/ppt/slideLayouts/slideLayout17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340.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1.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6.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media/image10.jpeg" ContentType="image/jpeg"/>
  <Override PartName="/ppt/media/image5.png" ContentType="image/png"/>
  <Override PartName="/ppt/media/image9.jpeg" ContentType="image/jpeg"/>
  <Override PartName="/ppt/media/image11.jpeg" ContentType="image/jpeg"/>
  <Override PartName="/ppt/media/image8.png" ContentType="image/png"/>
  <Override PartName="/ppt/media/image12.png" ContentType="image/png"/>
  <Override PartName="/ppt/media/image20.jpeg" ContentType="image/jpeg"/>
  <Override PartName="/ppt/media/image7.png" ContentType="image/png"/>
  <Override PartName="/ppt/media/image21.jpeg" ContentType="image/jpeg"/>
  <Override PartName="/ppt/media/image16.jpeg" ContentType="image/jpeg"/>
  <Override PartName="/ppt/media/image19.jpeg" ContentType="image/jpeg"/>
  <Override PartName="/ppt/media/image18.jpeg" ContentType="image/jpeg"/>
  <Override PartName="/ppt/media/image15.jpeg" ContentType="image/jpeg"/>
  <Override PartName="/ppt/media/image14.png" ContentType="image/png"/>
  <Override PartName="/ppt/media/image1.png" ContentType="image/png"/>
  <Override PartName="/ppt/media/image2.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 id="268" r:id="rId44"/>
    <p:sldId id="269" r:id="rId45"/>
    <p:sldId id="270" r:id="rId46"/>
    <p:sldId id="271" r:id="rId47"/>
    <p:sldId id="272" r:id="rId48"/>
    <p:sldId id="273" r:id="rId49"/>
    <p:sldId id="274" r:id="rId50"/>
    <p:sldId id="275" r:id="rId51"/>
    <p:sldId id="276" r:id="rId52"/>
    <p:sldId id="277" r:id="rId53"/>
    <p:sldId id="278" r:id="rId54"/>
    <p:sldId id="279" r:id="rId55"/>
    <p:sldId id="280"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slide" Target="slides/slide13.xml"/><Relationship Id="rId45" Type="http://schemas.openxmlformats.org/officeDocument/2006/relationships/slide" Target="slides/slide14.xml"/><Relationship Id="rId46" Type="http://schemas.openxmlformats.org/officeDocument/2006/relationships/slide" Target="slides/slide15.xml"/><Relationship Id="rId47" Type="http://schemas.openxmlformats.org/officeDocument/2006/relationships/slide" Target="slides/slide16.xml"/><Relationship Id="rId48" Type="http://schemas.openxmlformats.org/officeDocument/2006/relationships/slide" Target="slides/slide17.xml"/><Relationship Id="rId49" Type="http://schemas.openxmlformats.org/officeDocument/2006/relationships/slide" Target="slides/slide18.xml"/><Relationship Id="rId50" Type="http://schemas.openxmlformats.org/officeDocument/2006/relationships/slide" Target="slides/slide19.xml"/><Relationship Id="rId51" Type="http://schemas.openxmlformats.org/officeDocument/2006/relationships/slide" Target="slides/slide20.xml"/><Relationship Id="rId52" Type="http://schemas.openxmlformats.org/officeDocument/2006/relationships/slide" Target="slides/slide21.xml"/><Relationship Id="rId53" Type="http://schemas.openxmlformats.org/officeDocument/2006/relationships/slide" Target="slides/slide22.xml"/><Relationship Id="rId54" Type="http://schemas.openxmlformats.org/officeDocument/2006/relationships/slide" Target="slides/slide23.xml"/><Relationship Id="rId55" Type="http://schemas.openxmlformats.org/officeDocument/2006/relationships/slide" Target="slides/slide24.xml"/><Relationship Id="rId56" Type="http://schemas.openxmlformats.org/officeDocument/2006/relationships/slide" Target="slides/slide25.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9CE50A-68A7-4A7D-AE58-C115FC822F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753D7-9CA5-4B2A-B4F6-A37D71E26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97F2CE-A758-4005-AF13-8BEF24D813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CEA7C6-9EB4-4AC4-871F-86CA50D958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5BB7BE-DA93-4CDD-AA3B-C97CCEBA61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82DD03-4AA4-45E9-8F19-B574D64540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1DE1DF-A355-4176-A260-8D9DEFC965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EA1972-E81A-4DC7-9E5D-B9F5419562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E1E645-C535-4F30-AE96-D509D78DF1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7072AD0-12DB-4E3D-9130-B70A99E7A93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744EAC-B25A-4F32-A837-055A0FE4877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063B7B1-11A2-4983-8583-54DF6571DAD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521FA9-C5A0-497A-9AD2-FC569F82CC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76B3B5A-4C24-47EA-A37B-69A2EA394C6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0DF5513-5DE0-4BD4-B2B1-0E21E67B89D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37422A9-8DA1-4178-BEA9-1DCD60EB5C4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DF2D8C7-1877-4AC1-B54E-B045B01E39C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537A830-ACED-4BE6-8652-739106C6103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1B43E5B-5FC3-4A63-89BF-584B579F05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9FE6753-4F8E-416F-8BCD-C9D07CB558B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A583B6D-EC39-41C0-9DB2-375E03D6D8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1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DF92CB1-72B4-4CB2-AB43-BF71074BA46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44E0ED0-E75E-4D38-9F78-A1E48331E9E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3D961F-92DF-414E-9A04-45AC94B11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1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E960CDC-7713-4787-90E7-FC925E7DA80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C84CDD4-4492-4494-87C5-9DFD8F9FB49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7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D5D6012-5172-4DA7-B99A-8980C37E70C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71A481C-A19A-4230-A30C-87FA9392C06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98656E4-203B-4E37-84A7-73E9C23F7C2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2149602-BB24-43C8-AD51-09A0346ACF5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8476B3D-D9C6-4269-A732-0524559A388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045409F-2BAC-4736-BC46-005B2D86FCC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37682B9-87E3-4A07-B984-5F961E3AF6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FC336EB-50CF-4D4F-9AE1-D0294A481F3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A9BE9F-8254-4CFD-8E11-3082519F3A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9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7208FBE-E62D-4A37-96E3-EFBFB056222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8C5C50F-96AA-47C7-9876-451E15AEB9E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9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A21EACC-CEC4-4CE8-BE8E-7F58711E3C5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843F3FF-4211-4422-8CA3-39DF9512FCE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552E41D-823E-4BD4-B5BB-A05A45E2ABF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CE08ED1-3D83-4F78-B266-EFBEB406C04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1110262-9B6C-4786-9D77-BA757F712E9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2CF9D46-7F22-411F-9124-8D2C8CBC2FC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EDB2DF2-27EC-4CC7-B2AE-B83FA6AC590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C25412A-F9EB-4C66-A744-CE14280B2C1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528120-501E-4CB9-B953-31749E29AB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F7BB1A-2765-40EC-8153-4730836CCF4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CD80369-0D3E-4CBF-85C1-3C7279E781F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4DDE187-94C9-4A5E-A726-EB17B9369CA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D82BDE4-6DAB-4C32-BC8E-57D6A85F4A0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A2B80E8-4C5E-400B-BCE7-6A79D16219F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97001D8-5287-40CE-916B-01E7C17DA89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5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C7824F1-8F43-46D5-AF83-7741F0E3AE7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E0EDEC1-31DE-4FF0-AE6F-96F5EE2CA8C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1875267-A28A-4F49-BA8A-0D7906392A1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078AC8E-D9B4-42F1-8AE6-6755FB1D50F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AF94DF-C8A2-4C9A-8310-92AF674248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EB43384-A9C9-4366-9A9B-DC6D8BF982F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7A7ACD1-B770-4178-8C66-4D3269819E2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6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800AB02-5512-438A-A4AF-0F838E945E3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F5B5762-9F2A-4349-8BB3-7253F966698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89DFC33-2CE9-4B2B-A64E-2788C269637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5D26FC4-8BCE-49AB-8C20-B3C98A25DC6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6242545-4C06-404E-881C-BAB639C29E3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F5ECDD4-A577-4912-95D6-05D59A5D417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9A6A4F0-70FC-467C-B436-9CD88211195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FB3E2F4-F051-4334-9371-2652273791C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9D971F-96D7-4EB1-A21C-46200239BA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CFA2499-C627-419D-97E6-DA8A61293EE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A569A20-9B7A-4BCD-927E-47AAA7E79F9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5D4B62C-6D22-426C-9C81-F7922D13E4B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AC9D688-2055-4B82-A505-BB30BA5881F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0A71B52-4EFF-47C7-9326-F820FA1CEB8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8BE296C-3293-4DBF-8721-E810C940855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5E14574-5692-47E0-9D3D-E83738BB074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1DFDEA7-7AD2-4BEC-B3BB-2872DA54558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2D5DD77-74EC-4F72-BE7C-D423AC686FE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F87E1F6-C1A7-4FD0-8212-DE1585D8503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F4F299-305F-4C02-A76A-0F27A28F93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0664B0F-2F0C-4B6F-9D0F-6CADB667720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9464921-083F-4838-9069-957A2DDF4F6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936CFB8-B4FA-4E0B-825D-CDBE9CD4D74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1249006-F959-414E-88CF-63A66728DC5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75873A7-45B5-4FB9-8936-C82F2C98EA9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F03084E-BC28-4C67-8083-DF2A1DD8521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F9E9BFF-37C2-42DF-86DA-6195266CF6A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2F55AB1-A1B1-451D-933E-4727F8582BE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B9B0226-CF42-4D45-A2AE-C99267C7DE0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88902AA-4A5B-48E5-AB22-8EC4814CD57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B842BE-3C76-487B-A7A3-97A590DB3F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57417E2-D062-4937-92B2-25F468168F5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EEE706F-66C6-4927-A02E-5B9A13CAC8F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E38599C-769C-4247-88B4-41AF1D2A8B1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A0B863C-8FF8-44B1-935F-14E08CE7760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877212E-8FF8-4E77-AFCC-F4E102B04E3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D03FE40-6D9D-4900-9440-5080A2334FE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0DBECCD-697D-422F-A4FB-8C37D3A4105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75DC17D-F695-4AE7-92FC-3DF3D7590EF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CF4A741-A352-44CF-A36C-48FB6A7878D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B196BFA-56B7-47C6-9E13-DA224679DD5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0860E7-42B1-4787-A32F-9F8DC34CE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A622E9F-2EDC-4BBF-880A-96F13BB055E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95B7AC7-6B05-4779-A584-F0C679FB23D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3D5FEC5-9F1E-4653-8137-A1B70A87AE7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892C8CB-B094-4D32-9428-8913B8B6712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2DBEFDF-98CB-4416-84F4-90872BA5758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B92EBB0-6C76-4DFA-B8DD-59971DA0E2C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3CD226F-EB0D-4415-B9F6-0EAE5F545EB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D0A0E00-15CE-41A2-96C7-6B419F43E70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2EC62C9-869A-4550-B3E4-E409DFD026E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A389888-E721-45C8-894F-C1B230BBF34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79D8A-4954-4841-B893-889F6F19E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12781-7E92-4E4C-A11F-9F7542EFF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9535906-3AE0-4A04-B98B-0FA4E2F780B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1BADB2B-6C3E-4F82-A00F-B929459A30B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4FCCE17-298E-46F3-B6AD-8D3BAF75440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A2E5400-5A1D-42EE-846D-239D3F7D8EC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573A3B5-558A-4F72-AC92-A9E55B66A99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3CC8D21-364E-4F6E-86BF-1669AC38DFD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7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9DAC71A-F6DD-4CB9-BFEF-D756B08F996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0B8C9A5-6BAC-4F83-9002-93BBD9D06F2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D558DFE-B8C6-4A73-96CE-B7C6185ACF1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E7BB5DC-88EE-4CE1-9A6A-C6113DDF761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01196-FD76-4C17-9CE5-847F463F44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BA62688-43BF-469F-A0A9-80D7C55FEC5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FFF41B3-249B-47E2-B5C5-9A8B647CC13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A5AD5F5-DE08-4FE6-AB45-1E6835C68C3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A099ADB-3708-450B-8256-31C7447EFE2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9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422253E-43D6-4475-BD09-42BBA7A302E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CAB5030-F0F6-4E96-B090-DB9A0DD99EE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0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6B7D994-F285-4942-A6CC-80D13A0487F3}"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3B6CE165-A71D-4E95-AF4F-9FC977701223}"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3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CD85595-C579-4A1F-B2CC-AF7163FE2B5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51F2526-0033-4562-900E-3BF8ECEE198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E5522D-1FC2-47A5-AC16-23BF9DCE7C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54C7E0A-7ACC-4F31-B44E-B23D35A6540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CA9DCEF-3A57-4603-BDEF-5B251B3DE8C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E6CA531-8CA0-4A9A-941C-52F4A583121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1082F22-86C2-43C6-8BB1-BE819F88DFF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22101C2-3932-40D5-888B-880C7592CDC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5037FFA-4FB3-4B62-9CB4-9290784B822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5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A029D16-B34D-49B3-92A3-D40C0F06B6B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689C3EF7-78FD-4BA7-9FDB-2CB6D6781023}"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6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524824C-C50E-43E5-ACF0-1B1E029920A1}"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59"/>
          </p:nvPr>
        </p:nvSpPr>
        <p:spPr/>
        <p:txBody>
          <a:bodyPr/>
          <a:p>
            <a:fld id="{B3B68092-9166-42DA-A024-F512E20C9ADE}"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FB8E71-CF12-4429-8B64-361B162ACD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9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9"/>
          </p:nvPr>
        </p:nvSpPr>
        <p:spPr/>
        <p:txBody>
          <a:bodyPr/>
          <a:p>
            <a:fld id="{06563E3C-AC36-4830-A912-626458A32F9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9"/>
          </p:nvPr>
        </p:nvSpPr>
        <p:spPr/>
        <p:txBody>
          <a:bodyPr/>
          <a:p>
            <a:fld id="{A0EB04AA-D49A-42FC-B2D1-D8D663D68AC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9"/>
          </p:nvPr>
        </p:nvSpPr>
        <p:spPr/>
        <p:txBody>
          <a:bodyPr/>
          <a:p>
            <a:fld id="{082A33EF-A9D8-4409-95F8-0C240E5EA9A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9"/>
          </p:nvPr>
        </p:nvSpPr>
        <p:spPr/>
        <p:txBody>
          <a:bodyPr/>
          <a:p>
            <a:fld id="{AECD9C3B-A2FC-4D0C-8364-F146168300A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9"/>
          </p:nvPr>
        </p:nvSpPr>
        <p:spPr/>
        <p:txBody>
          <a:bodyPr/>
          <a:p>
            <a:fld id="{34D21F1E-3339-4CA5-9AD5-B504DD9222D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2EF9C605-C1F3-49CB-8B5E-66E9760F95D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343F6232-1C2C-4B7B-8BF3-A029183FD54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C23D1571-DD17-4DB5-8C86-20DD675C2D1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1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9"/>
          </p:nvPr>
        </p:nvSpPr>
        <p:spPr/>
        <p:txBody>
          <a:bodyPr/>
          <a:p>
            <a:fld id="{5E8676E9-205D-4101-BBCA-86040781FFB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59"/>
          </p:nvPr>
        </p:nvSpPr>
        <p:spPr/>
        <p:txBody>
          <a:bodyPr/>
          <a:p>
            <a:fld id="{A9FC1019-6B18-4834-AC3C-4159D90662EC}"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A6E7E7-8318-48B9-A352-3D363F6AE7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2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59"/>
          </p:nvPr>
        </p:nvSpPr>
        <p:spPr/>
        <p:txBody>
          <a:bodyPr/>
          <a:p>
            <a:fld id="{D8F785D6-568E-4108-BE37-CBC566CBDE94}"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34B9ADD8-9745-4E81-8F38-B9FEB943FAB4}"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8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13CDBEB-0F01-4437-B355-7FC8B3463A7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35BF25C-14F9-4112-A581-33E515D9C2D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DF3880C-50B1-4F0C-AB7C-B3CD41C7F60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316D24A-37D2-4CA8-9CED-AD22FBC1C69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E6F6708-548C-496A-8717-7D202258335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089CE35-17E1-429F-B99C-22333C1CC14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AD6AAF2-C115-4318-8E08-967455B5085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C27C62C-6198-4CD7-B3F5-6D0F80E2AC6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86569F6-6EB5-4E58-B667-61188270297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1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D6ED5BC-ACFD-4E95-8172-50B4CF10E53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E22C5C57-CBE7-4A43-BD60-58917CAF703F}"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1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3376C2E9-3F73-4EB9-9AD2-7040B66DBF62}"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66C6F220-D6CA-4FD9-9B12-6C21E8C1C17B}"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8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2CAB429-9DC8-4F59-8959-61B0C27992E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6637DC6-46EB-4A65-89E3-84280F7A2BA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703CA62-F22B-4CDB-8D77-2E501F0CB2F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78F7F30-B588-420A-B333-40504C0FB95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7063438-7C8C-4C1E-A0BB-68944D9A598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8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195FEC6-0D6B-4E9A-B9EA-8ED5F4D1FC7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A1047FC-F5B3-4345-B4DB-4300916229D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02FEB4F-5B31-4D12-9101-3954F239D11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D841F16-6F11-4F98-AA70-DE2C5DE56F3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0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79448B4-49C0-403C-9D0A-BA4A7DA8B26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FF48DBF3-BCFD-45CF-84BD-F172BE2469B6}"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0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3037195A-4BD7-4B6E-92D8-2F84CB9D7A44}"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2F2E10ED-59B3-412D-BC20-1E3DF83F23B5}"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DC68B08-FFFE-4D03-BD7F-481F6260717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688FFAC-EA27-447C-B56E-BCC61BBB427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FE87506-E0A8-4D51-9D7F-203A18A9867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D11C2C1D-AF15-4D39-A735-1928F598D76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D12947F-99E0-4E5E-B867-2E02649EF6F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F1BBC8E-FC90-4023-A4FB-4304956016D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A389DD4-6237-470A-8A82-8AA79DAE469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D65DA0B-F89A-49AB-9A38-63C8B290794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3D1EAB8-8122-4027-B8F5-94E6A015396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29CFA94-D2F9-4198-BD41-34CF815F099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90E3A791-8728-49E9-B3D4-EDF959FFFD45}"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E0ECBFFB-B599-4CF0-B395-659353B29C9B}"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1AA83086-6D65-43CD-BB17-F65BCC047665}"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3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3CB3384A-0D05-41A5-90B9-F73A4B26590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143EAE16-A4F7-4249-B50E-BF9F3FC5F5C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3C55E84-D1DF-4BB2-A4FA-A17B68D9CF2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EB65B1C-1841-49EF-A114-14D7502C942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42492671-56C2-4AFF-8508-0DA0746BEC4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18809E10-9DCF-47C3-BA4D-9BB139E3BD77}"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9583E4A-3D7A-42D8-A18E-263D14B1C18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58EEB25-43C0-498A-8ADC-3C7CBAE15D7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B095794-12B0-4954-847A-7934F1B2A61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6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F882A600-4BCB-4969-A211-8E05AE22C52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84F04C7B-FFF8-4715-B0F4-DB18C88D6594}"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6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56F0B263-AEC0-42B1-84D8-52D86385E1A2}"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027BABD2-06B4-434F-9701-F76DB824228D}"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C317D34-62CC-4DBE-BCF9-98FBCD8F385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8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E87AC398-9805-4561-9FF8-62F66E07C9C5}"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2239612-7279-4A7D-9CFD-32E26C0C6B6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2F93305-3300-4296-8FA6-2D84A2A5E87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A998FA8-2538-43F9-BD96-459BE709E447}"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A81FB7B6-1A13-4470-A763-57C0E65D5503}"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687346D-B557-42D4-84A1-E9D449D4F7A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6C08EBC-73F5-4098-AFB7-2CE16A38AAD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8FF2CA3-F84C-414E-8546-C44674CCAC0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1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0479DCF2-DB37-42AD-9CFB-08D082434B6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EBC9424B-DE4C-4010-93E4-C102194D33C9}"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7008B-58F8-4FCA-808F-0E238F901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0CB8AFA-9F9C-4079-8115-C6D8AB49D7C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1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348816E8-6D1C-4D9C-B857-0F07A3A087B4}"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86BA4CDD-0234-485A-BA38-62688A739B81}"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3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942A3BAE-4FAE-464E-836E-4D35CE5185C3}"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3FF7D06-2FE4-43E7-971C-846739045312}"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8FC806C8-F211-40E7-ABF9-A2EE5ABFFBEA}"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8D82104D-2CB6-4E53-9CAD-26B7734202CE}"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794AD355-CA37-405D-8AAC-48206CA91A4E}"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B977058-5DCA-4DE9-8315-D9E37435B2F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7D9249B-77C6-44A8-AC79-B9B91E571C0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2D9F4B6-3769-48FF-A2CD-82D7346CCA1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CDDDBFC-B82B-41B8-AEB0-F9BB7ED4A87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5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B61F8130-1FE4-48A0-B4A5-024AF16E0E55}"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68839D8E-DD85-4639-92DA-5AF2EE453BEE}"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6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F747A71D-D039-4F2F-9138-B0CAD1E9EC9E}"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890FC3DC-4015-4B1F-A746-504BA669573E}"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B003B8E8-654C-495A-9D2A-2ABD0534D45D}"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6FB9B198-ACFF-45AB-9DBD-4B5C28AB61B5}"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D3E09273-4658-4614-9A57-387188664B28}"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8D46DDD6-E3F5-4525-A4A8-89AA390036C1}"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C8BA7E8D-C69E-493E-8693-386CA4E20419}"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F03D956-9B37-4A08-9959-6A1A13712C9F}"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9864B65-A199-444E-8CD8-163ACA2ACC1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72B79DA4-335F-4601-897E-4A28CFFB013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7BEAA96-C8DB-4102-B782-D2E8874CAF8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A6B730BB-EF3B-4799-A0B4-F479D4E2E39E}"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91E66826-9E93-46A4-B5C3-77AB26903122}"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B4CDED4B-725D-4D51-BB20-FB3FFB869B90}"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58A048EF-4626-4D93-AB0C-EEADABA3F974}"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8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4A111D81-9EBF-42D6-B413-7A866F44B361}"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EC6866B9-EE61-4DD7-A6DF-2D70F927BCAF}"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C13E36F9-50D9-4863-8C9F-E978FB7E17EA}"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3B20D533-09B4-4A8B-8BD8-D0DAA6A01F6F}"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C17E4E7-EDB9-4AFA-B2AA-38E623CD348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FB723710-56C2-4D0B-B932-BB5972EF8A7F}"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A2B06A4-6E5C-48D3-AED4-A7F03FBB3BD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6F49B9B6-0FC3-41BC-8D4E-5061FACACDC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C142F4D-D80C-43E1-A362-CBD9E015C785}"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0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D3B50278-900B-4E45-BEA4-F62C74A2BFBD}"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BDF4434D-4633-4931-8900-6273FD73B101}"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1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BE2BC47D-6D99-432A-ADF4-E37985C7FBDB}"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119B7A40-3A4D-4B00-8BDE-AF8F6426EBA7}"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3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50F1F26D-E832-4B43-BB28-BA5F0A303810}"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46901E10-5E09-4660-B2F0-3580CFCAC095}"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6990C68-66FF-4331-B3E5-AA76A7B942F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362D3A6E-7607-4FD8-9C68-51918F0F6CC0}"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338689B9-D24E-4855-8268-84BAE37B644B}"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9215E8F9-BD2A-4549-8A70-1156A212C429}"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EAFC20F-1BA1-44F7-8F50-F1414BAA8CF4}"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2DF0B46-A920-4C3B-A366-6DD61979D812}"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FDEEE22-2D29-4419-8A7D-72AC3C38F14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5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5B6A3566-4CF9-4296-8CEA-F3BDF2DF9007}"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D6397417-25C3-4D9B-B330-39966D52050C}"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6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3F628909-E03D-4C29-90A8-E2E51B013514}"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56A46A32-D9B8-470E-A370-D8155AE417F1}"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FC44EBF-C2B5-4D40-8272-7867221D9E0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7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B93D263F-91F8-42CC-89A6-D2D7ED4EC0DA}"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5AB83CA3-65E3-41D4-B086-B60C3F9A030B}"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E68DCD4D-13D8-4373-B49B-82DE77D526E7}"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FB08B9F7-0726-4F09-811C-EC13BFEF72C5}"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20ED2D2D-C785-4467-A1A6-7C749E1EFA26}"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96CC50EB-1AB6-4481-8D29-F9CAC26254A9}"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0679743-CF6E-46C4-9651-1F862E8AE128}"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C1CBAB22-7D6B-4760-AE5D-31B841DA0B57}"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9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D2C67CA2-4C4A-4928-B4C9-28223DB5441B}"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465DCA47-6C70-4CE9-ADBB-DBD828B525D6}"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6367ABA-512C-48DF-B931-76C7909B6EB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0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BCAE666E-85E3-4B55-B71A-778ABC2B95FF}"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6B17B8-93EE-4B67-ACF0-172FF1539F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A3A38F-046F-450B-BEE6-2D97494C26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12744A-FC5F-48B7-B6AD-22EC61A368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C3201-7220-43E8-B94F-EE0BB4033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D8FAD0-5635-46D5-AFA9-591779920B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475403-0612-4C40-95CD-DCA48BA725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BC1820-A6E3-48C1-989D-57D8C57953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14A34E-0D84-4D0C-B4D5-71527E10B5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AA8C4F-DA1A-484F-B785-16AA7CFBAD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1B1AE4-EC73-49A5-A40B-D6CCF8BFD1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E98C56-9BB3-41A0-BC80-DBF9CDEFCA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8594CC-F039-47D2-98C2-53CB667DE1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2354CA-47B2-4DE1-997C-76B9802494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D9E140-4F49-4FFD-821D-8BCC0FF066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5C5E2-303F-47DC-BB7C-462EE751F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8AD7D0-097A-45BF-BB74-491F70B015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CF6EC8-8537-4139-A497-AC8321B3DD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314BDC-0695-4B92-B04D-A3D40626EF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D592BF-E08B-42B6-AE9B-B32B547CF7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99D4CC-4929-432E-A7D7-7D189D57B3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51B33D-1436-428D-BD85-8C65C0D4A5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1ED1C2-9C48-49FF-BEDF-FC7C2488CE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37FAF4-49F1-4696-976A-76535BB2D0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635241-7093-4928-8B75-043113B1AA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F438DD-8E73-49F2-A1D5-B339B07410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952F6-55B1-4662-B384-90CB72ABD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17A7B8-FDF0-4114-8C10-6E10181BED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204EA1-B1E3-4B00-B111-8B138CCDEC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DFF309-8065-4341-857C-A2D9709BAE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ED3D26-E821-447F-B376-C740FF67D3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28359B-0D73-4DB2-B27C-7074C5A8B4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0FC30E-9A45-4B9E-8250-B469562963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E2FD9C-23D9-4891-BF1B-1266720BF7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795A5A-C8D5-424B-AE49-8E19D0A846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0215D2-A220-4FB5-BF16-1FCE8A3127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B85337-82F8-4372-BA0B-1795FF05E0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187A7-69DA-4259-8130-EBC8F8B08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326221-3951-46FF-8819-2E816DBC3B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D240F8A-BB83-46EE-9E76-7B370E5689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89CFCB-E3BF-4F04-87BC-8054BE8C46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832E35-9FD1-4A71-8479-725BC20152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DA15F1-F672-4C43-8ED1-C14F570E95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0C3663-F8BD-4BEF-8EEC-C75CC1F940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F5F436-2521-472D-A904-59B74E70AA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1CAAEB-9720-44FB-A1B6-F4854162EC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E52732-5555-4A30-BF31-D52C0E5D4B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D54AE9-FDCB-466D-B7E6-D9E9957CF2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07B02-6AD5-49E4-AF44-C13210A98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1763E1-B869-4B2C-B37F-F7068C0D9A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679510-B101-49E1-BCFC-328EDB8F91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205FEE-6DFA-4254-B0B6-1180A15094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1AE2B07-3C9E-474E-9D65-1B914DBB05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DAB44E5-0EDE-4F7B-BFB9-F0CA3A0CE8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D84B02B-974B-49D9-A13A-79F79B027CA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0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22420B-6380-4BAE-9875-5DD95C1BF1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F29636-AC4B-4341-9F6A-65308F619F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DBBB5C-C3FE-43A1-B8A5-4EF40FAC74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1CA692-D91B-4A9F-87B4-CE126E784E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CA86C-9A5E-4BE0-AAAB-91B5E82B9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77665C-E7A2-4AE1-A277-55D58A984B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67C107-D5BE-49CE-BF47-B3D1D19094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A2E437-0206-470E-8945-C584CC89D8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8EF65D-FEC0-46BB-AEC3-216519518A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129807-7E5E-4BB3-8181-B964D60208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4FB214-8ADB-4F1A-8C03-2561F83B49E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5696B4-DEC8-460E-80FA-F322390D07D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0B5247B-B0E2-4D16-AE40-7428FBD3289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12DC16-3EE9-4567-8C4F-8855D17F13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124C9C-A2AF-4DA5-8F05-29C26516C20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265.xml"/><Relationship Id="rId8" Type="http://schemas.openxmlformats.org/officeDocument/2006/relationships/slideLayout" Target="../slideLayouts/slideLayout266.xml"/><Relationship Id="rId9" Type="http://schemas.openxmlformats.org/officeDocument/2006/relationships/slideLayout" Target="../slideLayouts/slideLayout267.xml"/><Relationship Id="rId10" Type="http://schemas.openxmlformats.org/officeDocument/2006/relationships/slideLayout" Target="../slideLayouts/slideLayout268.xml"/><Relationship Id="rId11" Type="http://schemas.openxmlformats.org/officeDocument/2006/relationships/slideLayout" Target="../slideLayouts/slideLayout269.xml"/><Relationship Id="rId12" Type="http://schemas.openxmlformats.org/officeDocument/2006/relationships/slideLayout" Target="../slideLayouts/slideLayout270.xml"/><Relationship Id="rId13" Type="http://schemas.openxmlformats.org/officeDocument/2006/relationships/slideLayout" Target="../slideLayouts/slideLayout271.xml"/><Relationship Id="rId14" Type="http://schemas.openxmlformats.org/officeDocument/2006/relationships/slideLayout" Target="../slideLayouts/slideLayout272.xml"/><Relationship Id="rId15" Type="http://schemas.openxmlformats.org/officeDocument/2006/relationships/slideLayout" Target="../slideLayouts/slideLayout273.xml"/><Relationship Id="rId16" Type="http://schemas.openxmlformats.org/officeDocument/2006/relationships/slideLayout" Target="../slideLayouts/slideLayout274.xml"/><Relationship Id="rId17" Type="http://schemas.openxmlformats.org/officeDocument/2006/relationships/slideLayout" Target="../slideLayouts/slideLayout275.xml"/><Relationship Id="rId18"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BCC7F-C2EC-4489-B228-6DC8D5B1ABE8}"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785" name="PlaceHolder 2"/>
          <p:cNvSpPr>
            <a:spLocks noGrp="1"/>
          </p:cNvSpPr>
          <p:nvPr>
            <p:ph type="dt" idx="28"/>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86" name="PlaceHolder 3"/>
          <p:cNvSpPr>
            <a:spLocks noGrp="1"/>
          </p:cNvSpPr>
          <p:nvPr>
            <p:ph type="ftr" idx="29"/>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87" name="PlaceHolder 4"/>
          <p:cNvSpPr>
            <a:spLocks noGrp="1"/>
          </p:cNvSpPr>
          <p:nvPr>
            <p:ph type="sldNum" idx="30"/>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C3B43-A09C-40DD-82F6-AEDF7BA7B0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24" name=""/>
          <p:cNvGrpSpPr/>
          <p:nvPr/>
        </p:nvGrpSpPr>
        <p:grpSpPr>
          <a:xfrm>
            <a:off x="0" y="0"/>
            <a:ext cx="9144000" cy="6856560"/>
            <a:chOff x="0" y="0"/>
            <a:chExt cx="9144000" cy="6856560"/>
          </a:xfrm>
        </p:grpSpPr>
        <p:sp>
          <p:nvSpPr>
            <p:cNvPr id="825"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30"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46"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853"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61" name=""/>
            <p:cNvGrpSpPr/>
            <p:nvPr/>
          </p:nvGrpSpPr>
          <p:grpSpPr>
            <a:xfrm>
              <a:off x="0" y="2590920"/>
              <a:ext cx="9140760" cy="2949480"/>
              <a:chOff x="0" y="2590920"/>
              <a:chExt cx="9140760" cy="2949480"/>
            </a:xfrm>
          </p:grpSpPr>
          <p:sp>
            <p:nvSpPr>
              <p:cNvPr id="862"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8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6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66" name="PlaceHolder 3"/>
          <p:cNvSpPr>
            <a:spLocks noGrp="1"/>
          </p:cNvSpPr>
          <p:nvPr>
            <p:ph type="dt" idx="3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67"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68" name="PlaceHolder 5"/>
          <p:cNvSpPr>
            <a:spLocks noGrp="1"/>
          </p:cNvSpPr>
          <p:nvPr>
            <p:ph type="sldNum" idx="3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58BC6-61DC-41BD-B628-8E5F1B70BBC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905" name=""/>
          <p:cNvGrpSpPr/>
          <p:nvPr/>
        </p:nvGrpSpPr>
        <p:grpSpPr>
          <a:xfrm>
            <a:off x="0" y="0"/>
            <a:ext cx="9144000" cy="6856560"/>
            <a:chOff x="0" y="0"/>
            <a:chExt cx="9144000" cy="6856560"/>
          </a:xfrm>
        </p:grpSpPr>
        <p:sp>
          <p:nvSpPr>
            <p:cNvPr id="906"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11"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8"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9"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0"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1"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2"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3"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4"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5"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6"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27"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8"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9"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0"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2"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3"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34"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1"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42" name=""/>
            <p:cNvGrpSpPr/>
            <p:nvPr/>
          </p:nvGrpSpPr>
          <p:grpSpPr>
            <a:xfrm>
              <a:off x="0" y="2590920"/>
              <a:ext cx="9140760" cy="2949480"/>
              <a:chOff x="0" y="2590920"/>
              <a:chExt cx="9140760" cy="2949480"/>
            </a:xfrm>
          </p:grpSpPr>
          <p:sp>
            <p:nvSpPr>
              <p:cNvPr id="943"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4"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94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946" name="PlaceHolder 2"/>
          <p:cNvSpPr>
            <a:spLocks noGrp="1"/>
          </p:cNvSpPr>
          <p:nvPr>
            <p:ph type="dt" idx="3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947"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948" name="PlaceHolder 4"/>
          <p:cNvSpPr>
            <a:spLocks noGrp="1"/>
          </p:cNvSpPr>
          <p:nvPr>
            <p:ph type="sldNum" idx="3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83AFA-152C-40CB-8F5E-908E26C8E64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985"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86" name=""/>
          <p:cNvGrpSpPr/>
          <p:nvPr/>
        </p:nvGrpSpPr>
        <p:grpSpPr>
          <a:xfrm>
            <a:off x="3240" y="4267080"/>
            <a:ext cx="9140760" cy="2590920"/>
            <a:chOff x="3240" y="4267080"/>
            <a:chExt cx="9140760" cy="2590920"/>
          </a:xfrm>
        </p:grpSpPr>
        <p:sp>
          <p:nvSpPr>
            <p:cNvPr id="98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88" name=""/>
            <p:cNvGrpSpPr/>
            <p:nvPr/>
          </p:nvGrpSpPr>
          <p:grpSpPr>
            <a:xfrm>
              <a:off x="5600880" y="5897520"/>
              <a:ext cx="1256760" cy="827280"/>
              <a:chOff x="5600880" y="5897520"/>
              <a:chExt cx="1256760" cy="827280"/>
            </a:xfrm>
          </p:grpSpPr>
          <p:sp>
            <p:nvSpPr>
              <p:cNvPr id="98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99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000" name=""/>
            <p:cNvGrpSpPr/>
            <p:nvPr/>
          </p:nvGrpSpPr>
          <p:grpSpPr>
            <a:xfrm>
              <a:off x="2819520" y="5764320"/>
              <a:ext cx="2581200" cy="1084320"/>
              <a:chOff x="2819520" y="5764320"/>
              <a:chExt cx="2581200" cy="1084320"/>
            </a:xfrm>
          </p:grpSpPr>
          <p:sp>
            <p:nvSpPr>
              <p:cNvPr id="100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00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19" name=""/>
            <p:cNvGrpSpPr/>
            <p:nvPr/>
          </p:nvGrpSpPr>
          <p:grpSpPr>
            <a:xfrm>
              <a:off x="6553080" y="5334120"/>
              <a:ext cx="2144880" cy="1303200"/>
              <a:chOff x="6553080" y="5334120"/>
              <a:chExt cx="2144880" cy="1303200"/>
            </a:xfrm>
          </p:grpSpPr>
          <p:sp>
            <p:nvSpPr>
              <p:cNvPr id="102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2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03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037" name=""/>
            <p:cNvGrpSpPr/>
            <p:nvPr/>
          </p:nvGrpSpPr>
          <p:grpSpPr>
            <a:xfrm>
              <a:off x="8381880" y="4800600"/>
              <a:ext cx="674640" cy="409680"/>
              <a:chOff x="8381880" y="4800600"/>
              <a:chExt cx="674640" cy="409680"/>
            </a:xfrm>
          </p:grpSpPr>
          <p:sp>
            <p:nvSpPr>
              <p:cNvPr id="103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4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04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45" name=""/>
              <p:cNvGrpSpPr/>
              <p:nvPr/>
            </p:nvGrpSpPr>
            <p:grpSpPr>
              <a:xfrm>
                <a:off x="8542440" y="4897440"/>
                <a:ext cx="360360" cy="209520"/>
                <a:chOff x="8542440" y="4897440"/>
                <a:chExt cx="360360" cy="209520"/>
              </a:xfrm>
            </p:grpSpPr>
            <p:sp>
              <p:nvSpPr>
                <p:cNvPr id="104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4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0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0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52"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53"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54"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74160-BF1B-45AE-9385-48E4DE7420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91" name=""/>
          <p:cNvGrpSpPr/>
          <p:nvPr/>
        </p:nvGrpSpPr>
        <p:grpSpPr>
          <a:xfrm>
            <a:off x="3240" y="4267080"/>
            <a:ext cx="9140760" cy="2590920"/>
            <a:chOff x="3240" y="4267080"/>
            <a:chExt cx="9140760" cy="2590920"/>
          </a:xfrm>
        </p:grpSpPr>
        <p:sp>
          <p:nvSpPr>
            <p:cNvPr id="109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93" name=""/>
            <p:cNvGrpSpPr/>
            <p:nvPr/>
          </p:nvGrpSpPr>
          <p:grpSpPr>
            <a:xfrm>
              <a:off x="5600880" y="5897520"/>
              <a:ext cx="1256760" cy="827280"/>
              <a:chOff x="5600880" y="5897520"/>
              <a:chExt cx="1256760" cy="827280"/>
            </a:xfrm>
          </p:grpSpPr>
          <p:sp>
            <p:nvSpPr>
              <p:cNvPr id="109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0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105" name=""/>
            <p:cNvGrpSpPr/>
            <p:nvPr/>
          </p:nvGrpSpPr>
          <p:grpSpPr>
            <a:xfrm>
              <a:off x="2819520" y="5764320"/>
              <a:ext cx="2581200" cy="1084320"/>
              <a:chOff x="2819520" y="5764320"/>
              <a:chExt cx="2581200" cy="1084320"/>
            </a:xfrm>
          </p:grpSpPr>
          <p:sp>
            <p:nvSpPr>
              <p:cNvPr id="110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11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24" name=""/>
            <p:cNvGrpSpPr/>
            <p:nvPr/>
          </p:nvGrpSpPr>
          <p:grpSpPr>
            <a:xfrm>
              <a:off x="6553080" y="5334120"/>
              <a:ext cx="2144880" cy="1303200"/>
              <a:chOff x="6553080" y="5334120"/>
              <a:chExt cx="2144880" cy="1303200"/>
            </a:xfrm>
          </p:grpSpPr>
          <p:sp>
            <p:nvSpPr>
              <p:cNvPr id="112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12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13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142" name=""/>
            <p:cNvGrpSpPr/>
            <p:nvPr/>
          </p:nvGrpSpPr>
          <p:grpSpPr>
            <a:xfrm>
              <a:off x="8381880" y="4800600"/>
              <a:ext cx="674640" cy="409680"/>
              <a:chOff x="8381880" y="4800600"/>
              <a:chExt cx="674640" cy="409680"/>
            </a:xfrm>
          </p:grpSpPr>
          <p:sp>
            <p:nvSpPr>
              <p:cNvPr id="114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14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4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50" name=""/>
              <p:cNvGrpSpPr/>
              <p:nvPr/>
            </p:nvGrpSpPr>
            <p:grpSpPr>
              <a:xfrm>
                <a:off x="8542440" y="4897440"/>
                <a:ext cx="360360" cy="209520"/>
                <a:chOff x="8542440" y="4897440"/>
                <a:chExt cx="360360" cy="209520"/>
              </a:xfrm>
            </p:grpSpPr>
            <p:sp>
              <p:nvSpPr>
                <p:cNvPr id="115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15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56" name="PlaceHolder 2"/>
          <p:cNvSpPr>
            <a:spLocks noGrp="1"/>
          </p:cNvSpPr>
          <p:nvPr>
            <p:ph type="dt" idx="4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57" name="PlaceHolder 3"/>
          <p:cNvSpPr>
            <a:spLocks noGrp="1"/>
          </p:cNvSpPr>
          <p:nvPr>
            <p:ph type="ftr" idx="4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58" name="PlaceHolder 4"/>
          <p:cNvSpPr>
            <a:spLocks noGrp="1"/>
          </p:cNvSpPr>
          <p:nvPr>
            <p:ph type="sldNum" idx="4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B7616-AA63-4D3A-B425-B63F21EADF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195" name=""/>
          <p:cNvGrpSpPr/>
          <p:nvPr/>
        </p:nvGrpSpPr>
        <p:grpSpPr>
          <a:xfrm>
            <a:off x="0" y="0"/>
            <a:ext cx="9144000" cy="6934320"/>
            <a:chOff x="0" y="0"/>
            <a:chExt cx="9144000" cy="6934320"/>
          </a:xfrm>
        </p:grpSpPr>
        <p:sp>
          <p:nvSpPr>
            <p:cNvPr id="1196"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7"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8"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9"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0"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1"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2"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3"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4"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5"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06"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07"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8"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9"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0"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1"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2"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3"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21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16"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17"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18"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44A00-7B5A-440F-A1C9-CAC38933FC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255" name=""/>
          <p:cNvGrpSpPr/>
          <p:nvPr/>
        </p:nvGrpSpPr>
        <p:grpSpPr>
          <a:xfrm>
            <a:off x="0" y="0"/>
            <a:ext cx="9144000" cy="6934320"/>
            <a:chOff x="0" y="0"/>
            <a:chExt cx="9144000" cy="6934320"/>
          </a:xfrm>
        </p:grpSpPr>
        <p:sp>
          <p:nvSpPr>
            <p:cNvPr id="1256"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66"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67"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9"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0"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1"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2"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3"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7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1275" name="PlaceHolder 2"/>
          <p:cNvSpPr>
            <a:spLocks noGrp="1"/>
          </p:cNvSpPr>
          <p:nvPr>
            <p:ph type="dt" idx="4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76"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7" name="PlaceHolder 4"/>
          <p:cNvSpPr>
            <a:spLocks noGrp="1"/>
          </p:cNvSpPr>
          <p:nvPr>
            <p:ph type="sldNum" idx="4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5725C-1282-430B-9A2D-80DE3391EE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314" name=""/>
          <p:cNvGrpSpPr/>
          <p:nvPr/>
        </p:nvGrpSpPr>
        <p:grpSpPr>
          <a:xfrm>
            <a:off x="0" y="3902040"/>
            <a:ext cx="3400560" cy="2949480"/>
            <a:chOff x="0" y="3902040"/>
            <a:chExt cx="3400560" cy="2949480"/>
          </a:xfrm>
        </p:grpSpPr>
        <p:sp>
          <p:nvSpPr>
            <p:cNvPr id="1315"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7"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3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24" name="PlaceHolder 3"/>
          <p:cNvSpPr>
            <a:spLocks noGrp="1"/>
          </p:cNvSpPr>
          <p:nvPr>
            <p:ph type="dt" idx="49"/>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325"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326" name="PlaceHolder 5"/>
          <p:cNvSpPr>
            <a:spLocks noGrp="1"/>
          </p:cNvSpPr>
          <p:nvPr>
            <p:ph type="sldNum" idx="51"/>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5DBFD-764E-42B1-9582-FFF410F324B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363" name=""/>
          <p:cNvGrpSpPr/>
          <p:nvPr/>
        </p:nvGrpSpPr>
        <p:grpSpPr>
          <a:xfrm>
            <a:off x="0" y="3902040"/>
            <a:ext cx="3400560" cy="2949480"/>
            <a:chOff x="0" y="3902040"/>
            <a:chExt cx="3400560" cy="2949480"/>
          </a:xfrm>
        </p:grpSpPr>
        <p:sp>
          <p:nvSpPr>
            <p:cNvPr id="1364"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5"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6"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7"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8"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9"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0"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71"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1372" name="PlaceHolder 2"/>
          <p:cNvSpPr>
            <a:spLocks noGrp="1"/>
          </p:cNvSpPr>
          <p:nvPr>
            <p:ph type="dt" idx="52"/>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373" name="PlaceHolder 3"/>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374" name="PlaceHolder 4"/>
          <p:cNvSpPr>
            <a:spLocks noGrp="1"/>
          </p:cNvSpPr>
          <p:nvPr>
            <p:ph type="sldNum" idx="54"/>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1E08D-F8CA-4424-8EBC-93E3F6A9B8B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411" name=""/>
          <p:cNvGrpSpPr/>
          <p:nvPr/>
        </p:nvGrpSpPr>
        <p:grpSpPr>
          <a:xfrm>
            <a:off x="0" y="0"/>
            <a:ext cx="9144000" cy="6858000"/>
            <a:chOff x="0" y="0"/>
            <a:chExt cx="9144000" cy="6858000"/>
          </a:xfrm>
        </p:grpSpPr>
        <p:sp>
          <p:nvSpPr>
            <p:cNvPr id="1412"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14"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15" name=""/>
          <p:cNvGrpSpPr/>
          <p:nvPr/>
        </p:nvGrpSpPr>
        <p:grpSpPr>
          <a:xfrm>
            <a:off x="0" y="6019920"/>
            <a:ext cx="7848720" cy="857160"/>
            <a:chOff x="0" y="6019920"/>
            <a:chExt cx="7848720" cy="857160"/>
          </a:xfrm>
        </p:grpSpPr>
        <p:sp>
          <p:nvSpPr>
            <p:cNvPr id="1416"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17" name=""/>
            <p:cNvGrpSpPr/>
            <p:nvPr/>
          </p:nvGrpSpPr>
          <p:grpSpPr>
            <a:xfrm>
              <a:off x="3946680" y="6019920"/>
              <a:ext cx="3902040" cy="857160"/>
              <a:chOff x="3946680" y="6019920"/>
              <a:chExt cx="3902040" cy="857160"/>
            </a:xfrm>
          </p:grpSpPr>
          <p:sp>
            <p:nvSpPr>
              <p:cNvPr id="1418"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9"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0"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1"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2"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23"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24" name=""/>
          <p:cNvGrpSpPr/>
          <p:nvPr/>
        </p:nvGrpSpPr>
        <p:grpSpPr>
          <a:xfrm>
            <a:off x="627120" y="6021360"/>
            <a:ext cx="5684760" cy="849240"/>
            <a:chOff x="627120" y="6021360"/>
            <a:chExt cx="5684760" cy="849240"/>
          </a:xfrm>
        </p:grpSpPr>
        <p:sp>
          <p:nvSpPr>
            <p:cNvPr id="142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43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33" name="PlaceHolder 3"/>
          <p:cNvSpPr>
            <a:spLocks noGrp="1"/>
          </p:cNvSpPr>
          <p:nvPr>
            <p:ph type="dt" idx="55"/>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434"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435" name="PlaceHolder 5"/>
          <p:cNvSpPr>
            <a:spLocks noGrp="1"/>
          </p:cNvSpPr>
          <p:nvPr>
            <p:ph type="sldNum" idx="57"/>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8BC59-40D2-4453-8B9F-9C3D5B46519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0C1DD-F77C-444B-8295-F57C841C2F39}"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472" name=""/>
          <p:cNvGrpSpPr/>
          <p:nvPr/>
        </p:nvGrpSpPr>
        <p:grpSpPr>
          <a:xfrm>
            <a:off x="-6480" y="20520"/>
            <a:ext cx="9144000" cy="6858000"/>
            <a:chOff x="-6480" y="20520"/>
            <a:chExt cx="9144000" cy="6858000"/>
          </a:xfrm>
        </p:grpSpPr>
        <p:sp>
          <p:nvSpPr>
            <p:cNvPr id="147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7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76" name=""/>
          <p:cNvGrpSpPr/>
          <p:nvPr/>
        </p:nvGrpSpPr>
        <p:grpSpPr>
          <a:xfrm>
            <a:off x="-1440" y="6033960"/>
            <a:ext cx="7844400" cy="850680"/>
            <a:chOff x="-1440" y="6033960"/>
            <a:chExt cx="7844400" cy="850680"/>
          </a:xfrm>
        </p:grpSpPr>
        <p:sp>
          <p:nvSpPr>
            <p:cNvPr id="147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78" name=""/>
            <p:cNvGrpSpPr/>
            <p:nvPr/>
          </p:nvGrpSpPr>
          <p:grpSpPr>
            <a:xfrm>
              <a:off x="3944880" y="6033960"/>
              <a:ext cx="3898080" cy="850680"/>
              <a:chOff x="3944880" y="6033960"/>
              <a:chExt cx="3898080" cy="850680"/>
            </a:xfrm>
          </p:grpSpPr>
          <p:sp>
            <p:nvSpPr>
              <p:cNvPr id="147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8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85" name=""/>
          <p:cNvGrpSpPr/>
          <p:nvPr/>
        </p:nvGrpSpPr>
        <p:grpSpPr>
          <a:xfrm>
            <a:off x="627120" y="6021360"/>
            <a:ext cx="5684760" cy="849240"/>
            <a:chOff x="627120" y="6021360"/>
            <a:chExt cx="5684760" cy="849240"/>
          </a:xfrm>
        </p:grpSpPr>
        <p:sp>
          <p:nvSpPr>
            <p:cNvPr id="148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9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493" name="PlaceHolder 2"/>
          <p:cNvSpPr>
            <a:spLocks noGrp="1"/>
          </p:cNvSpPr>
          <p:nvPr>
            <p:ph type="dt" idx="58"/>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494" name="PlaceHolder 3"/>
          <p:cNvSpPr>
            <a:spLocks noGrp="1"/>
          </p:cNvSpPr>
          <p:nvPr>
            <p:ph type="sldNum" idx="5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7BA8D-CC4E-467F-8F2A-26AC97BD589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95" name="PlaceHolder 4"/>
          <p:cNvSpPr>
            <a:spLocks noGrp="1"/>
          </p:cNvSpPr>
          <p:nvPr>
            <p:ph type="ftr" idx="60"/>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532" name=""/>
          <p:cNvGrpSpPr/>
          <p:nvPr/>
        </p:nvGrpSpPr>
        <p:grpSpPr>
          <a:xfrm>
            <a:off x="3600" y="1422360"/>
            <a:ext cx="9143640" cy="5435640"/>
            <a:chOff x="3600" y="1422360"/>
            <a:chExt cx="9143640" cy="5435640"/>
          </a:xfrm>
        </p:grpSpPr>
        <p:grpSp>
          <p:nvGrpSpPr>
            <p:cNvPr id="1533" name=""/>
            <p:cNvGrpSpPr/>
            <p:nvPr/>
          </p:nvGrpSpPr>
          <p:grpSpPr>
            <a:xfrm>
              <a:off x="31680" y="1422360"/>
              <a:ext cx="9115560" cy="5435640"/>
              <a:chOff x="31680" y="1422360"/>
              <a:chExt cx="9115560" cy="5435640"/>
            </a:xfrm>
          </p:grpSpPr>
          <p:sp>
            <p:nvSpPr>
              <p:cNvPr id="153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3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3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3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3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3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4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4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4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4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4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4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4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47" name=""/>
            <p:cNvGrpSpPr/>
            <p:nvPr/>
          </p:nvGrpSpPr>
          <p:grpSpPr>
            <a:xfrm>
              <a:off x="3600" y="3639960"/>
              <a:ext cx="2193840" cy="2694240"/>
              <a:chOff x="3600" y="3639960"/>
              <a:chExt cx="2193840" cy="2694240"/>
            </a:xfrm>
          </p:grpSpPr>
          <p:sp>
            <p:nvSpPr>
              <p:cNvPr id="154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4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5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5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5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6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6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6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6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6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6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6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6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6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6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7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7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7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7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7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7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7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7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7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7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8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8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8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8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8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8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8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8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8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8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9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9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9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9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9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9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9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9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9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9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0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0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0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0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0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0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0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0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0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0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1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1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1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1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1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1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1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1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1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2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3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67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67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7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8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6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684" name="PlaceHolder 2"/>
          <p:cNvSpPr>
            <a:spLocks noGrp="1"/>
          </p:cNvSpPr>
          <p:nvPr>
            <p:ph type="dt" idx="6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685" name="PlaceHolder 3"/>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686" name="PlaceHolder 4"/>
          <p:cNvSpPr>
            <a:spLocks noGrp="1"/>
          </p:cNvSpPr>
          <p:nvPr>
            <p:ph type="sldNum" idx="6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BB2C8-24E8-46F0-A6FF-1555A501711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687"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724" name=""/>
          <p:cNvGrpSpPr/>
          <p:nvPr/>
        </p:nvGrpSpPr>
        <p:grpSpPr>
          <a:xfrm>
            <a:off x="3600" y="1422360"/>
            <a:ext cx="9143640" cy="5435640"/>
            <a:chOff x="3600" y="1422360"/>
            <a:chExt cx="9143640" cy="5435640"/>
          </a:xfrm>
        </p:grpSpPr>
        <p:grpSp>
          <p:nvGrpSpPr>
            <p:cNvPr id="1725" name=""/>
            <p:cNvGrpSpPr/>
            <p:nvPr/>
          </p:nvGrpSpPr>
          <p:grpSpPr>
            <a:xfrm>
              <a:off x="31680" y="1422360"/>
              <a:ext cx="9115560" cy="5435640"/>
              <a:chOff x="31680" y="1422360"/>
              <a:chExt cx="9115560" cy="5435640"/>
            </a:xfrm>
          </p:grpSpPr>
          <p:sp>
            <p:nvSpPr>
              <p:cNvPr id="1726"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27"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28"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29"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30"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31"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32"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33"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34"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35"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36"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37"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38"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739" name=""/>
            <p:cNvGrpSpPr/>
            <p:nvPr/>
          </p:nvGrpSpPr>
          <p:grpSpPr>
            <a:xfrm>
              <a:off x="3600" y="3639960"/>
              <a:ext cx="2193840" cy="2694240"/>
              <a:chOff x="3600" y="3639960"/>
              <a:chExt cx="2193840" cy="2694240"/>
            </a:xfrm>
          </p:grpSpPr>
          <p:sp>
            <p:nvSpPr>
              <p:cNvPr id="1740"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41"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42"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43"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44"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45"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46"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47"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48"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49"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50"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51"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52"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53"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54"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55"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56"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57"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58"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59"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60"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61"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62"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63"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64"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65"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66"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67"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68"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69"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70"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71"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72"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73"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74"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75"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76"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77"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78"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79"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80"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81"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82"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83"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84"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85"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86"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87"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88"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89"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90"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91"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92"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93"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94"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95"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96"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97"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98"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99"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00"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01"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02"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03"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4"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05"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06"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07"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08"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09"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10"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11"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12"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13"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814"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15"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16"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17"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18"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19"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20"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21"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22"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23"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24"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25"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26"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27"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28"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29"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830"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31"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32"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33"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34"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35"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36"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37"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38"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39"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40"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41"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42"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43"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44"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45"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46"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47"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48"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49"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50"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51"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52"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53"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54"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55"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56"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57"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58"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59"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60"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1"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2"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3"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867"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68"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870"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71"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3"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874"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87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1876" name="PlaceHolder 2"/>
          <p:cNvSpPr>
            <a:spLocks noGrp="1"/>
          </p:cNvSpPr>
          <p:nvPr>
            <p:ph type="dt" idx="6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1877" name="PlaceHolder 3"/>
          <p:cNvSpPr>
            <a:spLocks noGrp="1"/>
          </p:cNvSpPr>
          <p:nvPr>
            <p:ph type="ftr" idx="6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1878" name="PlaceHolder 4"/>
          <p:cNvSpPr>
            <a:spLocks noGrp="1"/>
          </p:cNvSpPr>
          <p:nvPr>
            <p:ph type="sldNum" idx="6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883D1-9CFC-4644-8737-04C7EF5C4A50}"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1915" name=""/>
          <p:cNvGrpSpPr/>
          <p:nvPr/>
        </p:nvGrpSpPr>
        <p:grpSpPr>
          <a:xfrm>
            <a:off x="0" y="0"/>
            <a:ext cx="9140760" cy="6851520"/>
            <a:chOff x="0" y="0"/>
            <a:chExt cx="9140760" cy="6851520"/>
          </a:xfrm>
        </p:grpSpPr>
        <p:sp>
          <p:nvSpPr>
            <p:cNvPr id="1916"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7"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8"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9"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0"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1"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2"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3"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4"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5"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6"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27"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1928" name=""/>
            <p:cNvGrpSpPr/>
            <p:nvPr/>
          </p:nvGrpSpPr>
          <p:grpSpPr>
            <a:xfrm>
              <a:off x="304920" y="3625920"/>
              <a:ext cx="1990440" cy="1465200"/>
              <a:chOff x="304920" y="3625920"/>
              <a:chExt cx="1990440" cy="1465200"/>
            </a:xfrm>
          </p:grpSpPr>
          <p:sp>
            <p:nvSpPr>
              <p:cNvPr id="1929"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930"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1"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5"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7"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8"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939"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940"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1"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2"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3"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944"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945"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6"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947"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8"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949"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0"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95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95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956" name="PlaceHolder 3"/>
          <p:cNvSpPr>
            <a:spLocks noGrp="1"/>
          </p:cNvSpPr>
          <p:nvPr>
            <p:ph type="dt" idx="6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1957" name="PlaceHolder 4"/>
          <p:cNvSpPr>
            <a:spLocks noGrp="1"/>
          </p:cNvSpPr>
          <p:nvPr>
            <p:ph type="ftr" idx="6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1958" name="PlaceHolder 5"/>
          <p:cNvSpPr>
            <a:spLocks noGrp="1"/>
          </p:cNvSpPr>
          <p:nvPr>
            <p:ph type="sldNum" idx="6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B6E64-0739-4AB2-880F-1C7FA1243D0D}"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7"/>
    <p:sldLayoutId id="2147483936" r:id="rId8"/>
    <p:sldLayoutId id="2147483937" r:id="rId9"/>
    <p:sldLayoutId id="2147483938" r:id="rId10"/>
    <p:sldLayoutId id="2147483939" r:id="rId11"/>
    <p:sldLayoutId id="2147483940" r:id="rId12"/>
    <p:sldLayoutId id="2147483941" r:id="rId13"/>
    <p:sldLayoutId id="2147483942" r:id="rId14"/>
    <p:sldLayoutId id="2147483943" r:id="rId15"/>
    <p:sldLayoutId id="2147483944" r:id="rId16"/>
    <p:sldLayoutId id="2147483945" r:id="rId17"/>
    <p:sldLayoutId id="2147483946" r:id="rId18"/>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1995" name=""/>
          <p:cNvGrpSpPr/>
          <p:nvPr/>
        </p:nvGrpSpPr>
        <p:grpSpPr>
          <a:xfrm>
            <a:off x="0" y="0"/>
            <a:ext cx="9140760" cy="6851520"/>
            <a:chOff x="0" y="0"/>
            <a:chExt cx="9140760" cy="6851520"/>
          </a:xfrm>
        </p:grpSpPr>
        <p:sp>
          <p:nvSpPr>
            <p:cNvPr id="1996"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7"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8"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9"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0"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1"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2"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3"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4"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5"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6"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07"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2008" name=""/>
            <p:cNvGrpSpPr/>
            <p:nvPr/>
          </p:nvGrpSpPr>
          <p:grpSpPr>
            <a:xfrm>
              <a:off x="304920" y="3625920"/>
              <a:ext cx="1990440" cy="1465200"/>
              <a:chOff x="304920" y="3625920"/>
              <a:chExt cx="1990440" cy="1465200"/>
            </a:xfrm>
          </p:grpSpPr>
          <p:sp>
            <p:nvSpPr>
              <p:cNvPr id="2009"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010"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1"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2"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6"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7"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8"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019"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020"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1"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2"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3"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024"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025"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6"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027"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8"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029"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0"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1"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2"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034"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2035" name="PlaceHolder 2"/>
          <p:cNvSpPr>
            <a:spLocks noGrp="1"/>
          </p:cNvSpPr>
          <p:nvPr>
            <p:ph type="dt" idx="7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2036" name="PlaceHolder 3"/>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2037" name="PlaceHolder 4"/>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2234A-6244-4CA0-A17E-C394B4E2A9E8}"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074" name=""/>
          <p:cNvGrpSpPr/>
          <p:nvPr/>
        </p:nvGrpSpPr>
        <p:grpSpPr>
          <a:xfrm>
            <a:off x="318960" y="1828800"/>
            <a:ext cx="8825040" cy="5029200"/>
            <a:chOff x="318960" y="1828800"/>
            <a:chExt cx="8825040" cy="5029200"/>
          </a:xfrm>
        </p:grpSpPr>
        <p:sp>
          <p:nvSpPr>
            <p:cNvPr id="2075"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6"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7"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8"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2079"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80"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81"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2082"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2083" name="PlaceHolder 1"/>
          <p:cNvSpPr>
            <a:spLocks noGrp="1"/>
          </p:cNvSpPr>
          <p:nvPr>
            <p:ph type="dt" idx="73"/>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84" name="PlaceHolder 2"/>
          <p:cNvSpPr>
            <a:spLocks noGrp="1"/>
          </p:cNvSpPr>
          <p:nvPr>
            <p:ph type="ftr" idx="74"/>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85" name="PlaceHolder 3"/>
          <p:cNvSpPr>
            <a:spLocks noGrp="1"/>
          </p:cNvSpPr>
          <p:nvPr>
            <p:ph type="sldNum" idx="75"/>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125D6-83EC-411B-A3A6-6900D15A9D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86"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2087"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124" name=""/>
          <p:cNvGrpSpPr/>
          <p:nvPr/>
        </p:nvGrpSpPr>
        <p:grpSpPr>
          <a:xfrm>
            <a:off x="318960" y="1752480"/>
            <a:ext cx="8825040" cy="5129280"/>
            <a:chOff x="318960" y="1752480"/>
            <a:chExt cx="8825040" cy="5129280"/>
          </a:xfrm>
        </p:grpSpPr>
        <p:sp>
          <p:nvSpPr>
            <p:cNvPr id="2125"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6"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7"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2128"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2129"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30"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213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2132" name="PlaceHolder 2"/>
          <p:cNvSpPr>
            <a:spLocks noGrp="1"/>
          </p:cNvSpPr>
          <p:nvPr>
            <p:ph type="dt" idx="76"/>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33" name="PlaceHolder 3"/>
          <p:cNvSpPr>
            <a:spLocks noGrp="1"/>
          </p:cNvSpPr>
          <p:nvPr>
            <p:ph type="ftr" idx="77"/>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34" name="PlaceHolder 4"/>
          <p:cNvSpPr>
            <a:spLocks noGrp="1"/>
          </p:cNvSpPr>
          <p:nvPr>
            <p:ph type="sldNum" idx="78"/>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0B0D4-2BE6-4190-936C-BE2D4B63F6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171" name=""/>
          <p:cNvGrpSpPr/>
          <p:nvPr/>
        </p:nvGrpSpPr>
        <p:grpSpPr>
          <a:xfrm>
            <a:off x="3800520" y="1789200"/>
            <a:ext cx="5348160" cy="5056200"/>
            <a:chOff x="3800520" y="1789200"/>
            <a:chExt cx="5348160" cy="5056200"/>
          </a:xfrm>
        </p:grpSpPr>
        <p:sp>
          <p:nvSpPr>
            <p:cNvPr id="2172"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3"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2174"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5"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6"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7"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8"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9"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0"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1"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2"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3"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4"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5"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6"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7"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8"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9"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0"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1"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2"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3"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4"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5"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6"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7"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8"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9"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0"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1"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2"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3"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204"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5"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220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208" name="PlaceHolder 3"/>
          <p:cNvSpPr>
            <a:spLocks noGrp="1"/>
          </p:cNvSpPr>
          <p:nvPr>
            <p:ph type="dt" idx="79"/>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209" name="PlaceHolder 4"/>
          <p:cNvSpPr>
            <a:spLocks noGrp="1"/>
          </p:cNvSpPr>
          <p:nvPr>
            <p:ph type="ftr" idx="80"/>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210" name="PlaceHolder 5"/>
          <p:cNvSpPr>
            <a:spLocks noGrp="1"/>
          </p:cNvSpPr>
          <p:nvPr>
            <p:ph type="sldNum" idx="81"/>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A31DF-FBE0-42EF-B878-C75E268F4A56}"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247" name=""/>
          <p:cNvGrpSpPr/>
          <p:nvPr/>
        </p:nvGrpSpPr>
        <p:grpSpPr>
          <a:xfrm>
            <a:off x="3800520" y="1789200"/>
            <a:ext cx="5348160" cy="5056200"/>
            <a:chOff x="3800520" y="1789200"/>
            <a:chExt cx="5348160" cy="5056200"/>
          </a:xfrm>
        </p:grpSpPr>
        <p:sp>
          <p:nvSpPr>
            <p:cNvPr id="2248"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9"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2250"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1"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2"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3"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4"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5"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6"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7"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8"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9"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0"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1"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2"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3"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4"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5"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6"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7"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8"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9"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0"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1"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2"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3"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4"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5"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6"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7"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8"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9"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280"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1"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82" name="PlaceHolder 1"/>
          <p:cNvSpPr>
            <a:spLocks noGrp="1"/>
          </p:cNvSpPr>
          <p:nvPr>
            <p:ph type="dt" idx="82"/>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283" name="PlaceHolder 2"/>
          <p:cNvSpPr>
            <a:spLocks noGrp="1"/>
          </p:cNvSpPr>
          <p:nvPr>
            <p:ph type="ftr" idx="83"/>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284"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2285" name="PlaceHolder 4"/>
          <p:cNvSpPr>
            <a:spLocks noGrp="1"/>
          </p:cNvSpPr>
          <p:nvPr>
            <p:ph type="sldNum" idx="84"/>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EDA0B-620F-4FBA-AE94-DBFCB77EFE78}"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2322" name=""/>
          <p:cNvGrpSpPr/>
          <p:nvPr/>
        </p:nvGrpSpPr>
        <p:grpSpPr>
          <a:xfrm>
            <a:off x="0" y="0"/>
            <a:ext cx="7242120" cy="1981080"/>
            <a:chOff x="0" y="0"/>
            <a:chExt cx="7242120" cy="1981080"/>
          </a:xfrm>
        </p:grpSpPr>
        <p:sp>
          <p:nvSpPr>
            <p:cNvPr id="2323"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4"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32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327" name="PlaceHolder 3"/>
          <p:cNvSpPr>
            <a:spLocks noGrp="1"/>
          </p:cNvSpPr>
          <p:nvPr>
            <p:ph type="dt" idx="85"/>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2328" name="PlaceHolder 4"/>
          <p:cNvSpPr>
            <a:spLocks noGrp="1"/>
          </p:cNvSpPr>
          <p:nvPr>
            <p:ph type="ftr" idx="8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2329" name="PlaceHolder 5"/>
          <p:cNvSpPr>
            <a:spLocks noGrp="1"/>
          </p:cNvSpPr>
          <p:nvPr>
            <p:ph type="sldNum" idx="8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15584-A314-4A8D-B178-4E39E208F0DF}"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55" name=""/>
          <p:cNvGrpSpPr/>
          <p:nvPr/>
        </p:nvGrpSpPr>
        <p:grpSpPr>
          <a:xfrm>
            <a:off x="0" y="0"/>
            <a:ext cx="9159840" cy="6858000"/>
            <a:chOff x="0" y="0"/>
            <a:chExt cx="9159840" cy="6858000"/>
          </a:xfrm>
        </p:grpSpPr>
        <p:sp>
          <p:nvSpPr>
            <p:cNvPr id="156"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7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79"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80" name="PlaceHolder 4"/>
          <p:cNvSpPr>
            <a:spLocks noGrp="1"/>
          </p:cNvSpPr>
          <p:nvPr>
            <p:ph type="sldNum" idx="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599B5-DE50-4303-8107-105C7CEE1638}"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181" name="PlaceHolder 5"/>
          <p:cNvSpPr>
            <a:spLocks noGrp="1"/>
          </p:cNvSpPr>
          <p:nvPr>
            <p:ph type="dt" idx="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2366" name=""/>
          <p:cNvGrpSpPr/>
          <p:nvPr/>
        </p:nvGrpSpPr>
        <p:grpSpPr>
          <a:xfrm>
            <a:off x="0" y="0"/>
            <a:ext cx="8458200" cy="5943600"/>
            <a:chOff x="0" y="0"/>
            <a:chExt cx="8458200" cy="5943600"/>
          </a:xfrm>
        </p:grpSpPr>
        <p:sp>
          <p:nvSpPr>
            <p:cNvPr id="2367"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8"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69" name="PlaceHolder 1"/>
          <p:cNvSpPr>
            <a:spLocks noGrp="1"/>
          </p:cNvSpPr>
          <p:nvPr>
            <p:ph type="dt" idx="88"/>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2370" name="PlaceHolder 2"/>
          <p:cNvSpPr>
            <a:spLocks noGrp="1"/>
          </p:cNvSpPr>
          <p:nvPr>
            <p:ph type="ftr" idx="89"/>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2371" name="PlaceHolder 3"/>
          <p:cNvSpPr>
            <a:spLocks noGrp="1"/>
          </p:cNvSpPr>
          <p:nvPr>
            <p:ph type="sldNum" idx="9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A7F3A-5C37-4B39-A8F6-E30077E4C2CD}"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2372"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18" name=""/>
          <p:cNvGrpSpPr/>
          <p:nvPr/>
        </p:nvGrpSpPr>
        <p:grpSpPr>
          <a:xfrm>
            <a:off x="0" y="0"/>
            <a:ext cx="9159840" cy="6858000"/>
            <a:chOff x="0" y="0"/>
            <a:chExt cx="9159840" cy="6858000"/>
          </a:xfrm>
        </p:grpSpPr>
        <p:sp>
          <p:nvSpPr>
            <p:cNvPr id="219"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241"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42"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43"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C88AF-0CB9-4AB2-8D06-392A090D2857}"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4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281" name=""/>
          <p:cNvGrpSpPr/>
          <p:nvPr/>
        </p:nvGrpSpPr>
        <p:grpSpPr>
          <a:xfrm>
            <a:off x="0" y="2438280"/>
            <a:ext cx="9144000" cy="4046760"/>
            <a:chOff x="0" y="2438280"/>
            <a:chExt cx="9144000" cy="4046760"/>
          </a:xfrm>
        </p:grpSpPr>
        <p:sp>
          <p:nvSpPr>
            <p:cNvPr id="282"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3"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298" name="PlaceHolder 2"/>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299"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300" name="PlaceHolder 4"/>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B441F-9DE8-45A2-A854-4FB48346F115}"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301"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338" name=""/>
          <p:cNvGrpSpPr/>
          <p:nvPr/>
        </p:nvGrpSpPr>
        <p:grpSpPr>
          <a:xfrm>
            <a:off x="0" y="2438280"/>
            <a:ext cx="9144000" cy="4046760"/>
            <a:chOff x="0" y="2438280"/>
            <a:chExt cx="9144000" cy="4046760"/>
          </a:xfrm>
        </p:grpSpPr>
        <p:sp>
          <p:nvSpPr>
            <p:cNvPr id="339"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0"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355"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56"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357"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FBB42-E408-453C-B777-9EC3A05BC370}"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94" name=""/>
          <p:cNvGrpSpPr/>
          <p:nvPr/>
        </p:nvGrpSpPr>
        <p:grpSpPr>
          <a:xfrm>
            <a:off x="6273360" y="-21240"/>
            <a:ext cx="2966400" cy="3296160"/>
            <a:chOff x="6273360" y="-21240"/>
            <a:chExt cx="2966400" cy="3296160"/>
          </a:xfrm>
        </p:grpSpPr>
        <p:grpSp>
          <p:nvGrpSpPr>
            <p:cNvPr id="395" name=""/>
            <p:cNvGrpSpPr/>
            <p:nvPr/>
          </p:nvGrpSpPr>
          <p:grpSpPr>
            <a:xfrm>
              <a:off x="7566840" y="2500200"/>
              <a:ext cx="1004760" cy="753840"/>
              <a:chOff x="7566840" y="2500200"/>
              <a:chExt cx="1004760" cy="753840"/>
            </a:xfrm>
          </p:grpSpPr>
          <p:sp>
            <p:nvSpPr>
              <p:cNvPr id="396"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98" name=""/>
            <p:cNvGrpSpPr/>
            <p:nvPr/>
          </p:nvGrpSpPr>
          <p:grpSpPr>
            <a:xfrm>
              <a:off x="7798320" y="1443600"/>
              <a:ext cx="1005120" cy="753840"/>
              <a:chOff x="7798320" y="1443600"/>
              <a:chExt cx="1005120" cy="753840"/>
            </a:xfrm>
          </p:grpSpPr>
          <p:sp>
            <p:nvSpPr>
              <p:cNvPr id="399"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01" name=""/>
            <p:cNvGrpSpPr/>
            <p:nvPr/>
          </p:nvGrpSpPr>
          <p:grpSpPr>
            <a:xfrm>
              <a:off x="6328800" y="0"/>
              <a:ext cx="1005120" cy="753840"/>
              <a:chOff x="6328800" y="0"/>
              <a:chExt cx="1005120" cy="753840"/>
            </a:xfrm>
          </p:grpSpPr>
          <p:sp>
            <p:nvSpPr>
              <p:cNvPr id="402"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04" name=""/>
            <p:cNvGrpSpPr/>
            <p:nvPr/>
          </p:nvGrpSpPr>
          <p:grpSpPr>
            <a:xfrm>
              <a:off x="6273360" y="-21240"/>
              <a:ext cx="2966400" cy="3296160"/>
              <a:chOff x="6273360" y="-21240"/>
              <a:chExt cx="2966400" cy="3296160"/>
            </a:xfrm>
          </p:grpSpPr>
          <p:grpSp>
            <p:nvGrpSpPr>
              <p:cNvPr id="405" name=""/>
              <p:cNvGrpSpPr/>
              <p:nvPr/>
            </p:nvGrpSpPr>
            <p:grpSpPr>
              <a:xfrm>
                <a:off x="6990840" y="402840"/>
                <a:ext cx="1498680" cy="1104480"/>
                <a:chOff x="6990840" y="402840"/>
                <a:chExt cx="1498680" cy="1104480"/>
              </a:xfrm>
            </p:grpSpPr>
            <p:sp>
              <p:nvSpPr>
                <p:cNvPr id="406"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08" name=""/>
              <p:cNvGrpSpPr/>
              <p:nvPr/>
            </p:nvGrpSpPr>
            <p:grpSpPr>
              <a:xfrm>
                <a:off x="6273360" y="-21240"/>
                <a:ext cx="2867400" cy="2268360"/>
                <a:chOff x="6273360" y="-21240"/>
                <a:chExt cx="2867400" cy="2268360"/>
              </a:xfrm>
            </p:grpSpPr>
            <p:grpSp>
              <p:nvGrpSpPr>
                <p:cNvPr id="409" name=""/>
                <p:cNvGrpSpPr/>
                <p:nvPr/>
              </p:nvGrpSpPr>
              <p:grpSpPr>
                <a:xfrm>
                  <a:off x="7834680" y="842760"/>
                  <a:ext cx="1064160" cy="1141560"/>
                  <a:chOff x="7834680" y="842760"/>
                  <a:chExt cx="1064160" cy="1141560"/>
                </a:xfrm>
              </p:grpSpPr>
              <p:sp>
                <p:nvSpPr>
                  <p:cNvPr id="410"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12" name=""/>
                <p:cNvGrpSpPr/>
                <p:nvPr/>
              </p:nvGrpSpPr>
              <p:grpSpPr>
                <a:xfrm>
                  <a:off x="7844760" y="770760"/>
                  <a:ext cx="1265760" cy="1052640"/>
                  <a:chOff x="7844760" y="770760"/>
                  <a:chExt cx="1265760" cy="1052640"/>
                </a:xfrm>
              </p:grpSpPr>
              <p:sp>
                <p:nvSpPr>
                  <p:cNvPr id="413"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14"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15" name=""/>
                <p:cNvGrpSpPr/>
                <p:nvPr/>
              </p:nvGrpSpPr>
              <p:grpSpPr>
                <a:xfrm>
                  <a:off x="7840440" y="735480"/>
                  <a:ext cx="1288080" cy="828720"/>
                  <a:chOff x="7840440" y="735480"/>
                  <a:chExt cx="1288080" cy="828720"/>
                </a:xfrm>
              </p:grpSpPr>
              <p:sp>
                <p:nvSpPr>
                  <p:cNvPr id="416"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17"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18" name=""/>
                <p:cNvGrpSpPr/>
                <p:nvPr/>
              </p:nvGrpSpPr>
              <p:grpSpPr>
                <a:xfrm>
                  <a:off x="7837200" y="695880"/>
                  <a:ext cx="1303560" cy="669240"/>
                  <a:chOff x="7837200" y="695880"/>
                  <a:chExt cx="1303560" cy="669240"/>
                </a:xfrm>
              </p:grpSpPr>
              <p:sp>
                <p:nvSpPr>
                  <p:cNvPr id="419"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20"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21" name=""/>
                <p:cNvGrpSpPr/>
                <p:nvPr/>
              </p:nvGrpSpPr>
              <p:grpSpPr>
                <a:xfrm>
                  <a:off x="7852680" y="657720"/>
                  <a:ext cx="1223640" cy="417960"/>
                  <a:chOff x="7852680" y="657720"/>
                  <a:chExt cx="1223640" cy="417960"/>
                </a:xfrm>
              </p:grpSpPr>
              <p:sp>
                <p:nvSpPr>
                  <p:cNvPr id="422"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23"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24" name=""/>
                <p:cNvGrpSpPr/>
                <p:nvPr/>
              </p:nvGrpSpPr>
              <p:grpSpPr>
                <a:xfrm>
                  <a:off x="7871760" y="632880"/>
                  <a:ext cx="1106280" cy="184320"/>
                  <a:chOff x="7871760" y="632880"/>
                  <a:chExt cx="1106280" cy="184320"/>
                </a:xfrm>
              </p:grpSpPr>
              <p:sp>
                <p:nvSpPr>
                  <p:cNvPr id="425"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26"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27" name=""/>
                <p:cNvGrpSpPr/>
                <p:nvPr/>
              </p:nvGrpSpPr>
              <p:grpSpPr>
                <a:xfrm>
                  <a:off x="7845480" y="419760"/>
                  <a:ext cx="983520" cy="326880"/>
                  <a:chOff x="7845480" y="419760"/>
                  <a:chExt cx="983520" cy="326880"/>
                </a:xfrm>
              </p:grpSpPr>
              <p:sp>
                <p:nvSpPr>
                  <p:cNvPr id="428"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29"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30" name=""/>
                <p:cNvGrpSpPr/>
                <p:nvPr/>
              </p:nvGrpSpPr>
              <p:grpSpPr>
                <a:xfrm>
                  <a:off x="6538320" y="906120"/>
                  <a:ext cx="1063440" cy="1140840"/>
                  <a:chOff x="6538320" y="906120"/>
                  <a:chExt cx="1063440" cy="1140840"/>
                </a:xfrm>
              </p:grpSpPr>
              <p:sp>
                <p:nvSpPr>
                  <p:cNvPr id="431"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32"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33" name=""/>
                <p:cNvGrpSpPr/>
                <p:nvPr/>
              </p:nvGrpSpPr>
              <p:grpSpPr>
                <a:xfrm>
                  <a:off x="6303960" y="861120"/>
                  <a:ext cx="1266120" cy="1053000"/>
                  <a:chOff x="6303960" y="861120"/>
                  <a:chExt cx="1266120" cy="1053000"/>
                </a:xfrm>
              </p:grpSpPr>
              <p:sp>
                <p:nvSpPr>
                  <p:cNvPr id="434"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35"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36" name=""/>
                <p:cNvGrpSpPr/>
                <p:nvPr/>
              </p:nvGrpSpPr>
              <p:grpSpPr>
                <a:xfrm>
                  <a:off x="6285960" y="826920"/>
                  <a:ext cx="1288800" cy="828720"/>
                  <a:chOff x="6285960" y="826920"/>
                  <a:chExt cx="1288800" cy="828720"/>
                </a:xfrm>
              </p:grpSpPr>
              <p:sp>
                <p:nvSpPr>
                  <p:cNvPr id="437"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38"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39" name=""/>
                <p:cNvGrpSpPr/>
                <p:nvPr/>
              </p:nvGrpSpPr>
              <p:grpSpPr>
                <a:xfrm>
                  <a:off x="6273360" y="787320"/>
                  <a:ext cx="1303920" cy="668520"/>
                  <a:chOff x="6273360" y="787320"/>
                  <a:chExt cx="1303920" cy="668520"/>
                </a:xfrm>
              </p:grpSpPr>
              <p:sp>
                <p:nvSpPr>
                  <p:cNvPr id="440"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41"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42" name=""/>
                <p:cNvGrpSpPr/>
                <p:nvPr/>
              </p:nvGrpSpPr>
              <p:grpSpPr>
                <a:xfrm>
                  <a:off x="6338880" y="749520"/>
                  <a:ext cx="1222560" cy="416160"/>
                  <a:chOff x="6338880" y="749520"/>
                  <a:chExt cx="1222560" cy="416160"/>
                </a:xfrm>
              </p:grpSpPr>
              <p:sp>
                <p:nvSpPr>
                  <p:cNvPr id="443"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44"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45" name=""/>
                <p:cNvGrpSpPr/>
                <p:nvPr/>
              </p:nvGrpSpPr>
              <p:grpSpPr>
                <a:xfrm>
                  <a:off x="6436080" y="722880"/>
                  <a:ext cx="1106640" cy="184320"/>
                  <a:chOff x="6436080" y="722880"/>
                  <a:chExt cx="1106640" cy="184320"/>
                </a:xfrm>
              </p:grpSpPr>
              <p:sp>
                <p:nvSpPr>
                  <p:cNvPr id="446"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47"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48" name=""/>
                <p:cNvGrpSpPr/>
                <p:nvPr/>
              </p:nvGrpSpPr>
              <p:grpSpPr>
                <a:xfrm>
                  <a:off x="6585480" y="510120"/>
                  <a:ext cx="983880" cy="326880"/>
                  <a:chOff x="6585480" y="510120"/>
                  <a:chExt cx="983880" cy="326880"/>
                </a:xfrm>
              </p:grpSpPr>
              <p:sp>
                <p:nvSpPr>
                  <p:cNvPr id="449"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50"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51" name=""/>
                <p:cNvGrpSpPr/>
                <p:nvPr/>
              </p:nvGrpSpPr>
              <p:grpSpPr>
                <a:xfrm>
                  <a:off x="6638400" y="390600"/>
                  <a:ext cx="967320" cy="451800"/>
                  <a:chOff x="6638400" y="390600"/>
                  <a:chExt cx="967320" cy="451800"/>
                </a:xfrm>
              </p:grpSpPr>
              <p:sp>
                <p:nvSpPr>
                  <p:cNvPr id="452"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53"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54" name=""/>
                <p:cNvGrpSpPr/>
                <p:nvPr/>
              </p:nvGrpSpPr>
              <p:grpSpPr>
                <a:xfrm>
                  <a:off x="6751800" y="222480"/>
                  <a:ext cx="902520" cy="627120"/>
                  <a:chOff x="6751800" y="222480"/>
                  <a:chExt cx="902520" cy="627120"/>
                </a:xfrm>
              </p:grpSpPr>
              <p:sp>
                <p:nvSpPr>
                  <p:cNvPr id="455"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56"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57" name=""/>
                <p:cNvGrpSpPr/>
                <p:nvPr/>
              </p:nvGrpSpPr>
              <p:grpSpPr>
                <a:xfrm>
                  <a:off x="6867720" y="57600"/>
                  <a:ext cx="825120" cy="761760"/>
                  <a:chOff x="6867720" y="57600"/>
                  <a:chExt cx="825120" cy="761760"/>
                </a:xfrm>
              </p:grpSpPr>
              <p:sp>
                <p:nvSpPr>
                  <p:cNvPr id="458"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59"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60" name=""/>
                <p:cNvGrpSpPr/>
                <p:nvPr/>
              </p:nvGrpSpPr>
              <p:grpSpPr>
                <a:xfrm>
                  <a:off x="7111800" y="15840"/>
                  <a:ext cx="608040" cy="784800"/>
                  <a:chOff x="7111800" y="15840"/>
                  <a:chExt cx="608040" cy="784800"/>
                </a:xfrm>
              </p:grpSpPr>
              <p:sp>
                <p:nvSpPr>
                  <p:cNvPr id="461"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62"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63" name=""/>
                <p:cNvGrpSpPr/>
                <p:nvPr/>
              </p:nvGrpSpPr>
              <p:grpSpPr>
                <a:xfrm>
                  <a:off x="7287480" y="-21240"/>
                  <a:ext cx="466560" cy="808200"/>
                  <a:chOff x="7287480" y="-21240"/>
                  <a:chExt cx="466560" cy="808200"/>
                </a:xfrm>
              </p:grpSpPr>
              <p:sp>
                <p:nvSpPr>
                  <p:cNvPr id="464"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65"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66" name=""/>
                <p:cNvGrpSpPr/>
                <p:nvPr/>
              </p:nvGrpSpPr>
              <p:grpSpPr>
                <a:xfrm>
                  <a:off x="7793280" y="272160"/>
                  <a:ext cx="963720" cy="462960"/>
                  <a:chOff x="7793280" y="272160"/>
                  <a:chExt cx="963720" cy="462960"/>
                </a:xfrm>
              </p:grpSpPr>
              <p:sp>
                <p:nvSpPr>
                  <p:cNvPr id="467"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68"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69" name=""/>
                <p:cNvGrpSpPr/>
                <p:nvPr/>
              </p:nvGrpSpPr>
              <p:grpSpPr>
                <a:xfrm>
                  <a:off x="7737840" y="136080"/>
                  <a:ext cx="915840" cy="604800"/>
                  <a:chOff x="7737840" y="136080"/>
                  <a:chExt cx="915840" cy="604800"/>
                </a:xfrm>
              </p:grpSpPr>
              <p:sp>
                <p:nvSpPr>
                  <p:cNvPr id="470"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71"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2"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3"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74" name=""/>
                <p:cNvGrpSpPr/>
                <p:nvPr/>
              </p:nvGrpSpPr>
              <p:grpSpPr>
                <a:xfrm>
                  <a:off x="7665480" y="-11160"/>
                  <a:ext cx="497520" cy="790920"/>
                  <a:chOff x="7665480" y="-11160"/>
                  <a:chExt cx="497520" cy="790920"/>
                </a:xfrm>
              </p:grpSpPr>
              <p:sp>
                <p:nvSpPr>
                  <p:cNvPr id="475"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76"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77" name=""/>
                <p:cNvGrpSpPr/>
                <p:nvPr/>
              </p:nvGrpSpPr>
              <p:grpSpPr>
                <a:xfrm>
                  <a:off x="7662960" y="38160"/>
                  <a:ext cx="785880" cy="747360"/>
                  <a:chOff x="7662960" y="38160"/>
                  <a:chExt cx="785880" cy="747360"/>
                </a:xfrm>
              </p:grpSpPr>
              <p:sp>
                <p:nvSpPr>
                  <p:cNvPr id="478"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79"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80" name=""/>
                <p:cNvGrpSpPr/>
                <p:nvPr/>
              </p:nvGrpSpPr>
              <p:grpSpPr>
                <a:xfrm>
                  <a:off x="7708680" y="-1440"/>
                  <a:ext cx="177840" cy="746640"/>
                  <a:chOff x="7708680" y="-1440"/>
                  <a:chExt cx="177840" cy="746640"/>
                </a:xfrm>
              </p:grpSpPr>
              <p:sp>
                <p:nvSpPr>
                  <p:cNvPr id="481"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482"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483" name=""/>
                <p:cNvGrpSpPr/>
                <p:nvPr/>
              </p:nvGrpSpPr>
              <p:grpSpPr>
                <a:xfrm>
                  <a:off x="6711120" y="929880"/>
                  <a:ext cx="912960" cy="1248840"/>
                  <a:chOff x="6711120" y="929880"/>
                  <a:chExt cx="912960" cy="1248840"/>
                </a:xfrm>
              </p:grpSpPr>
              <p:sp>
                <p:nvSpPr>
                  <p:cNvPr id="484"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5"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86" name=""/>
                <p:cNvGrpSpPr/>
                <p:nvPr/>
              </p:nvGrpSpPr>
              <p:grpSpPr>
                <a:xfrm>
                  <a:off x="7014240" y="979200"/>
                  <a:ext cx="616680" cy="1248480"/>
                  <a:chOff x="7014240" y="979200"/>
                  <a:chExt cx="616680" cy="1248480"/>
                </a:xfrm>
              </p:grpSpPr>
              <p:sp>
                <p:nvSpPr>
                  <p:cNvPr id="487"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8"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89" name=""/>
                <p:cNvGrpSpPr/>
                <p:nvPr/>
              </p:nvGrpSpPr>
              <p:grpSpPr>
                <a:xfrm>
                  <a:off x="7311960" y="1001160"/>
                  <a:ext cx="364680" cy="1217880"/>
                  <a:chOff x="7311960" y="1001160"/>
                  <a:chExt cx="364680" cy="1217880"/>
                </a:xfrm>
              </p:grpSpPr>
              <p:sp>
                <p:nvSpPr>
                  <p:cNvPr id="490"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1"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92" name=""/>
                <p:cNvGrpSpPr/>
                <p:nvPr/>
              </p:nvGrpSpPr>
              <p:grpSpPr>
                <a:xfrm>
                  <a:off x="7798680" y="909360"/>
                  <a:ext cx="949680" cy="1229040"/>
                  <a:chOff x="7798680" y="909360"/>
                  <a:chExt cx="949680" cy="1229040"/>
                </a:xfrm>
              </p:grpSpPr>
              <p:sp>
                <p:nvSpPr>
                  <p:cNvPr id="493"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95" name=""/>
                <p:cNvGrpSpPr/>
                <p:nvPr/>
              </p:nvGrpSpPr>
              <p:grpSpPr>
                <a:xfrm>
                  <a:off x="7786440" y="956160"/>
                  <a:ext cx="732960" cy="1261800"/>
                  <a:chOff x="7786440" y="956160"/>
                  <a:chExt cx="732960" cy="1261800"/>
                </a:xfrm>
              </p:grpSpPr>
              <p:sp>
                <p:nvSpPr>
                  <p:cNvPr id="496"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98" name=""/>
                <p:cNvGrpSpPr/>
                <p:nvPr/>
              </p:nvGrpSpPr>
              <p:grpSpPr>
                <a:xfrm>
                  <a:off x="7756920" y="1005120"/>
                  <a:ext cx="510120" cy="1242000"/>
                  <a:chOff x="7756920" y="1005120"/>
                  <a:chExt cx="510120" cy="1242000"/>
                </a:xfrm>
              </p:grpSpPr>
              <p:sp>
                <p:nvSpPr>
                  <p:cNvPr id="499"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01" name=""/>
                <p:cNvGrpSpPr/>
                <p:nvPr/>
              </p:nvGrpSpPr>
              <p:grpSpPr>
                <a:xfrm>
                  <a:off x="7733880" y="1058760"/>
                  <a:ext cx="290160" cy="1155960"/>
                  <a:chOff x="7733880" y="1058760"/>
                  <a:chExt cx="290160" cy="1155960"/>
                </a:xfrm>
              </p:grpSpPr>
              <p:sp>
                <p:nvSpPr>
                  <p:cNvPr id="502"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04" name=""/>
                <p:cNvGrpSpPr/>
                <p:nvPr/>
              </p:nvGrpSpPr>
              <p:grpSpPr>
                <a:xfrm>
                  <a:off x="7500960" y="1077480"/>
                  <a:ext cx="276120" cy="1131480"/>
                  <a:chOff x="7500960" y="1077480"/>
                  <a:chExt cx="276120" cy="1131480"/>
                </a:xfrm>
              </p:grpSpPr>
              <p:sp>
                <p:nvSpPr>
                  <p:cNvPr id="505"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6"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507"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8"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9"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1"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2"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4"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7"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8"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9"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0"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3"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6"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7"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5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53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531"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532"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533"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B6325-D95B-4E33-8D7B-CB75C479D7FF}"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70" name=""/>
          <p:cNvGrpSpPr/>
          <p:nvPr/>
        </p:nvGrpSpPr>
        <p:grpSpPr>
          <a:xfrm>
            <a:off x="2010960" y="245520"/>
            <a:ext cx="7128000" cy="7923600"/>
            <a:chOff x="2010960" y="245520"/>
            <a:chExt cx="7128000" cy="7923600"/>
          </a:xfrm>
        </p:grpSpPr>
        <p:grpSp>
          <p:nvGrpSpPr>
            <p:cNvPr id="571" name=""/>
            <p:cNvGrpSpPr/>
            <p:nvPr/>
          </p:nvGrpSpPr>
          <p:grpSpPr>
            <a:xfrm>
              <a:off x="3483000" y="954000"/>
              <a:ext cx="946080" cy="709560"/>
              <a:chOff x="3483000" y="954000"/>
              <a:chExt cx="946080" cy="709560"/>
            </a:xfrm>
          </p:grpSpPr>
          <p:sp>
            <p:nvSpPr>
              <p:cNvPr id="572"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3"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74" name=""/>
            <p:cNvGrpSpPr/>
            <p:nvPr/>
          </p:nvGrpSpPr>
          <p:grpSpPr>
            <a:xfrm>
              <a:off x="2010960" y="245520"/>
              <a:ext cx="7128000" cy="7705800"/>
              <a:chOff x="2010960" y="245520"/>
              <a:chExt cx="7128000" cy="7705800"/>
            </a:xfrm>
          </p:grpSpPr>
          <p:grpSp>
            <p:nvGrpSpPr>
              <p:cNvPr id="575" name=""/>
              <p:cNvGrpSpPr/>
              <p:nvPr/>
            </p:nvGrpSpPr>
            <p:grpSpPr>
              <a:xfrm>
                <a:off x="2010960" y="245520"/>
                <a:ext cx="6891120" cy="5452200"/>
                <a:chOff x="2010960" y="245520"/>
                <a:chExt cx="6891120" cy="5452200"/>
              </a:xfrm>
            </p:grpSpPr>
            <p:grpSp>
              <p:nvGrpSpPr>
                <p:cNvPr id="576" name=""/>
                <p:cNvGrpSpPr/>
                <p:nvPr/>
              </p:nvGrpSpPr>
              <p:grpSpPr>
                <a:xfrm>
                  <a:off x="3735720" y="1266120"/>
                  <a:ext cx="3599280" cy="2652120"/>
                  <a:chOff x="3735720" y="1266120"/>
                  <a:chExt cx="3599280" cy="2652120"/>
                </a:xfrm>
              </p:grpSpPr>
              <p:sp>
                <p:nvSpPr>
                  <p:cNvPr id="577"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8"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79" name=""/>
                <p:cNvGrpSpPr/>
                <p:nvPr/>
              </p:nvGrpSpPr>
              <p:grpSpPr>
                <a:xfrm>
                  <a:off x="2010960" y="245520"/>
                  <a:ext cx="6891120" cy="5452200"/>
                  <a:chOff x="2010960" y="245520"/>
                  <a:chExt cx="6891120" cy="5452200"/>
                </a:xfrm>
              </p:grpSpPr>
              <p:grpSp>
                <p:nvGrpSpPr>
                  <p:cNvPr id="580" name=""/>
                  <p:cNvGrpSpPr/>
                  <p:nvPr/>
                </p:nvGrpSpPr>
                <p:grpSpPr>
                  <a:xfrm>
                    <a:off x="5762160" y="2322000"/>
                    <a:ext cx="2558520" cy="2742840"/>
                    <a:chOff x="5762160" y="2322000"/>
                    <a:chExt cx="2558520" cy="2742840"/>
                  </a:xfrm>
                </p:grpSpPr>
                <p:sp>
                  <p:nvSpPr>
                    <p:cNvPr id="581"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83" name=""/>
                  <p:cNvGrpSpPr/>
                  <p:nvPr/>
                </p:nvGrpSpPr>
                <p:grpSpPr>
                  <a:xfrm>
                    <a:off x="5787720" y="2148480"/>
                    <a:ext cx="3040200" cy="2529360"/>
                    <a:chOff x="5787720" y="2148480"/>
                    <a:chExt cx="3040200" cy="2529360"/>
                  </a:xfrm>
                </p:grpSpPr>
                <p:sp>
                  <p:nvSpPr>
                    <p:cNvPr id="584"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85"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86" name=""/>
                  <p:cNvGrpSpPr/>
                  <p:nvPr/>
                </p:nvGrpSpPr>
                <p:grpSpPr>
                  <a:xfrm>
                    <a:off x="5776200" y="2065320"/>
                    <a:ext cx="3096360" cy="1992600"/>
                    <a:chOff x="5776200" y="2065320"/>
                    <a:chExt cx="3096360" cy="1992600"/>
                  </a:xfrm>
                </p:grpSpPr>
                <p:sp>
                  <p:nvSpPr>
                    <p:cNvPr id="587"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88"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89" name=""/>
                  <p:cNvGrpSpPr/>
                  <p:nvPr/>
                </p:nvGrpSpPr>
                <p:grpSpPr>
                  <a:xfrm>
                    <a:off x="5768280" y="1970280"/>
                    <a:ext cx="3133800" cy="1608120"/>
                    <a:chOff x="5768280" y="1970280"/>
                    <a:chExt cx="3133800" cy="1608120"/>
                  </a:xfrm>
                </p:grpSpPr>
                <p:sp>
                  <p:nvSpPr>
                    <p:cNvPr id="590"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91"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92" name=""/>
                  <p:cNvGrpSpPr/>
                  <p:nvPr/>
                </p:nvGrpSpPr>
                <p:grpSpPr>
                  <a:xfrm>
                    <a:off x="5806080" y="1879920"/>
                    <a:ext cx="2940120" cy="1001880"/>
                    <a:chOff x="5806080" y="1879920"/>
                    <a:chExt cx="2940120" cy="1001880"/>
                  </a:xfrm>
                </p:grpSpPr>
                <p:sp>
                  <p:nvSpPr>
                    <p:cNvPr id="593"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94"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95" name=""/>
                  <p:cNvGrpSpPr/>
                  <p:nvPr/>
                </p:nvGrpSpPr>
                <p:grpSpPr>
                  <a:xfrm>
                    <a:off x="5851440" y="1815480"/>
                    <a:ext cx="2658600" cy="446040"/>
                    <a:chOff x="5851440" y="1815480"/>
                    <a:chExt cx="2658600" cy="446040"/>
                  </a:xfrm>
                </p:grpSpPr>
                <p:sp>
                  <p:nvSpPr>
                    <p:cNvPr id="596"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97"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98" name=""/>
                  <p:cNvGrpSpPr/>
                  <p:nvPr/>
                </p:nvGrpSpPr>
                <p:grpSpPr>
                  <a:xfrm>
                    <a:off x="5788440" y="1303920"/>
                    <a:ext cx="2364120" cy="787320"/>
                    <a:chOff x="5788440" y="1303920"/>
                    <a:chExt cx="2364120" cy="787320"/>
                  </a:xfrm>
                </p:grpSpPr>
                <p:sp>
                  <p:nvSpPr>
                    <p:cNvPr id="599"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00"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01" name=""/>
                  <p:cNvGrpSpPr/>
                  <p:nvPr/>
                </p:nvGrpSpPr>
                <p:grpSpPr>
                  <a:xfrm>
                    <a:off x="2646720" y="2473920"/>
                    <a:ext cx="2556720" cy="2742120"/>
                    <a:chOff x="2646720" y="2473920"/>
                    <a:chExt cx="2556720" cy="2742120"/>
                  </a:xfrm>
                </p:grpSpPr>
                <p:sp>
                  <p:nvSpPr>
                    <p:cNvPr id="602"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03"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04" name=""/>
                  <p:cNvGrpSpPr/>
                  <p:nvPr/>
                </p:nvGrpSpPr>
                <p:grpSpPr>
                  <a:xfrm>
                    <a:off x="2085120" y="2366640"/>
                    <a:ext cx="3041280" cy="2529720"/>
                    <a:chOff x="2085120" y="2366640"/>
                    <a:chExt cx="3041280" cy="2529720"/>
                  </a:xfrm>
                </p:grpSpPr>
                <p:sp>
                  <p:nvSpPr>
                    <p:cNvPr id="605"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06"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07" name=""/>
                  <p:cNvGrpSpPr/>
                  <p:nvPr/>
                </p:nvGrpSpPr>
                <p:grpSpPr>
                  <a:xfrm>
                    <a:off x="2040840" y="2283480"/>
                    <a:ext cx="3096360" cy="1992600"/>
                    <a:chOff x="2040840" y="2283480"/>
                    <a:chExt cx="3096360" cy="1992600"/>
                  </a:xfrm>
                </p:grpSpPr>
                <p:sp>
                  <p:nvSpPr>
                    <p:cNvPr id="608"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09"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10" name=""/>
                  <p:cNvGrpSpPr/>
                  <p:nvPr/>
                </p:nvGrpSpPr>
                <p:grpSpPr>
                  <a:xfrm>
                    <a:off x="2010960" y="2188440"/>
                    <a:ext cx="3134160" cy="1607760"/>
                    <a:chOff x="2010960" y="2188440"/>
                    <a:chExt cx="3134160" cy="1607760"/>
                  </a:xfrm>
                </p:grpSpPr>
                <p:sp>
                  <p:nvSpPr>
                    <p:cNvPr id="611"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12"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13" name=""/>
                  <p:cNvGrpSpPr/>
                  <p:nvPr/>
                </p:nvGrpSpPr>
                <p:grpSpPr>
                  <a:xfrm>
                    <a:off x="2166120" y="2098080"/>
                    <a:ext cx="2940840" cy="1002240"/>
                    <a:chOff x="2166120" y="2098080"/>
                    <a:chExt cx="2940840" cy="1002240"/>
                  </a:xfrm>
                </p:grpSpPr>
                <p:sp>
                  <p:nvSpPr>
                    <p:cNvPr id="614"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15"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16" name=""/>
                  <p:cNvGrpSpPr/>
                  <p:nvPr/>
                </p:nvGrpSpPr>
                <p:grpSpPr>
                  <a:xfrm>
                    <a:off x="2403720" y="2033640"/>
                    <a:ext cx="2658600" cy="446040"/>
                    <a:chOff x="2403720" y="2033640"/>
                    <a:chExt cx="2658600" cy="446040"/>
                  </a:xfrm>
                </p:grpSpPr>
                <p:sp>
                  <p:nvSpPr>
                    <p:cNvPr id="617"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18"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19" name=""/>
                  <p:cNvGrpSpPr/>
                  <p:nvPr/>
                </p:nvGrpSpPr>
                <p:grpSpPr>
                  <a:xfrm>
                    <a:off x="2760840" y="1522440"/>
                    <a:ext cx="2363760" cy="787320"/>
                    <a:chOff x="2760840" y="1522440"/>
                    <a:chExt cx="2363760" cy="787320"/>
                  </a:xfrm>
                </p:grpSpPr>
                <p:sp>
                  <p:nvSpPr>
                    <p:cNvPr id="620"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21"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22" name=""/>
                  <p:cNvGrpSpPr/>
                  <p:nvPr/>
                </p:nvGrpSpPr>
                <p:grpSpPr>
                  <a:xfrm>
                    <a:off x="2887200" y="1236600"/>
                    <a:ext cx="2325240" cy="1084320"/>
                    <a:chOff x="2887200" y="1236600"/>
                    <a:chExt cx="2325240" cy="1084320"/>
                  </a:xfrm>
                </p:grpSpPr>
                <p:sp>
                  <p:nvSpPr>
                    <p:cNvPr id="623"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24"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25" name=""/>
                  <p:cNvGrpSpPr/>
                  <p:nvPr/>
                </p:nvGrpSpPr>
                <p:grpSpPr>
                  <a:xfrm>
                    <a:off x="3160440" y="831240"/>
                    <a:ext cx="2170800" cy="1508040"/>
                    <a:chOff x="3160440" y="831240"/>
                    <a:chExt cx="2170800" cy="1508040"/>
                  </a:xfrm>
                </p:grpSpPr>
                <p:sp>
                  <p:nvSpPr>
                    <p:cNvPr id="626"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27"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28" name=""/>
                  <p:cNvGrpSpPr/>
                  <p:nvPr/>
                </p:nvGrpSpPr>
                <p:grpSpPr>
                  <a:xfrm>
                    <a:off x="3437640" y="436320"/>
                    <a:ext cx="1987200" cy="1831320"/>
                    <a:chOff x="3437640" y="436320"/>
                    <a:chExt cx="1987200" cy="1831320"/>
                  </a:xfrm>
                </p:grpSpPr>
                <p:sp>
                  <p:nvSpPr>
                    <p:cNvPr id="629"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30"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31" name=""/>
                  <p:cNvGrpSpPr/>
                  <p:nvPr/>
                </p:nvGrpSpPr>
                <p:grpSpPr>
                  <a:xfrm>
                    <a:off x="4026960" y="335520"/>
                    <a:ext cx="1461240" cy="1885680"/>
                    <a:chOff x="4026960" y="335520"/>
                    <a:chExt cx="1461240" cy="1885680"/>
                  </a:xfrm>
                </p:grpSpPr>
                <p:sp>
                  <p:nvSpPr>
                    <p:cNvPr id="632"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33"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34" name=""/>
                  <p:cNvGrpSpPr/>
                  <p:nvPr/>
                </p:nvGrpSpPr>
                <p:grpSpPr>
                  <a:xfrm>
                    <a:off x="4448160" y="245520"/>
                    <a:ext cx="1121760" cy="1946520"/>
                    <a:chOff x="4448160" y="245520"/>
                    <a:chExt cx="1121760" cy="1946520"/>
                  </a:xfrm>
                </p:grpSpPr>
                <p:sp>
                  <p:nvSpPr>
                    <p:cNvPr id="635"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36"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37" name=""/>
                  <p:cNvGrpSpPr/>
                  <p:nvPr/>
                </p:nvGrpSpPr>
                <p:grpSpPr>
                  <a:xfrm>
                    <a:off x="5661720" y="952560"/>
                    <a:ext cx="2317320" cy="1112040"/>
                    <a:chOff x="5661720" y="952560"/>
                    <a:chExt cx="2317320" cy="1112040"/>
                  </a:xfrm>
                </p:grpSpPr>
                <p:sp>
                  <p:nvSpPr>
                    <p:cNvPr id="638"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39"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40" name=""/>
                  <p:cNvGrpSpPr/>
                  <p:nvPr/>
                </p:nvGrpSpPr>
                <p:grpSpPr>
                  <a:xfrm>
                    <a:off x="5529600" y="626400"/>
                    <a:ext cx="2198880" cy="1451160"/>
                    <a:chOff x="5529600" y="626400"/>
                    <a:chExt cx="2198880" cy="1451160"/>
                  </a:xfrm>
                </p:grpSpPr>
                <p:sp>
                  <p:nvSpPr>
                    <p:cNvPr id="641"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42"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43"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4"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45" name=""/>
                  <p:cNvGrpSpPr/>
                  <p:nvPr/>
                </p:nvGrpSpPr>
                <p:grpSpPr>
                  <a:xfrm>
                    <a:off x="5355720" y="270000"/>
                    <a:ext cx="1196280" cy="1901160"/>
                    <a:chOff x="5355720" y="270000"/>
                    <a:chExt cx="1196280" cy="1901160"/>
                  </a:xfrm>
                </p:grpSpPr>
                <p:sp>
                  <p:nvSpPr>
                    <p:cNvPr id="646"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47"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48" name=""/>
                  <p:cNvGrpSpPr/>
                  <p:nvPr/>
                </p:nvGrpSpPr>
                <p:grpSpPr>
                  <a:xfrm>
                    <a:off x="5347440" y="388800"/>
                    <a:ext cx="1891440" cy="1796760"/>
                    <a:chOff x="5347440" y="388800"/>
                    <a:chExt cx="1891440" cy="1796760"/>
                  </a:xfrm>
                </p:grpSpPr>
                <p:sp>
                  <p:nvSpPr>
                    <p:cNvPr id="649"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50"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51" name=""/>
                  <p:cNvGrpSpPr/>
                  <p:nvPr/>
                </p:nvGrpSpPr>
                <p:grpSpPr>
                  <a:xfrm>
                    <a:off x="5458320" y="292680"/>
                    <a:ext cx="426960" cy="1795320"/>
                    <a:chOff x="5458320" y="292680"/>
                    <a:chExt cx="426960" cy="1795320"/>
                  </a:xfrm>
                </p:grpSpPr>
                <p:sp>
                  <p:nvSpPr>
                    <p:cNvPr id="652"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53"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54" name=""/>
                  <p:cNvGrpSpPr/>
                  <p:nvPr/>
                </p:nvGrpSpPr>
                <p:grpSpPr>
                  <a:xfrm>
                    <a:off x="3062880" y="2530440"/>
                    <a:ext cx="2195280" cy="3003480"/>
                    <a:chOff x="3062880" y="2530440"/>
                    <a:chExt cx="2195280" cy="3003480"/>
                  </a:xfrm>
                </p:grpSpPr>
                <p:sp>
                  <p:nvSpPr>
                    <p:cNvPr id="655"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56"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57" name=""/>
                  <p:cNvGrpSpPr/>
                  <p:nvPr/>
                </p:nvGrpSpPr>
                <p:grpSpPr>
                  <a:xfrm>
                    <a:off x="3791520" y="2650320"/>
                    <a:ext cx="1482840" cy="3000240"/>
                    <a:chOff x="3791520" y="2650320"/>
                    <a:chExt cx="1482840" cy="3000240"/>
                  </a:xfrm>
                </p:grpSpPr>
                <p:sp>
                  <p:nvSpPr>
                    <p:cNvPr id="658"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59"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60" name=""/>
                  <p:cNvGrpSpPr/>
                  <p:nvPr/>
                </p:nvGrpSpPr>
                <p:grpSpPr>
                  <a:xfrm>
                    <a:off x="4509000" y="2703240"/>
                    <a:ext cx="874800" cy="2927520"/>
                    <a:chOff x="4509000" y="2703240"/>
                    <a:chExt cx="874800" cy="2927520"/>
                  </a:xfrm>
                </p:grpSpPr>
                <p:sp>
                  <p:nvSpPr>
                    <p:cNvPr id="661"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62"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63" name=""/>
                  <p:cNvGrpSpPr/>
                  <p:nvPr/>
                </p:nvGrpSpPr>
                <p:grpSpPr>
                  <a:xfrm>
                    <a:off x="5678280" y="2482920"/>
                    <a:ext cx="2280240" cy="2953800"/>
                    <a:chOff x="5678280" y="2482920"/>
                    <a:chExt cx="2280240" cy="2953800"/>
                  </a:xfrm>
                </p:grpSpPr>
                <p:sp>
                  <p:nvSpPr>
                    <p:cNvPr id="664"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5"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66" name=""/>
                  <p:cNvGrpSpPr/>
                  <p:nvPr/>
                </p:nvGrpSpPr>
                <p:grpSpPr>
                  <a:xfrm>
                    <a:off x="5648400" y="2593440"/>
                    <a:ext cx="1758240" cy="3032280"/>
                    <a:chOff x="5648400" y="2593440"/>
                    <a:chExt cx="1758240" cy="3032280"/>
                  </a:xfrm>
                </p:grpSpPr>
                <p:sp>
                  <p:nvSpPr>
                    <p:cNvPr id="667"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8"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69" name=""/>
                  <p:cNvGrpSpPr/>
                  <p:nvPr/>
                </p:nvGrpSpPr>
                <p:grpSpPr>
                  <a:xfrm>
                    <a:off x="5576400" y="2710800"/>
                    <a:ext cx="1224720" cy="2986920"/>
                    <a:chOff x="5576400" y="2710800"/>
                    <a:chExt cx="1224720" cy="2986920"/>
                  </a:xfrm>
                </p:grpSpPr>
                <p:sp>
                  <p:nvSpPr>
                    <p:cNvPr id="670"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1"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72" name=""/>
                  <p:cNvGrpSpPr/>
                  <p:nvPr/>
                </p:nvGrpSpPr>
                <p:grpSpPr>
                  <a:xfrm>
                    <a:off x="5521320" y="2840760"/>
                    <a:ext cx="696960" cy="2777400"/>
                    <a:chOff x="5521320" y="2840760"/>
                    <a:chExt cx="696960" cy="2777400"/>
                  </a:xfrm>
                </p:grpSpPr>
                <p:sp>
                  <p:nvSpPr>
                    <p:cNvPr id="673"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4"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75" name=""/>
                  <p:cNvGrpSpPr/>
                  <p:nvPr/>
                </p:nvGrpSpPr>
                <p:grpSpPr>
                  <a:xfrm>
                    <a:off x="4960800" y="2887560"/>
                    <a:ext cx="663480" cy="2717640"/>
                    <a:chOff x="4960800" y="2887560"/>
                    <a:chExt cx="663480" cy="2717640"/>
                  </a:xfrm>
                </p:grpSpPr>
                <p:sp>
                  <p:nvSpPr>
                    <p:cNvPr id="676"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7"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678" name=""/>
              <p:cNvGrpSpPr/>
              <p:nvPr/>
            </p:nvGrpSpPr>
            <p:grpSpPr>
              <a:xfrm>
                <a:off x="2175120" y="682560"/>
                <a:ext cx="6963840" cy="7268760"/>
                <a:chOff x="2175120" y="682560"/>
                <a:chExt cx="6963840" cy="7268760"/>
              </a:xfrm>
            </p:grpSpPr>
            <p:grpSp>
              <p:nvGrpSpPr>
                <p:cNvPr id="679" name=""/>
                <p:cNvGrpSpPr/>
                <p:nvPr/>
              </p:nvGrpSpPr>
              <p:grpSpPr>
                <a:xfrm>
                  <a:off x="2175120" y="682560"/>
                  <a:ext cx="6963840" cy="7268760"/>
                  <a:chOff x="2175120" y="682560"/>
                  <a:chExt cx="6963840" cy="7268760"/>
                </a:xfrm>
              </p:grpSpPr>
              <p:sp>
                <p:nvSpPr>
                  <p:cNvPr id="680"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1"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2"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3"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4"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5"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6"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87"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688" name=""/>
            <p:cNvGrpSpPr/>
            <p:nvPr/>
          </p:nvGrpSpPr>
          <p:grpSpPr>
            <a:xfrm>
              <a:off x="2342880" y="712800"/>
              <a:ext cx="6410160" cy="7456320"/>
              <a:chOff x="2342880" y="712800"/>
              <a:chExt cx="6410160" cy="7456320"/>
            </a:xfrm>
          </p:grpSpPr>
          <p:sp>
            <p:nvSpPr>
              <p:cNvPr id="689"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0"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1"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2"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3"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4"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5"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6"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7"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8"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9"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0"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1"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2"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703"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704" name="PlaceHolder 2"/>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705"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706" name="PlaceHolder 4"/>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C75D9-87A6-415A-818E-6238D920596B}"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744"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45" name="PlaceHolder 3"/>
          <p:cNvSpPr>
            <a:spLocks noGrp="1"/>
          </p:cNvSpPr>
          <p:nvPr>
            <p:ph type="dt" idx="25"/>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46"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47" name="PlaceHolder 5"/>
          <p:cNvSpPr>
            <a:spLocks noGrp="1"/>
          </p:cNvSpPr>
          <p:nvPr>
            <p:ph type="sldNum" idx="27"/>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432CA-4637-490E-BA05-D19C3C48C4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images.google.com/imgres?imgurl=http://news.softpedia.com/images/news2/The-Mystery-of-Modern-Acoustic-in-Ancient-Greek-Theatre-Solved-2.jpg&amp;imgrefurl=http://claaw.wordpress.com/&amp;usg=__2CoUQe-M50IuPEJZiL6uUAp9b7I=&amp;h=499&amp;w=860&amp;sz=141&amp;hl=en&amp;start=19&amp;um=1&amp;itbs=1&amp;tbnid=L69v4oFsp9Fn8M:&amp;tbnh=84&amp;tbnw=145&amp;prev=/images%3Fq%3Dancient%2Bgreek%2Btheatre%2Bmasks%26hl%3Den%26safe%3Dstrict%26um%3D1" TargetMode="External"/><Relationship Id="rId3" Type="http://schemas.openxmlformats.org/officeDocument/2006/relationships/image" Target="../media/image15.jpeg"/><Relationship Id="rId4" Type="http://schemas.openxmlformats.org/officeDocument/2006/relationships/slideLayout" Target="../slideLayouts/slideLayout12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hyperlink" Target="http://images.google.com/imgres?imgurl=http://mycousinjoey.com/images/mask01.jpg&amp;imgrefurl=http://mycousinjoey.com/maskhistory.html&amp;usg=__pMZbOsUVdBoKSBs9AV2nQ59pmmo=&amp;h=480&amp;w=340&amp;sz=32&amp;hl=en&amp;start=13&amp;um=1&amp;itbs=1&amp;tbnid=u1h21fcCRiR9qM:&amp;tbnh=129&amp;tbnw=91&amp;prev=/images%3Fq%3Dancient%2Bgreek%2Btheatre%2Bmasks%26hl%3Den%26safe%3Dstrict%26um%3D1" TargetMode="External"/><Relationship Id="rId4" Type="http://schemas.openxmlformats.org/officeDocument/2006/relationships/image" Target="../media/image17.jpeg"/><Relationship Id="rId5" Type="http://schemas.openxmlformats.org/officeDocument/2006/relationships/slideLayout" Target="../slideLayouts/slideLayout12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19.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jpeg"/><Relationship Id="rId3" Type="http://schemas.openxmlformats.org/officeDocument/2006/relationships/slideLayout" Target="../slideLayouts/slideLayout12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25.xml"/>
</Relationships>
</file>

<file path=ppt/slides/_rels/slide20.xml.rels><?xml version="1.0" encoding="UTF-8"?>
<Relationships xmlns="http://schemas.openxmlformats.org/package/2006/relationships"><Relationship Id="rId1" Type="http://schemas.openxmlformats.org/officeDocument/2006/relationships/hyperlink" Target="Arion" TargetMode="External"/><Relationship Id="rId2" Type="http://schemas.openxmlformats.org/officeDocument/2006/relationships/hyperlink" Target="Cleisthenes" TargetMode="External"/><Relationship Id="rId3" Type="http://schemas.openxmlformats.org/officeDocument/2006/relationships/hyperlink" Target="Thespis" TargetMode="External"/><Relationship Id="rId4" Type="http://schemas.openxmlformats.org/officeDocument/2006/relationships/hyperlink" Target="Aeschylus" TargetMode="External"/><Relationship Id="rId5" Type="http://schemas.openxmlformats.org/officeDocument/2006/relationships/hyperlink" Target="Sophocles" TargetMode="External"/><Relationship Id="rId6" Type="http://schemas.openxmlformats.org/officeDocument/2006/relationships/slideLayout" Target="../slideLayouts/slideLayout24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26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9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3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2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2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99.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2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40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Tahoma"/>
              </a:rPr>
              <a:t>Oedipus Rex</a:t>
            </a:r>
            <a:r>
              <a:rPr b="0" lang="en-US" sz="4800" spc="-1" strike="noStrike">
                <a:solidFill>
                  <a:srgbClr val="ffffcc"/>
                </a:solidFill>
                <a:latin typeface="Tahoma"/>
              </a:rPr>
              <a:t> </a:t>
            </a:r>
            <a:endParaRPr b="0" lang="en-US" sz="4800" spc="-1" strike="noStrike">
              <a:solidFill>
                <a:srgbClr val="ffffcc"/>
              </a:solidFill>
              <a:latin typeface="Tahoma"/>
            </a:endParaRPr>
          </a:p>
        </p:txBody>
      </p:sp>
      <p:sp>
        <p:nvSpPr>
          <p:cNvPr id="24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rPr>
              <a:t>By: Tweed the Awesome</a:t>
            </a:r>
            <a:endParaRPr b="0" lang="en-US" sz="3200" spc="-1" strike="noStrike">
              <a:solidFill>
                <a:srgbClr val="ffffff"/>
              </a:solidFill>
              <a:latin typeface="Tahoma"/>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rPr>
              <a:t>Jaryd the Stupid </a:t>
            </a:r>
            <a:endParaRPr b="0" lang="en-US" sz="3200" spc="-1" strike="noStrike">
              <a:solidFill>
                <a:srgbClr val="ffffff"/>
              </a:solidFill>
              <a:latin typeface="Tahoma"/>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rPr>
              <a:t>Chris the Cool</a:t>
            </a:r>
            <a:endParaRPr b="0" lang="en-US" sz="3200" spc="-1" strike="noStrike">
              <a:solidFill>
                <a:srgbClr val="ffffff"/>
              </a:solidFill>
              <a:latin typeface="Tahoma"/>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rPr>
              <a:t>Stormi the Katri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Plot</a:t>
            </a:r>
            <a:endParaRPr b="0" lang="en-US" sz="4400" spc="-1" strike="noStrike">
              <a:solidFill>
                <a:srgbClr val="ccecff"/>
              </a:solidFill>
              <a:latin typeface="Arial"/>
            </a:endParaRPr>
          </a:p>
        </p:txBody>
      </p:sp>
      <p:sp>
        <p:nvSpPr>
          <p:cNvPr id="2430" name="PlaceHolder 2"/>
          <p:cNvSpPr>
            <a:spLocks noGrp="1"/>
          </p:cNvSpPr>
          <p:nvPr>
            <p:ph/>
          </p:nvPr>
        </p:nvSpPr>
        <p:spPr>
          <a:xfrm>
            <a:off x="457200" y="1294920"/>
            <a:ext cx="822960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lague has stricken Thebes. The citizens gather outside the palace of their King, Oedipus, asking him to take action. Oedipus replies that he already sent his brother-in-law, Creon, to the oracle at Delphi to learn how to help the city. Creon returns with a message from the oracle: the plague will end when the murderer of Laius, former King of Thebes, is caught and expelled; the murderer is within the city. Oedipus questions Creon about the murder of Laius, who was killed by thieves on his way to consult an oracle. Only one of his fellow travelers escaped alive. Oedipus promises to solve the mystery of Laius’s death, vowing to curse and drive out the murder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4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me</a:t>
            </a:r>
            <a:endParaRPr b="1" lang="en-US" sz="4400" spc="-1" strike="noStrike">
              <a:solidFill>
                <a:srgbClr val="feec94"/>
              </a:solidFill>
              <a:latin typeface="Times New Roman"/>
            </a:endParaRPr>
          </a:p>
        </p:txBody>
      </p:sp>
      <p:sp>
        <p:nvSpPr>
          <p:cNvPr id="2432" name="PlaceHolder 2"/>
          <p:cNvSpPr>
            <a:spLocks noGrp="1"/>
          </p:cNvSpPr>
          <p:nvPr>
            <p:ph/>
          </p:nvPr>
        </p:nvSpPr>
        <p:spPr>
          <a:xfrm>
            <a:off x="533520" y="23270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are two central themes in Oedipus Rex: The Limits of Free Will and The Willingness to Ignore the Trut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Greek Theatre History</a:t>
            </a:r>
            <a:endParaRPr b="0" lang="en-US" sz="4400" spc="-1" strike="noStrike">
              <a:solidFill>
                <a:srgbClr val="b2b2b2"/>
              </a:solidFill>
              <a:latin typeface="Arial"/>
            </a:endParaRPr>
          </a:p>
        </p:txBody>
      </p:sp>
      <p:sp>
        <p:nvSpPr>
          <p:cNvPr id="2434" name="PlaceHolder 2"/>
          <p:cNvSpPr>
            <a:spLocks noGrp="1"/>
          </p:cNvSpPr>
          <p:nvPr>
            <p:ph/>
          </p:nvPr>
        </p:nvSpPr>
        <p:spPr>
          <a:xfrm>
            <a:off x="457200" y="190476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enty-five hundred years ago, two thousand years before Shakespeare, Western theatre was born in Athens, Greece.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ween 600 and 200 BC, the ancient Athenians created a theatre culture whose form, technique and terminology have lasted two millennia, and they created plays that are still considered among the greatest works of world dram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reek History (cont.)</a:t>
            </a:r>
            <a:endParaRPr b="0" lang="en-US" sz="4400" spc="-1" strike="noStrike">
              <a:solidFill>
                <a:srgbClr val="ffffff"/>
              </a:solidFill>
              <a:latin typeface="Arial"/>
            </a:endParaRPr>
          </a:p>
        </p:txBody>
      </p:sp>
      <p:sp>
        <p:nvSpPr>
          <p:cNvPr id="24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ring this time, major theatres were constructed, notably the theatre at Delphi, the Attic Theatre and the Theatre of Dionysus in Athens. The Theatre of Dionysus, built at the foot of the Acropolis in Athens, could seat 17,000 people. During their heyday, the competitions drew as many as 30,000 spectators. The words theatre and amphitheatre derive from the Greek word theatron, which referred to the wooden spectator stands erected on those hillsides.</a:t>
            </a:r>
            <a:endParaRPr b="0" lang="en-US" sz="2800" spc="-1" strike="noStrike">
              <a:solidFill>
                <a:srgbClr val="ffffff"/>
              </a:solidFill>
              <a:latin typeface="Arial"/>
            </a:endParaRPr>
          </a:p>
        </p:txBody>
      </p:sp>
      <p:pic>
        <p:nvPicPr>
          <p:cNvPr id="2437" name="" descr="">
            <a:hlinkClick r:id="rId2"/>
          </p:cNvPr>
          <p:cNvPicPr/>
          <p:nvPr/>
        </p:nvPicPr>
        <p:blipFill>
          <a:blip r:embed="rId3"/>
          <a:stretch/>
        </p:blipFill>
        <p:spPr>
          <a:xfrm>
            <a:off x="6858000" y="5533920"/>
            <a:ext cx="2286000" cy="1324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cient Greek Masks</a:t>
            </a:r>
            <a:endParaRPr b="0" lang="en-US" sz="4400" spc="-1" strike="noStrike">
              <a:solidFill>
                <a:srgbClr val="ffffff"/>
              </a:solidFill>
              <a:latin typeface="Arial"/>
            </a:endParaRPr>
          </a:p>
        </p:txBody>
      </p:sp>
      <p:sp>
        <p:nvSpPr>
          <p:cNvPr id="24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cient Greeks used masks to display different emotions and also where used as a makeshift megaphone from the build of it.</a:t>
            </a:r>
            <a:endParaRPr b="0" lang="en-US" sz="3200" spc="-1" strike="noStrike">
              <a:solidFill>
                <a:srgbClr val="ffffff"/>
              </a:solidFill>
              <a:latin typeface="Arial"/>
            </a:endParaRPr>
          </a:p>
        </p:txBody>
      </p:sp>
      <p:pic>
        <p:nvPicPr>
          <p:cNvPr id="2440" name="" descr=""/>
          <p:cNvPicPr/>
          <p:nvPr/>
        </p:nvPicPr>
        <p:blipFill>
          <a:blip r:embed="rId2"/>
          <a:stretch/>
        </p:blipFill>
        <p:spPr>
          <a:xfrm>
            <a:off x="6962760" y="3762360"/>
            <a:ext cx="2181240" cy="3095640"/>
          </a:xfrm>
          <a:prstGeom prst="rect">
            <a:avLst/>
          </a:prstGeom>
          <a:ln w="0">
            <a:noFill/>
          </a:ln>
        </p:spPr>
      </p:pic>
      <p:pic>
        <p:nvPicPr>
          <p:cNvPr id="2441" name="" descr="">
            <a:hlinkClick r:id="rId3"/>
          </p:cNvPr>
          <p:cNvPicPr/>
          <p:nvPr/>
        </p:nvPicPr>
        <p:blipFill>
          <a:blip r:embed="rId4"/>
          <a:stretch/>
        </p:blipFill>
        <p:spPr>
          <a:xfrm>
            <a:off x="7907400" y="0"/>
            <a:ext cx="1236600" cy="1752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cient Greek Plays</a:t>
            </a:r>
            <a:endParaRPr b="0" lang="en-US" sz="4400" spc="-1" strike="noStrike">
              <a:solidFill>
                <a:srgbClr val="e3e3ff"/>
              </a:solidFill>
              <a:latin typeface="Arial"/>
            </a:endParaRPr>
          </a:p>
        </p:txBody>
      </p:sp>
      <p:sp>
        <p:nvSpPr>
          <p:cNvPr id="24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cient Greek plays include: Oedipus Rex, Antigone, and also where just things that occurred naturally or something that had happened in someone's life, in other words plays represented the gods or someone else's lif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444" name="" descr=""/>
          <p:cNvPicPr/>
          <p:nvPr/>
        </p:nvPicPr>
        <p:blipFill>
          <a:blip r:embed="rId1"/>
          <a:stretch/>
        </p:blipFill>
        <p:spPr>
          <a:xfrm>
            <a:off x="0" y="0"/>
            <a:ext cx="9144000" cy="6858000"/>
          </a:xfrm>
          <a:prstGeom prst="rect">
            <a:avLst/>
          </a:prstGeom>
          <a:ln w="0">
            <a:noFill/>
          </a:ln>
        </p:spPr>
      </p:pic>
      <p:sp>
        <p:nvSpPr>
          <p:cNvPr id="24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Director </a:t>
            </a:r>
            <a:endParaRPr b="0" lang="en-US" sz="4200" spc="-1" strike="noStrike">
              <a:solidFill>
                <a:srgbClr val="ffffcc"/>
              </a:solidFill>
              <a:latin typeface="Tahoma"/>
            </a:endParaRPr>
          </a:p>
        </p:txBody>
      </p:sp>
      <p:sp>
        <p:nvSpPr>
          <p:cNvPr id="24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ter Seller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background actors </a:t>
            </a:r>
            <a:endParaRPr b="0" lang="en-US" sz="4400" spc="-1" strike="noStrike">
              <a:solidFill>
                <a:srgbClr val="ccecff"/>
              </a:solidFill>
              <a:latin typeface="Arial"/>
            </a:endParaRPr>
          </a:p>
        </p:txBody>
      </p:sp>
      <p:sp>
        <p:nvSpPr>
          <p:cNvPr id="24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towns people are a main part of the play without the background people the play would not look good.</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main actors may be the main thing that the crowd is watching, but the people in the back made the play look more realistic.</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edipus rex </a:t>
            </a:r>
            <a:endParaRPr b="0" lang="en-US" sz="4400" spc="-1" strike="noStrike">
              <a:solidFill>
                <a:srgbClr val="ffffff"/>
              </a:solidFill>
              <a:latin typeface="Arial"/>
            </a:endParaRPr>
          </a:p>
        </p:txBody>
      </p:sp>
      <p:sp>
        <p:nvSpPr>
          <p:cNvPr id="24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in actor of the play his name is Oedipus Rex. The actors real name is Philip Lang ridge. This is a pick of him. </a:t>
            </a:r>
            <a:endParaRPr b="0" lang="en-US" sz="3200" spc="-1" strike="noStrike">
              <a:solidFill>
                <a:srgbClr val="ffffff"/>
              </a:solidFill>
              <a:latin typeface="Arial"/>
            </a:endParaRPr>
          </a:p>
        </p:txBody>
      </p:sp>
      <p:pic>
        <p:nvPicPr>
          <p:cNvPr id="2451" name="" descr=""/>
          <p:cNvPicPr/>
          <p:nvPr/>
        </p:nvPicPr>
        <p:blipFill>
          <a:blip r:embed="rId2"/>
          <a:stretch/>
        </p:blipFill>
        <p:spPr>
          <a:xfrm>
            <a:off x="0" y="3352680"/>
            <a:ext cx="9144000" cy="3505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452" name="" descr=""/>
          <p:cNvPicPr/>
          <p:nvPr/>
        </p:nvPicPr>
        <p:blipFill>
          <a:blip r:embed="rId1"/>
          <a:stretch/>
        </p:blipFill>
        <p:spPr>
          <a:xfrm>
            <a:off x="0" y="304920"/>
            <a:ext cx="8686800" cy="5715000"/>
          </a:xfrm>
          <a:prstGeom prst="rect">
            <a:avLst/>
          </a:prstGeom>
          <a:ln w="0">
            <a:noFill/>
          </a:ln>
        </p:spPr>
      </p:pic>
      <p:sp>
        <p:nvSpPr>
          <p:cNvPr id="24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Greek costumes </a:t>
            </a:r>
            <a:endParaRPr b="0" lang="en-US" sz="4400" spc="-1" strike="noStrike">
              <a:solidFill>
                <a:srgbClr val="ccecff"/>
              </a:solidFill>
              <a:latin typeface="Arial"/>
            </a:endParaRPr>
          </a:p>
        </p:txBody>
      </p:sp>
      <p:sp>
        <p:nvSpPr>
          <p:cNvPr id="24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Verdana"/>
              </a:rPr>
              <a:t>Costumes have been a very important factor of the production, because they could determine the characters by gender or social status. In the early productions actors have been using body painting. Little by little they started using animal skins, ears, even feathers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2411" name="" descr=""/>
          <p:cNvPicPr/>
          <p:nvPr/>
        </p:nvPicPr>
        <p:blipFill>
          <a:blip r:embed="rId1"/>
          <a:stretch/>
        </p:blipFill>
        <p:spPr>
          <a:xfrm>
            <a:off x="0" y="1447920"/>
            <a:ext cx="9144000" cy="5715000"/>
          </a:xfrm>
          <a:prstGeom prst="rect">
            <a:avLst/>
          </a:prstGeom>
          <a:ln w="0">
            <a:noFill/>
          </a:ln>
        </p:spPr>
      </p:pic>
      <p:sp>
        <p:nvSpPr>
          <p:cNvPr id="24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This is called Gyros. This is the desert portion you will be getting.</a:t>
            </a:r>
            <a:r>
              <a:rPr b="0" lang="en-US" sz="4000" spc="-1" strike="noStrike">
                <a:solidFill>
                  <a:srgbClr val="ffffff"/>
                </a:solidFill>
                <a:latin typeface="Arial"/>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24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reek timeline </a:t>
            </a:r>
            <a:endParaRPr b="0" lang="en-US" sz="4400" spc="-1" strike="noStrike">
              <a:solidFill>
                <a:srgbClr val="ffffcc"/>
              </a:solidFill>
              <a:latin typeface="Tahoma"/>
            </a:endParaRPr>
          </a:p>
        </p:txBody>
      </p:sp>
      <p:sp>
        <p:nvSpPr>
          <p:cNvPr id="245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2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ahoma"/>
              </a:rPr>
              <a:t>7th Century BC</a:t>
            </a:r>
            <a:endParaRPr b="0" lang="en-US" sz="800" spc="-1" strike="noStrike">
              <a:solidFill>
                <a:srgbClr val="ffffff"/>
              </a:solidFill>
              <a:latin typeface="Tahoma"/>
            </a:endParaRPr>
          </a:p>
          <a:p>
            <a:pPr marL="339480" indent="-339480">
              <a:lnSpc>
                <a:spcPct val="80000"/>
              </a:lnSpc>
              <a:spcBef>
                <a:spcPts val="2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c. 625         </a:t>
            </a:r>
            <a:r>
              <a:rPr b="0" lang="en-US" sz="800" spc="-1" strike="noStrike" u="sng">
                <a:solidFill>
                  <a:srgbClr val="a3c145"/>
                </a:solidFill>
                <a:uFillTx/>
                <a:latin typeface="Tahoma"/>
                <a:hlinkClick r:id="rId1"/>
              </a:rPr>
              <a:t>Arion</a:t>
            </a:r>
            <a:r>
              <a:rPr b="0" lang="en-US" sz="800" spc="-1" strike="noStrike">
                <a:solidFill>
                  <a:srgbClr val="ffffff"/>
                </a:solidFill>
                <a:latin typeface="Tahoma"/>
              </a:rPr>
              <a:t> at Corinth produces named dithyrambic choruses.</a:t>
            </a:r>
            <a:br>
              <a:rPr sz="800"/>
            </a:br>
            <a:r>
              <a:rPr b="0" lang="en-US" sz="800" spc="-1" strike="noStrike">
                <a:solidFill>
                  <a:srgbClr val="ffffff"/>
                </a:solidFill>
                <a:latin typeface="Tahoma"/>
              </a:rPr>
              <a:t> </a:t>
            </a:r>
            <a:endParaRPr b="0" lang="en-US" sz="800" spc="-1" strike="noStrike">
              <a:solidFill>
                <a:srgbClr val="ffffff"/>
              </a:solidFill>
              <a:latin typeface="Tahoma"/>
            </a:endParaRPr>
          </a:p>
          <a:p>
            <a:pPr marL="339480" indent="-339480">
              <a:lnSpc>
                <a:spcPct val="80000"/>
              </a:lnSpc>
              <a:spcBef>
                <a:spcPts val="2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ahoma"/>
              </a:rPr>
              <a:t>6th Century BC</a:t>
            </a:r>
            <a:endParaRPr b="0" lang="en-US" sz="800" spc="-1" strike="noStrike">
              <a:solidFill>
                <a:srgbClr val="ffffff"/>
              </a:solidFill>
              <a:latin typeface="Tahoma"/>
            </a:endParaRPr>
          </a:p>
          <a:p>
            <a:pPr marL="339480" indent="-339480">
              <a:lnSpc>
                <a:spcPct val="80000"/>
              </a:lnSpc>
              <a:spcBef>
                <a:spcPts val="2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  </a:t>
            </a:r>
            <a:r>
              <a:rPr b="0" lang="en-US" sz="800" spc="-1" strike="noStrike">
                <a:solidFill>
                  <a:srgbClr val="ffffff"/>
                </a:solidFill>
                <a:latin typeface="Tahoma"/>
              </a:rPr>
              <a:t>600-570      </a:t>
            </a:r>
            <a:r>
              <a:rPr b="0" lang="en-US" sz="800" spc="-1" strike="noStrike" u="sng">
                <a:solidFill>
                  <a:srgbClr val="a3c145"/>
                </a:solidFill>
                <a:uFillTx/>
                <a:latin typeface="Tahoma"/>
                <a:hlinkClick r:id="rId2"/>
              </a:rPr>
              <a:t>Cleisthenes</a:t>
            </a:r>
            <a:r>
              <a:rPr b="0" lang="en-US" sz="800" spc="-1" strike="noStrike">
                <a:solidFill>
                  <a:srgbClr val="ffffff"/>
                </a:solidFill>
                <a:latin typeface="Tahoma"/>
              </a:rPr>
              <a:t>, tyrant of Sicyon, transfers "tragic choruses" to Dionysus</a:t>
            </a:r>
            <a:br>
              <a:rPr sz="800"/>
            </a:br>
            <a:r>
              <a:rPr b="0" lang="en-US" sz="800" spc="-1" strike="noStrike">
                <a:solidFill>
                  <a:srgbClr val="ffffff"/>
                </a:solidFill>
                <a:latin typeface="Tahoma"/>
              </a:rPr>
              <a:t>  540-527      Pisistratus, tyrant of Athens, founds the festival of the Greater Dionysia</a:t>
            </a:r>
            <a:br>
              <a:rPr sz="800"/>
            </a:br>
            <a:r>
              <a:rPr b="0" lang="en-US" sz="800" spc="-1" strike="noStrike">
                <a:solidFill>
                  <a:srgbClr val="ffffff"/>
                </a:solidFill>
                <a:latin typeface="Tahoma"/>
              </a:rPr>
              <a:t>  536-533      </a:t>
            </a:r>
            <a:r>
              <a:rPr b="0" lang="en-US" sz="800" spc="-1" strike="noStrike" u="sng">
                <a:solidFill>
                  <a:srgbClr val="a3c145"/>
                </a:solidFill>
                <a:uFillTx/>
                <a:latin typeface="Tahoma"/>
                <a:hlinkClick r:id="rId3"/>
              </a:rPr>
              <a:t>Thespis</a:t>
            </a:r>
            <a:r>
              <a:rPr b="0" lang="en-US" sz="800" spc="-1" strike="noStrike">
                <a:solidFill>
                  <a:srgbClr val="ffffff"/>
                </a:solidFill>
                <a:latin typeface="Tahoma"/>
              </a:rPr>
              <a:t> puts on tragedy at festival of the Greater Dionysia in Athens</a:t>
            </a:r>
            <a:br>
              <a:rPr sz="800"/>
            </a:br>
            <a:r>
              <a:rPr b="0" lang="en-US" sz="800" spc="-1" strike="noStrike">
                <a:solidFill>
                  <a:srgbClr val="ffffff"/>
                </a:solidFill>
                <a:latin typeface="Tahoma"/>
              </a:rPr>
              <a:t>  525         </a:t>
            </a:r>
            <a:r>
              <a:rPr b="0" lang="en-US" sz="800" spc="-1" strike="noStrike" u="sng">
                <a:solidFill>
                  <a:srgbClr val="a3c145"/>
                </a:solidFill>
                <a:uFillTx/>
                <a:latin typeface="Tahoma"/>
                <a:hlinkClick r:id="rId4"/>
              </a:rPr>
              <a:t>Aeschylus</a:t>
            </a:r>
            <a:r>
              <a:rPr b="0" lang="en-US" sz="800" spc="-1" strike="noStrike">
                <a:solidFill>
                  <a:srgbClr val="ffffff"/>
                </a:solidFill>
                <a:latin typeface="Tahoma"/>
              </a:rPr>
              <a:t> born</a:t>
            </a:r>
            <a:br>
              <a:rPr sz="800"/>
            </a:br>
            <a:r>
              <a:rPr b="0" lang="en-US" sz="800" spc="-1" strike="noStrike">
                <a:solidFill>
                  <a:srgbClr val="ffffff"/>
                </a:solidFill>
                <a:latin typeface="Tahoma"/>
              </a:rPr>
              <a:t>  511-508      Phrynichus' first victory in tragedy</a:t>
            </a:r>
            <a:br>
              <a:rPr sz="800"/>
            </a:br>
            <a:r>
              <a:rPr b="0" lang="en-US" sz="800" spc="-1" strike="noStrike">
                <a:solidFill>
                  <a:srgbClr val="ffffff"/>
                </a:solidFill>
                <a:latin typeface="Tahoma"/>
              </a:rPr>
              <a:t>c. 500         Pratinus of Phlius introduces the satyr play to Athens</a:t>
            </a:r>
            <a:endParaRPr b="0" lang="en-US" sz="800" spc="-1" strike="noStrike">
              <a:solidFill>
                <a:srgbClr val="ffffff"/>
              </a:solidFill>
              <a:latin typeface="Tahoma"/>
            </a:endParaRPr>
          </a:p>
          <a:p>
            <a:pPr marL="339480" indent="-339480">
              <a:lnSpc>
                <a:spcPct val="80000"/>
              </a:lnSpc>
              <a:spcBef>
                <a:spcPts val="2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ahoma"/>
              </a:rPr>
              <a:t>5th Century BC</a:t>
            </a:r>
            <a:endParaRPr b="0" lang="en-US" sz="800" spc="-1" strike="noStrike">
              <a:solidFill>
                <a:srgbClr val="ffffff"/>
              </a:solidFill>
              <a:latin typeface="Tahoma"/>
            </a:endParaRPr>
          </a:p>
          <a:p>
            <a:pPr marL="339480" indent="-339480">
              <a:lnSpc>
                <a:spcPct val="80000"/>
              </a:lnSpc>
              <a:spcBef>
                <a:spcPts val="2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  </a:t>
            </a:r>
            <a:r>
              <a:rPr b="0" lang="en-US" sz="800" spc="-1" strike="noStrike">
                <a:solidFill>
                  <a:srgbClr val="ffffff"/>
                </a:solidFill>
                <a:latin typeface="Tahoma"/>
              </a:rPr>
              <a:t>499-496      Aeschylus' first dramatic competition</a:t>
            </a:r>
            <a:br>
              <a:rPr sz="800"/>
            </a:br>
            <a:r>
              <a:rPr b="0" lang="en-US" sz="800" spc="-1" strike="noStrike">
                <a:solidFill>
                  <a:srgbClr val="ffffff"/>
                </a:solidFill>
                <a:latin typeface="Tahoma"/>
              </a:rPr>
              <a:t>c. 496         </a:t>
            </a:r>
            <a:r>
              <a:rPr b="0" lang="en-US" sz="800" spc="-1" strike="noStrike" u="sng">
                <a:solidFill>
                  <a:srgbClr val="a3c145"/>
                </a:solidFill>
                <a:uFillTx/>
                <a:latin typeface="Tahoma"/>
                <a:hlinkClick r:id="rId5"/>
              </a:rPr>
              <a:t>Sophocles</a:t>
            </a:r>
            <a:r>
              <a:rPr b="0" lang="en-US" sz="800" spc="-1" strike="noStrike">
                <a:solidFill>
                  <a:srgbClr val="ffffff"/>
                </a:solidFill>
                <a:latin typeface="Tahoma"/>
              </a:rPr>
              <a:t> born</a:t>
            </a:r>
            <a:br>
              <a:rPr sz="800"/>
            </a:br>
            <a:r>
              <a:rPr b="0" lang="en-US" sz="800" spc="-1" strike="noStrike">
                <a:solidFill>
                  <a:srgbClr val="ffffff"/>
                </a:solidFill>
                <a:latin typeface="Tahoma"/>
              </a:rPr>
              <a:t>  492         Phrynicus' Capture of Miletus (Miletus was captured by the Persians in 494)</a:t>
            </a:r>
            <a:br>
              <a:rPr sz="800"/>
            </a:br>
            <a:r>
              <a:rPr b="0" lang="en-US" sz="800" spc="-1" strike="noStrike">
                <a:solidFill>
                  <a:srgbClr val="ffffff"/>
                </a:solidFill>
                <a:latin typeface="Tahoma"/>
              </a:rPr>
              <a:t>  485         Euripides born</a:t>
            </a:r>
            <a:br>
              <a:rPr sz="800"/>
            </a:br>
            <a:r>
              <a:rPr b="0" lang="en-US" sz="800" spc="-1" strike="noStrike">
                <a:solidFill>
                  <a:srgbClr val="ffffff"/>
                </a:solidFill>
                <a:latin typeface="Tahoma"/>
              </a:rPr>
              <a:t>  484         Aeschylus' first dramatic victory</a:t>
            </a:r>
            <a:br>
              <a:rPr sz="800"/>
            </a:br>
            <a:r>
              <a:rPr b="0" lang="en-US" sz="800" spc="-1" strike="noStrike">
                <a:solidFill>
                  <a:srgbClr val="ffffff"/>
                </a:solidFill>
                <a:latin typeface="Tahoma"/>
              </a:rPr>
              <a:t>  472         Aeschylus' Persians</a:t>
            </a:r>
            <a:br>
              <a:rPr sz="800"/>
            </a:br>
            <a:r>
              <a:rPr b="0" lang="en-US" sz="800" spc="-1" strike="noStrike">
                <a:solidFill>
                  <a:srgbClr val="ffffff"/>
                </a:solidFill>
                <a:latin typeface="Tahoma"/>
              </a:rPr>
              <a:t>  467         Aeschylus' Seven Against Thebes</a:t>
            </a:r>
            <a:br>
              <a:rPr sz="800"/>
            </a:br>
            <a:r>
              <a:rPr b="0" lang="en-US" sz="800" spc="-1" strike="noStrike">
                <a:solidFill>
                  <a:srgbClr val="ffffff"/>
                </a:solidFill>
                <a:latin typeface="Tahoma"/>
              </a:rPr>
              <a:t>  468         Aeschylus defeated by Sophocles in dramatic competition</a:t>
            </a:r>
            <a:br>
              <a:rPr sz="800"/>
            </a:br>
            <a:r>
              <a:rPr b="0" lang="en-US" sz="800" spc="-1" strike="noStrike">
                <a:solidFill>
                  <a:srgbClr val="ffffff"/>
                </a:solidFill>
                <a:latin typeface="Tahoma"/>
              </a:rPr>
              <a:t>  463?        Aeschylus' Suppliant Women</a:t>
            </a:r>
            <a:br>
              <a:rPr sz="800"/>
            </a:br>
            <a:r>
              <a:rPr b="0" lang="en-US" sz="800" spc="-1" strike="noStrike">
                <a:solidFill>
                  <a:srgbClr val="ffffff"/>
                </a:solidFill>
                <a:latin typeface="Tahoma"/>
              </a:rPr>
              <a:t>  458         Aeschylus' </a:t>
            </a:r>
            <a:r>
              <a:rPr b="1" lang="en-US" sz="800" spc="-1" strike="noStrike">
                <a:solidFill>
                  <a:srgbClr val="ffffff"/>
                </a:solidFill>
                <a:latin typeface="Tahoma"/>
              </a:rPr>
              <a:t>Oresteia</a:t>
            </a:r>
            <a:r>
              <a:rPr b="0" lang="en-US" sz="800" spc="-1" strike="noStrike">
                <a:solidFill>
                  <a:srgbClr val="ffffff"/>
                </a:solidFill>
                <a:latin typeface="Tahoma"/>
              </a:rPr>
              <a:t> (Agamemnon, Libation Bearers, Eumenides)   </a:t>
            </a:r>
            <a:br>
              <a:rPr sz="800"/>
            </a:br>
            <a:r>
              <a:rPr b="0" lang="en-US" sz="800" spc="-1" strike="noStrike">
                <a:solidFill>
                  <a:srgbClr val="ffffff"/>
                </a:solidFill>
                <a:latin typeface="Tahoma"/>
              </a:rPr>
              <a:t>  456         Aeschylus dies</a:t>
            </a:r>
            <a:br>
              <a:rPr sz="800"/>
            </a:br>
            <a:r>
              <a:rPr b="0" lang="en-US" sz="800" spc="-1" strike="noStrike">
                <a:solidFill>
                  <a:srgbClr val="ffffff"/>
                </a:solidFill>
                <a:latin typeface="Tahoma"/>
              </a:rPr>
              <a:t>c. 450         Aristophanes born</a:t>
            </a:r>
            <a:br>
              <a:rPr sz="800"/>
            </a:br>
            <a:r>
              <a:rPr b="0" lang="en-US" sz="800" spc="-1" strike="noStrike">
                <a:solidFill>
                  <a:srgbClr val="ffffff"/>
                </a:solidFill>
                <a:latin typeface="Tahoma"/>
              </a:rPr>
              <a:t>  447         Parthenon begun in Athens</a:t>
            </a:r>
            <a:br>
              <a:rPr sz="800"/>
            </a:br>
            <a:r>
              <a:rPr b="0" lang="en-US" sz="800" spc="-1" strike="noStrike">
                <a:solidFill>
                  <a:srgbClr val="ffffff"/>
                </a:solidFill>
                <a:latin typeface="Tahoma"/>
              </a:rPr>
              <a:t>c. 445         Sophocles' Ajax</a:t>
            </a:r>
            <a:br>
              <a:rPr sz="800"/>
            </a:br>
            <a:r>
              <a:rPr b="0" lang="en-US" sz="800" spc="-1" strike="noStrike">
                <a:solidFill>
                  <a:srgbClr val="ffffff"/>
                </a:solidFill>
                <a:latin typeface="Tahoma"/>
              </a:rPr>
              <a:t>  441         Sophocles' </a:t>
            </a:r>
            <a:r>
              <a:rPr b="1" lang="en-US" sz="800" spc="-1" strike="noStrike">
                <a:solidFill>
                  <a:srgbClr val="ffffff"/>
                </a:solidFill>
                <a:latin typeface="Tahoma"/>
              </a:rPr>
              <a:t>Antigone</a:t>
            </a:r>
            <a:br>
              <a:rPr sz="800"/>
            </a:br>
            <a:r>
              <a:rPr b="0" lang="en-US" sz="800" spc="-1" strike="noStrike">
                <a:solidFill>
                  <a:srgbClr val="ffffff"/>
                </a:solidFill>
                <a:latin typeface="Tahoma"/>
              </a:rPr>
              <a:t>  438         Euripides' Alcestis</a:t>
            </a:r>
            <a:br>
              <a:rPr sz="800"/>
            </a:br>
            <a:r>
              <a:rPr b="0" lang="en-US" sz="800" spc="-1" strike="noStrike">
                <a:solidFill>
                  <a:srgbClr val="ffffff"/>
                </a:solidFill>
                <a:latin typeface="Tahoma"/>
              </a:rPr>
              <a:t>  431-404      Peloponnesian War (Athens and allies vs. Sparta and allies)</a:t>
            </a:r>
            <a:br>
              <a:rPr sz="800"/>
            </a:br>
            <a:r>
              <a:rPr b="0" lang="en-US" sz="800" spc="-1" strike="noStrike">
                <a:solidFill>
                  <a:srgbClr val="ffffff"/>
                </a:solidFill>
                <a:latin typeface="Tahoma"/>
              </a:rPr>
              <a:t>  431         Euripides' Medea</a:t>
            </a:r>
            <a:br>
              <a:rPr sz="800"/>
            </a:br>
            <a:r>
              <a:rPr b="0" lang="en-US" sz="800" spc="-1" strike="noStrike">
                <a:solidFill>
                  <a:srgbClr val="ffffff"/>
                </a:solidFill>
                <a:latin typeface="Tahoma"/>
              </a:rPr>
              <a:t>c. 429         Sophocles' </a:t>
            </a:r>
            <a:r>
              <a:rPr b="1" lang="en-US" sz="800" spc="-1" strike="noStrike">
                <a:solidFill>
                  <a:srgbClr val="ffffff"/>
                </a:solidFill>
                <a:latin typeface="Tahoma"/>
              </a:rPr>
              <a:t>Oedipus the King</a:t>
            </a:r>
            <a:br>
              <a:rPr sz="800"/>
            </a:br>
            <a:r>
              <a:rPr b="0" lang="en-US" sz="800" spc="-1" strike="noStrike">
                <a:solidFill>
                  <a:srgbClr val="ffffff"/>
                </a:solidFill>
                <a:latin typeface="Tahoma"/>
              </a:rPr>
              <a:t>  428         Euripides' Hippolytus</a:t>
            </a:r>
            <a:br>
              <a:rPr sz="800"/>
            </a:br>
            <a:r>
              <a:rPr b="0" lang="en-US" sz="800" spc="-1" strike="noStrike">
                <a:solidFill>
                  <a:srgbClr val="ffffff"/>
                </a:solidFill>
                <a:latin typeface="Tahoma"/>
              </a:rPr>
              <a:t>  423         Aristophanes' </a:t>
            </a:r>
            <a:r>
              <a:rPr b="1" lang="en-US" sz="800" spc="-1" strike="noStrike">
                <a:solidFill>
                  <a:srgbClr val="ffffff"/>
                </a:solidFill>
                <a:latin typeface="Tahoma"/>
              </a:rPr>
              <a:t>Clouds</a:t>
            </a:r>
            <a:br>
              <a:rPr sz="800"/>
            </a:br>
            <a:r>
              <a:rPr b="0" lang="en-US" sz="800" spc="-1" strike="noStrike">
                <a:solidFill>
                  <a:srgbClr val="ffffff"/>
                </a:solidFill>
                <a:latin typeface="Tahoma"/>
              </a:rPr>
              <a:t>  415         Euripides' Trojan Women</a:t>
            </a:r>
            <a:br>
              <a:rPr sz="800"/>
            </a:br>
            <a:r>
              <a:rPr b="0" lang="en-US" sz="800" spc="-1" strike="noStrike">
                <a:solidFill>
                  <a:srgbClr val="ffffff"/>
                </a:solidFill>
                <a:latin typeface="Tahoma"/>
              </a:rPr>
              <a:t>  406         Euripides dies; Sophocles dies</a:t>
            </a:r>
            <a:br>
              <a:rPr sz="800"/>
            </a:br>
            <a:r>
              <a:rPr b="0" lang="en-US" sz="800" spc="-1" strike="noStrike">
                <a:solidFill>
                  <a:srgbClr val="ffffff"/>
                </a:solidFill>
                <a:latin typeface="Tahoma"/>
              </a:rPr>
              <a:t>  405         Euripides' </a:t>
            </a:r>
            <a:r>
              <a:rPr b="1" lang="en-US" sz="800" spc="-1" strike="noStrike">
                <a:solidFill>
                  <a:srgbClr val="ffffff"/>
                </a:solidFill>
                <a:latin typeface="Tahoma"/>
              </a:rPr>
              <a:t>Bacchae</a:t>
            </a:r>
            <a:br>
              <a:rPr sz="800"/>
            </a:br>
            <a:r>
              <a:rPr b="0" lang="en-US" sz="800" spc="-1" strike="noStrike">
                <a:solidFill>
                  <a:srgbClr val="ffffff"/>
                </a:solidFill>
                <a:latin typeface="Tahoma"/>
              </a:rPr>
              <a:t>  404         Athens loses Peloponnesian War to Sparta</a:t>
            </a:r>
            <a:br>
              <a:rPr sz="800"/>
            </a:br>
            <a:r>
              <a:rPr b="0" lang="en-US" sz="800" spc="-1" strike="noStrike">
                <a:solidFill>
                  <a:srgbClr val="ffffff"/>
                </a:solidFill>
                <a:latin typeface="Tahoma"/>
              </a:rPr>
              <a:t>  401         Sophocles' Oedipus at Colonus</a:t>
            </a:r>
            <a:br>
              <a:rPr sz="800"/>
            </a:br>
            <a:r>
              <a:rPr b="0" lang="en-US" sz="800" spc="-1" strike="noStrike">
                <a:solidFill>
                  <a:srgbClr val="ffffff"/>
                </a:solidFill>
                <a:latin typeface="Tahoma"/>
              </a:rPr>
              <a:t> </a:t>
            </a:r>
            <a:endParaRPr b="0" lang="en-US" sz="800" spc="-1" strike="noStrike">
              <a:solidFill>
                <a:srgbClr val="ffffff"/>
              </a:solidFill>
              <a:latin typeface="Tahoma"/>
            </a:endParaRPr>
          </a:p>
          <a:p>
            <a:pPr marL="339480" indent="-339480">
              <a:lnSpc>
                <a:spcPct val="80000"/>
              </a:lnSpc>
              <a:spcBef>
                <a:spcPts val="2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ahoma"/>
              </a:rPr>
              <a:t>4th Century BC</a:t>
            </a:r>
            <a:endParaRPr b="0" lang="en-US" sz="800" spc="-1" strike="noStrike">
              <a:solidFill>
                <a:srgbClr val="ffffff"/>
              </a:solidFill>
              <a:latin typeface="Tahoma"/>
            </a:endParaRPr>
          </a:p>
          <a:p>
            <a:pPr marL="339480" indent="-339480">
              <a:lnSpc>
                <a:spcPct val="80000"/>
              </a:lnSpc>
              <a:spcBef>
                <a:spcPts val="2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  </a:t>
            </a:r>
            <a:r>
              <a:rPr b="0" lang="en-US" sz="800" spc="-1" strike="noStrike">
                <a:solidFill>
                  <a:srgbClr val="ffffff"/>
                </a:solidFill>
                <a:latin typeface="Tahoma"/>
              </a:rPr>
              <a:t>399          Trial and death of Socrates</a:t>
            </a:r>
            <a:br>
              <a:rPr sz="800"/>
            </a:br>
            <a:r>
              <a:rPr b="0" lang="en-US" sz="800" spc="-1" strike="noStrike">
                <a:solidFill>
                  <a:srgbClr val="ffffff"/>
                </a:solidFill>
                <a:latin typeface="Tahoma"/>
              </a:rPr>
              <a:t>c. 380's        Plato's </a:t>
            </a:r>
            <a:r>
              <a:rPr b="1" lang="en-US" sz="800" spc="-1" strike="noStrike">
                <a:solidFill>
                  <a:srgbClr val="ffffff"/>
                </a:solidFill>
                <a:latin typeface="Tahoma"/>
              </a:rPr>
              <a:t>Republic</a:t>
            </a:r>
            <a:r>
              <a:rPr b="0" lang="en-US" sz="800" spc="-1" strike="noStrike">
                <a:solidFill>
                  <a:srgbClr val="ffffff"/>
                </a:solidFill>
                <a:latin typeface="Tahoma"/>
              </a:rPr>
              <a:t> includes critique of Greek tragedy and comedy</a:t>
            </a:r>
            <a:br>
              <a:rPr sz="800"/>
            </a:br>
            <a:r>
              <a:rPr b="0" lang="en-US" sz="800" spc="-1" strike="noStrike">
                <a:solidFill>
                  <a:srgbClr val="ffffff"/>
                </a:solidFill>
                <a:latin typeface="Tahoma"/>
              </a:rPr>
              <a:t>c. 330's        Aristotle's </a:t>
            </a:r>
            <a:r>
              <a:rPr b="1" lang="en-US" sz="800" spc="-1" strike="noStrike">
                <a:solidFill>
                  <a:srgbClr val="ffffff"/>
                </a:solidFill>
                <a:latin typeface="Tahoma"/>
              </a:rPr>
              <a:t>Poetics</a:t>
            </a:r>
            <a:r>
              <a:rPr b="0" lang="en-US" sz="800" spc="-1" strike="noStrike">
                <a:solidFill>
                  <a:srgbClr val="ffffff"/>
                </a:solidFill>
                <a:latin typeface="Tahoma"/>
              </a:rPr>
              <a:t> includes defense of Greek tragedy and comedy</a:t>
            </a:r>
            <a:br>
              <a:rPr sz="800"/>
            </a:br>
            <a:r>
              <a:rPr b="0" lang="en-US" sz="800" spc="-1" strike="noStrike">
                <a:solidFill>
                  <a:srgbClr val="ffffff"/>
                </a:solidFill>
                <a:latin typeface="Tahoma"/>
              </a:rPr>
              <a:t> </a:t>
            </a: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4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Greek masks</a:t>
            </a:r>
            <a:endParaRPr b="0" lang="en-US" sz="4400" spc="-1" strike="noStrike">
              <a:solidFill>
                <a:srgbClr val="ffff99"/>
              </a:solidFill>
              <a:latin typeface="Arial"/>
            </a:endParaRPr>
          </a:p>
        </p:txBody>
      </p:sp>
      <p:sp>
        <p:nvSpPr>
          <p:cNvPr id="24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reasons that Greek theatrical masks were worn by the actors of ancient Greek plays included things like visibility. </a:t>
            </a:r>
            <a:endParaRPr b="0" lang="en-US" sz="2000" spc="-1" strike="noStrike">
              <a:solidFill>
                <a:srgbClr val="ffffff"/>
              </a:solidFill>
              <a:latin typeface="Verdan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ecause the plays were often performed in large outdoor amphitheaters, it was difficult to see the details of the actor's face. </a:t>
            </a:r>
            <a:endParaRPr b="0" lang="en-US" sz="2000" spc="-1" strike="noStrike">
              <a:solidFill>
                <a:srgbClr val="ffffff"/>
              </a:solidFill>
              <a:latin typeface="Verdan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masks also helped with acoustics, making the actors easier to hear in the large theaters. </a:t>
            </a:r>
            <a:endParaRPr b="0" lang="en-US" sz="2000" spc="-1" strike="noStrike">
              <a:solidFill>
                <a:srgbClr val="ffffff"/>
              </a:solidFill>
              <a:latin typeface="Verdan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nother good reason for the use of these masks were so that they did not need a lot of people for the play. An actor could play several parts when using masks for each different character. Another use for the masks was to aid in characterization. Characters could be exaggerated and easy to tell apart with the use of mask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5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Oedipus rex</a:t>
            </a:r>
            <a:endParaRPr b="1" lang="en-US" sz="4400" spc="-1" strike="noStrike">
              <a:solidFill>
                <a:srgbClr val="ffffb7"/>
              </a:solidFill>
              <a:latin typeface="Arial Black"/>
            </a:endParaRPr>
          </a:p>
        </p:txBody>
      </p:sp>
      <p:sp>
        <p:nvSpPr>
          <p:cNvPr id="246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edipus (protagonist)……………………………………………………………..…………..…..Alex Cikra </a:t>
            </a:r>
            <a:endParaRPr b="0" lang="en-US" sz="1200" spc="-1" strike="noStrike">
              <a:solidFill>
                <a:srgbClr val="ffffff"/>
              </a:solidFill>
              <a:latin typeface="Arial"/>
            </a:endParaRPr>
          </a:p>
          <a:p>
            <a:pPr marL="343080" indent="-343080">
              <a:lnSpc>
                <a:spcPct val="80000"/>
              </a:lnSpc>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uteragonist (iokasta, shepherd, messenger) ……………………………........................Marianne Nagel*</a:t>
            </a:r>
            <a:endParaRPr b="0" lang="en-US" sz="1200" spc="-1" strike="noStrike">
              <a:solidFill>
                <a:srgbClr val="ffffff"/>
              </a:solidFill>
              <a:latin typeface="Arial"/>
            </a:endParaRPr>
          </a:p>
          <a:p>
            <a:pPr marL="343080" indent="-343080">
              <a:lnSpc>
                <a:spcPct val="80000"/>
              </a:lnSpc>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itagonist (kreon, teiresias, korinthian emissary) …………………....................….….Wayne S. Turney*</a:t>
            </a:r>
            <a:endParaRPr b="0" lang="en-US" sz="1200" spc="-1" strike="noStrike">
              <a:solidFill>
                <a:srgbClr val="ffffff"/>
              </a:solidFill>
              <a:latin typeface="Arial"/>
            </a:endParaRPr>
          </a:p>
          <a:p>
            <a:pPr marL="343080" indent="-343080">
              <a:lnSpc>
                <a:spcPct val="80000"/>
              </a:lnSpc>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horegos ………………………………………………………………………….…...….…..Michael Roache </a:t>
            </a:r>
            <a:endParaRPr b="0" lang="en-US" sz="1200" spc="-1" strike="noStrike">
              <a:solidFill>
                <a:srgbClr val="ffffff"/>
              </a:solidFill>
              <a:latin typeface="Arial"/>
            </a:endParaRPr>
          </a:p>
          <a:p>
            <a:pPr marL="343080" indent="-343080">
              <a:lnSpc>
                <a:spcPct val="80000"/>
              </a:lnSpc>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horos ………………………………………………………………………………..……..…..Leonard Goff </a:t>
            </a:r>
            <a:endParaRPr b="0" lang="en-US" sz="1200" spc="-1" strike="noStrike">
              <a:solidFill>
                <a:srgbClr val="ffffff"/>
              </a:solidFill>
              <a:latin typeface="Arial"/>
            </a:endParaRPr>
          </a:p>
          <a:p>
            <a:pPr marL="343080" indent="-343080">
              <a:lnSpc>
                <a:spcPct val="80000"/>
              </a:lnSpc>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r>
              <a:rPr b="1" lang="en-US" sz="1200" spc="-1" strike="noStrike">
                <a:solidFill>
                  <a:srgbClr val="ffffff"/>
                </a:solidFill>
                <a:latin typeface="Arial"/>
              </a:rPr>
              <a:t>......................……....…….Kera Reilly </a:t>
            </a:r>
            <a:endParaRPr b="0" lang="en-US" sz="1200" spc="-1" strike="noStrike">
              <a:solidFill>
                <a:srgbClr val="ffffff"/>
              </a:solidFill>
              <a:latin typeface="Arial"/>
            </a:endParaRPr>
          </a:p>
          <a:p>
            <a:pPr marL="343080" indent="-343080">
              <a:lnSpc>
                <a:spcPct val="80000"/>
              </a:lnSpc>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r>
              <a:rPr b="1" lang="en-US" sz="1200" spc="-1" strike="noStrike">
                <a:solidFill>
                  <a:srgbClr val="ffffff"/>
                </a:solidFill>
                <a:latin typeface="Arial"/>
              </a:rPr>
              <a:t>....................…….Johnathan Wray</a:t>
            </a:r>
            <a:endParaRPr b="0" lang="en-US" sz="1200" spc="-1" strike="noStrike">
              <a:solidFill>
                <a:srgbClr val="ffffff"/>
              </a:solidFill>
              <a:latin typeface="Arial"/>
            </a:endParaRPr>
          </a:p>
          <a:p>
            <a:pPr marL="343080" indent="-343080">
              <a:lnSpc>
                <a:spcPct val="80000"/>
              </a:lnSpc>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r>
              <a:rPr b="1" lang="en-US" sz="1200" spc="-1" strike="noStrike">
                <a:solidFill>
                  <a:srgbClr val="ffffff"/>
                </a:solidFill>
                <a:latin typeface="Arial"/>
              </a:rPr>
              <a:t>..…….....................…….…AlexandraTthackaberry</a:t>
            </a:r>
            <a:endParaRPr b="0" lang="en-US" sz="1200" spc="-1" strike="noStrike">
              <a:solidFill>
                <a:srgbClr val="ffffff"/>
              </a:solidFill>
              <a:latin typeface="Arial"/>
            </a:endParaRPr>
          </a:p>
          <a:p>
            <a:pPr marL="343080" indent="-343080">
              <a:lnSpc>
                <a:spcPct val="80000"/>
              </a:lnSpc>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r>
              <a:rPr b="1" lang="en-US" sz="1200" spc="-1" strike="noStrike">
                <a:solidFill>
                  <a:srgbClr val="ffffff"/>
                </a:solidFill>
                <a:latin typeface="Arial"/>
              </a:rPr>
              <a:t>....................................................................................................................................……..Devon.Stanley</a:t>
            </a:r>
            <a:endParaRPr b="0" lang="en-US" sz="1200" spc="-1" strike="noStrike">
              <a:solidFill>
                <a:srgbClr val="ffffff"/>
              </a:solidFill>
              <a:latin typeface="Arial"/>
            </a:endParaRPr>
          </a:p>
          <a:p>
            <a:pPr marL="343080" indent="-343080">
              <a:lnSpc>
                <a:spcPct val="80000"/>
              </a:lnSpc>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r>
              <a:rPr b="1" lang="en-US" sz="1200" spc="-1" strike="noStrike">
                <a:solidFill>
                  <a:srgbClr val="ffffff"/>
                </a:solidFill>
                <a:latin typeface="Arial"/>
              </a:rPr>
              <a:t>...................................................................................................….............................…..Matthew McDermott</a:t>
            </a:r>
            <a:endParaRPr b="0" lang="en-US" sz="1200" spc="-1" strike="noStrike">
              <a:solidFill>
                <a:srgbClr val="ffffff"/>
              </a:solidFill>
              <a:latin typeface="Arial"/>
            </a:endParaRPr>
          </a:p>
          <a:p>
            <a:pPr marL="343080" indent="-343080">
              <a:lnSpc>
                <a:spcPct val="80000"/>
              </a:lnSpc>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r>
              <a:rPr b="1" lang="en-US" sz="1200" spc="-1" strike="noStrike">
                <a:solidFill>
                  <a:srgbClr val="ffffff"/>
                </a:solidFill>
                <a:latin typeface="Arial"/>
              </a:rPr>
              <a:t>..........................................................................................................…............................…..Marci Paolucci</a:t>
            </a:r>
            <a:endParaRPr b="0" lang="en-US" sz="1200" spc="-1" strike="noStrike">
              <a:solidFill>
                <a:srgbClr val="ffffff"/>
              </a:solidFill>
              <a:latin typeface="Arial"/>
            </a:endParaRPr>
          </a:p>
          <a:p>
            <a:pPr marL="343080" indent="-343080">
              <a:lnSpc>
                <a:spcPct val="80000"/>
              </a:lnSpc>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iresias’ boy, antigone ………………………………........………………………....…………..Josh Ssebo</a:t>
            </a:r>
            <a:endParaRPr b="0" lang="en-US" sz="1200" spc="-1" strike="noStrike">
              <a:solidFill>
                <a:srgbClr val="ffffff"/>
              </a:solidFill>
              <a:latin typeface="Arial"/>
            </a:endParaRPr>
          </a:p>
          <a:p>
            <a:pPr marL="343080" indent="-343080">
              <a:lnSpc>
                <a:spcPct val="80000"/>
              </a:lnSpc>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smene …………………………………………………………....………………………....…..Claire Violand</a:t>
            </a:r>
            <a:endParaRPr b="0" lang="en-US" sz="1200" spc="-1" strike="noStrike">
              <a:solidFill>
                <a:srgbClr val="ffffff"/>
              </a:solidFill>
              <a:latin typeface="Arial"/>
            </a:endParaRPr>
          </a:p>
          <a:p>
            <a:pPr marL="343080" indent="-343080">
              <a:lnSpc>
                <a:spcPct val="80000"/>
              </a:lnSpc>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he lines of the priest were divided among the khoregos and the kho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2461" name="" descr=""/>
          <p:cNvPicPr/>
          <p:nvPr/>
        </p:nvPicPr>
        <p:blipFill>
          <a:blip r:embed="rId1"/>
          <a:stretch/>
        </p:blipFill>
        <p:spPr>
          <a:xfrm>
            <a:off x="0" y="0"/>
            <a:ext cx="9296280" cy="6858000"/>
          </a:xfrm>
          <a:prstGeom prst="rect">
            <a:avLst/>
          </a:prstGeom>
          <a:ln w="0">
            <a:noFill/>
          </a:ln>
        </p:spPr>
      </p:pic>
      <p:sp>
        <p:nvSpPr>
          <p:cNvPr id="24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he play</a:t>
            </a:r>
            <a:endParaRPr b="0" lang="en-US" sz="4400" spc="-1" strike="noStrike">
              <a:solidFill>
                <a:srgbClr val="dbbd71"/>
              </a:solidFill>
              <a:latin typeface="Arial"/>
            </a:endParaRPr>
          </a:p>
        </p:txBody>
      </p:sp>
      <p:sp>
        <p:nvSpPr>
          <p:cNvPr id="24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redits </a:t>
            </a:r>
            <a:endParaRPr b="0" lang="en-US" sz="4400" spc="-1" strike="noStrike">
              <a:solidFill>
                <a:srgbClr val="ffffcc"/>
              </a:solidFill>
              <a:latin typeface="Tahoma"/>
            </a:endParaRPr>
          </a:p>
        </p:txBody>
      </p:sp>
      <p:sp>
        <p:nvSpPr>
          <p:cNvPr id="24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oogle</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ng</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rs. king</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ncakes </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lo </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so like to thank chocolate with it nothing would be possible…………..except bab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path" presetID="0">
                                  <p:stCondLst>
                                    <p:cond delay="0"/>
                                  </p:stCondLst>
                                  <p:childTnLst>
                                    <p:animMotion origin="layout" path="M 0 0 C 0.00816 0.00809 0.0158 0.01896 0.02552 0.02312 C 0.03229 0.0356 0.04201 0.04393 0.05243 0.05063 C 0.0566 0.05641 0.06111 0.05664 0.06667 0.05919 C 0.0809 0.05849 0.09531 0.05826 0.10955 0.05711 C 0.11858 0.05641 0.12812 0.04763 0.13663 0.04439 C 0.14462 0.03722 0.15417 0.03329 0.16198 0.02543 C 0.17396 0.01341 0.15799 0.02358 0.17465 0.0148 C 0.17934 0.00994 0.18507 0.00624 0.18889 0 C 0.19097 -0.00347 0.19271 -0.00763 0.19531 -0.01064 C 0.19809 -0.01411 0.20226 -0.01549 0.20486 -0.01896 C 0.21024 -0.02613 0.21371 -0.03515 0.2191 -0.04231 C 0.23976 -0.06983 0.26094 -0.10058 0.26667 -0.13966 C 0.26493 -0.17272 0.26649 -0.17295 0.25399 -0.19445 C 0.24913 -0.21457 0.22257 -0.23515 0.20955 -0.24532 C 0.20625 -0.24786 0.20347 -0.25133 0.2 -0.25364 C 0.17778 -0.26844 0.20312 -0.24694 0.18108 -0.26428 C 0.16059 -0.28047 0.13976 -0.29295 0.11597 -0.29804 C 0.11111 -0.29734 0.1059 -0.2985 0.10156 -0.29596 C 0.09948 -0.2948 0.09844 -0.29064 0.09844 -0.28763 C 0.09844 -0.23307 0.10052 -0.20694 0.11597 -0.16278 C 0.13681 -0.10336 0.16649 -0.037 0.20486 0.00416 C 0.21371 0.01364 0.22431 0.02612 0.2349 0.03167 C 0.25382 0.04162 0.2783 0.05179 0.29844 0.05711 C 0.30399 0.06058 0.30868 0.06497 0.31441 0.06751 C 0.32517 0.08231 0.31319 0.09133 0.30486 0.1015 C 0.28889 0.12115 0.27153 0.13526 0.25399 0.1519 C 0.24392 0.16185 0.21788 0.19838 0.21441 0.203 C 0.19931 0.22312 0.18368 0.24254 0.16996 0.26427 C 0.14601 0.30219 0.17326 0.26774 0.12708 0.31907 C 0.12187 0.32485 0.11719 0.33225 0.11111 0.33618 C 0.0908 0.34959 0.07326 0.35769 0.05087 0.36138 C 0.04375 0.36069 0.0309 0.36277 0.02378 0.35514 C 0.02031 0.35144 0.01441 0.34243 0.01441 0.34243 C 0.00903 0.31006 0.00694 0.28138 0.00486 0.2474 C 0.00278 0.17572 0.00278 0.11329 -0.00781 0.04439 C -0.01076 0.00485 -0.01458 -0.03468 -0.01892 -0.07399 C -0.0217 -0.09942 -0.02847 -0.15006 -0.02847 -0.15006 C -0.03021 -0.19168 -0.03264 -0.2333 -0.0349 -0.27492 C -0.03698 -0.31376 -0.03438 -0.29734 -0.03802 -0.31723 C -0.05208 -0.29411 -0.05451 -0.26312 -0.05868 -0.23468 C -0.06545 -0.13804 -0.07361 -0.02405 -0.00781 0.04439 C 0.00382 0.05641 0.01667 0.06636 0.03021 0.07399 C 0.06233 0.09225 0.08056 0.09202 0.11441 0.09711 C 0.15017 0.09387 0.17812 0.0948 0.21267 0.07815 C 0.25712 0.05688 0.30851 0.00878 0.33976 -0.03815 C 0.35347 -0.05873 0.36771 -0.09711 0.37778 -0.12255 C 0.38056 -0.15075 0.38385 -0.16393 0.37778 -0.19237 C 0.35503 -0.29734 0.23073 -0.38312 0.16198 -0.41642 C 0.13142 -0.43122 0.1 -0.44347 0.06823 -0.45249 C 0.03212 -0.46266 -0.00469 -0.46659 -0.04115 -0.47353 C -0.17326 -0.47214 -0.23854 -0.50451 -0.33802 -0.41434 C -0.34462 -0.36093 -0.32309 -0.33665 -0.28889 -0.30659 C -0.1941 -0.22359 -0.11962 -0.2074 -0.00955 -0.18613 C 0.13333 -0.19029 0.26996 -0.16833 0.39687 -0.2622 C 0.40278 -0.27145 0.41024 -0.27908 0.41441 -0.28971 C 0.43316 -0.33757 0.37778 -0.397 0.35712 -0.4185 C 0.28003 -0.49873 0.17847 -0.55099 0.08264 -0.57503 C 0.0566 -0.58151 0.02969 -0.5822 0.0033 -0.58567 C -0.03698 -0.58359 -0.07743 -0.5852 -0.11736 -0.57919 C -0.13177 -0.57711 -0.12049 -0.54867 -0.10625 -0.53064 C -0.0967 -0.51838 -0.08472 -0.50937 -0.07292 -0.50104 C 0.0125 -0.44139 0.10104 -0.4289 0.19531 -0.41226 C 0.30955 -0.41549 0.49844 -0.39838 0.61441 -0.46729 C 0.58646 -0.48185 0.53646 -0.44833 0.51441 -0.4333 C 0.43368 -0.37804 0.34271 -0.31214 0.27778 -0.22405 C 0.2474 -0.18289 0.23802 -0.14798 0.2191 -0.09734 C 0.2158 -0.06983 0.20816 -0.02937 0.21441 0 C 0.23924 0.11792 0.34201 0.14173 0.4191 0.15006 C 0.46476 0.14612 0.48333 0.14797 0.5191 0.10982 C 0.52118 0.10497 0.52465 0.10058 0.52552 0.09503 C 0.5276 0.08277 0.51927 0.07468 0.51267 0.06982 C 0.49045 0.05295 0.47969 0.05456 0.45243 0.04855 C 0.41059 0.04925 0.36875 0.04578 0.32708 0.05063 C 0.23021 0.06196 0.14149 0.12092 0.06996 0.20508 C 0.0651 0.21711 0.05781 0.22774 0.05556 0.24092 C 0.04496 0.30173 0.0901 0.32647 0.12222 0.34659 C 0.20191 0.39653 0.26719 0.40601 0.35399 0.41849 C 0.41424 0.41433 0.475 0.41549 0.5349 0.40578 C 0.62292 0.39144 0.70712 0.32763 0.76354 0.23884 C 0.76615 0.22335 0.77083 0.20832 0.77153 0.19237 C 0.77361 0.13965 0.73437 0.09526 0.70642 0.06982 C 0.64358 0.01271 0.57014 -0.00971 0.49531 -0.01896 C 0.46632 -0.02266 0.43715 -0.02197 0.40799 -0.02336 C 0.38056 -0.02127 0.3526 -0.02336 0.32552 -0.01688 C 0.26042 -0.00139 0.20625 0.04185 0.15712 0.09711 C 0.14566 0.12901 0.13542 0.14705 0.13663 0.18381 C 0.13819 0.22659 0.15104 0.25318 0.17465 0.28323 C 0.23663 0.36231 0.32621 0.39491 0.40799 0.41433 C 0.44687 0.42358 0.48628 0.42705 0.52552 0.43329 C 0.60486 0.42566 0.6849 0.42589 0.76354 0.41017 C 0.79774 0.40323 0.82986 0.38289 0.86198 0.36578 C 0.93542 0.32647 0.9809 0.283 1.02552 0.19861 C 1.03073 0.1526 1.03854 0.1348 1.02066 0.09086 C 0.99132 0.01873 0.93056 -0.02151 0.87778 -0.05295 C 0.84896 -0.07006 0.82101 -0.09087 0.79045 -0.10151 C 0.75382 -0.11422 0.71545 -0.11677 0.67778 -0.12255 C 0.63611 -0.12879 0.59427 -0.13249 0.55243 -0.13734 C 0.36806 -0.12833 0.14948 -0.14798 0.01597 0.05711 C 0.01215 0.08393 0.00382 0.11838 0.01267 0.14589 C 0.02448 0.18312 0.06024 0.22566 0.0842 0.24508 C 0.16458 0.31052 0.2533 0.32046 0.34444 0.33387 C 0.47708 0.32138 0.59896 0.33063 0.70955 0.22612 C 0.71267 0.21757 0.71771 0.20994 0.7191 0.20069 C 0.72326 0.17156 0.69236 0.14682 0.67778 0.13942 C 0.61024 0.1052 0.53576 0.10682 0.4651 0.10358 C 0.33559 0.10636 0.21771 0.12717 0.09375 0.17757 C 0.05573 0.20925 0.02587 0.21641 0.02222 0.27699 C 0.03507 0.33618 0.07066 0.35144 0.11441 0.36994 C 0.19496 0.40416 0.2059 0.39584 0.29375 0.39953 C 0.46128 0.37919 0.60469 0.37988 0.74444 0.24948 C 0.75035 0.23815 0.76076 0.22913 0.76198 0.21549 C 0.76562 0.17295 0.73958 0.163 0.71753 0.15006 C 0.64653 0.10797 0.575 0.10636 0.49844 0.09942 C 0.43073 0.10358 0.36285 0.10312 0.29531 0.1119 C 0.24167 0.11861 0.18299 0.14728 0.13177 0.16901 C 0.09653 0.19977 0.0724 0.20717 0.0651 0.26219 C 0.06667 0.27052 0.06615 0.28046 0.06996 0.2874 C 0.09965 0.34196 0.16788 0.34659 0.21111 0.35722 C 0.27083 0.35584 0.3309 0.36092 0.39045 0.35306 C 0.46823 0.34266 0.53906 0.29341 0.6 0.2326 C 0.60642 0.2178 0.61545 0.20462 0.6191 0.18821 C 0.62899 0.14381 0.61667 0.12162 0.59844 0.08462 C 0.5625 0.01179 0.54427 -0.01549 0.4842 -0.06336 C 0.28437 -0.22266 0.04427 -0.26104 -0.18247 -0.28532 C -0.24705 -0.28185 -0.31181 -0.28416 -0.37622 -0.27492 C -0.39635 -0.27191 -0.38333 -0.22705 -0.3809 -0.22197 C -0.3717 -0.20347 -0.3099 -0.16717 -0.30955 -0.16694 C -0.20486 -0.11653 -0.10052 -0.11099 0.00955 -0.10151 C 0.19618 -0.11538 0.41701 -0.10382 0.58108 -0.24948 C 0.58368 -0.25734 0.58819 -0.26428 0.58889 -0.27283 C 0.59149 -0.30705 0.52795 -0.34382 0.51753 -0.3489 C 0.43264 -0.39145 0.33681 -0.39468 0.24774 -0.40162 C 0.23628 -0.40116 -0.03976 -0.44231 -0.12222 -0.35538 C -0.1191 -0.34544 -0.1184 -0.33295 -0.11267 -0.32555 C -0.0934 -0.30081 -0.01806 -0.27006 -0.00625 -0.26636 C 0.11753 -0.22867 0.24878 -0.23006 0.37465 -0.22613 C 0.55 -0.23399 0.72257 -0.24231 0.8842 -0.34243 C 0.88837 -0.35052 0.89427 -0.357 0.89687 -0.36578 C 0.90087 -0.37966 0.88611 -0.39445 0.88108 -0.39954 C 0.85174 -0.4289 0.8316 -0.43723 0.79375 -0.45249 C 0.63698 -0.51515 0.46858 -0.50844 0.30642 -0.51376 C 0.25712 -0.51122 0.06302 -0.52763 -0.01736 -0.47353 C 0.00226 -0.43029 0.05642 -0.41781 0.09045 -0.4081 C 0.24392 -0.36463 0.40278 -0.36047 0.55885 -0.35538 C 0.61615 -0.35653 0.72604 -0.34659 0.79844 -0.36786 C 0.78385 -0.37434 0.75156 -0.37734 0.73976 -0.3785 C 0.70556 -0.38174 0.58073 -0.3859 0.55885 -0.38682 C 0.36823 -0.38336 0.17465 -0.39029 -0.01424 -0.3489 C -0.03802 -0.32625 -0.01059 -0.30798 0.00799 -0.29804 C 0.03715 -0.28255 0.13108 -0.24948 0.15399 -0.24324 C 0.33125 -0.19445 0.51649 -0.18382 0.69687 -0.17549 C 0.72326 -0.17619 0.74983 -0.17526 0.77621 -0.17757 C 0.77951 -0.17781 0.76996 -0.18058 0.76667 -0.18174 C 0.75677 -0.18497 0.7467 -0.18844 0.73663 -0.19029 C 0.71094 -0.19515 0.58351 -0.21203 0.56823 -0.21364 C 0.48646 -0.22197 0.38299 -0.22752 0.30156 -0.2326 C 0.11111 -0.22659 -0.04688 -0.26312 -0.2158 -0.17757 C -0.2224 -0.11307 -0.07552 -0.07538 -0.06024 -0.06983 C 0.17257 0.01433 0.41406 0.03699 0.65399 0.05503 C 0.79323 0.05225 0.93246 0.05225 1.07153 0.04647 C 1.09948 0.04532 1.10278 0.04231 1.1191 0.03167 C 1.08142 -0.00185 0.99583 -0.00093 0.96198 -0.00416 C 0.87552 -0.01249 0.73993 -0.01757 0.66042 -0.02127 C 0.32691 -0.01388 -0.02604 -0.03283 -0.32847 0.18589 C -0.33646 0.2 -0.34722 0.21179 -0.35226 0.22821 C -0.36111 0.25757 -0.325 0.27722 -0.3158 0.28323 C -0.2875 0.3015 -0.25868 0.31953 -0.22847 0.33179 C -0.19792 0.34427 -0.16632 0.35006 -0.1349 0.35722 C 0.01371 0.39167 0.15885 0.40393 0.30955 0.40786 C 0.45139 0.40647 0.59306 0.40578 0.7349 0.4037 C 0.73819 0.4037 0.74757 0.40254 0.74444 0.40162 C 0.64236 0.3704 0.53229 0.36994 0.42865 0.36578 C 0.23698 0.37156 -0.10278 0.33711 -0.30139 0.4756 C -0.31181 0.51052 -0.26233 0.50774 -0.24913 0.50936 C -0.16858 0.51907 -0.15625 0.51815 -0.07622 0.52208 C 0.07882 0.51514 0.23264 0.49919 0.38733 0.48624 C 0.43368 0.47838 0.48594 0.47491 0.53021 0.45225 C 0.51406 0.42381 0.47934 0.41295 0.45399 0.40786 C 0.33264 0.38335 0.21146 0.37664 0.08889 0.37202 C 0.07274 0.37271 -0.075 0.36092 -0.12847 0.39098 C -0.09097 0.41341 -0.04236 0.41179 -0.00313 0.41641 C 0.28871 0.40855 0.57882 0.37803 0.8651 0.29803 C 0.86927 0.29526 0.875 0.29456 0.87778 0.28948 C 0.8809 0.28393 0.87187 0.27745 0.86042 0.27468 C 0.85052 0.27237 0.84028 0.2719 0.83021 0.27052 C 0.74288 0.25757 0.80226 0.26358 0.69045 0.2578 C 0.56094 0.26381 0.44444 0.2689 0.3191 0.30867 C 0.26927 0.32462 0.23003 0.33595 0.18889 0.3741 C 0.17969 0.41757 0.23333 0.42497 0.25399 0.42913 C 0.28785 0.43607 0.40851 0.43907 0.42708 0.43977 C 0.60399 0.43445 0.79253 0.4437 0.96996 0.4037 C 0.93542 0.38104 0.82292 0.37965 0.80799 0.37826 C 0.64792 0.36416 0.48733 0.36323 0.32708 0.3593 C 0.15642 0.36138 0.02656 0.3556 -0.13177 0.37202 C -0.16354 0.37526 -0.22517 0.38034 -0.26337 0.39306 C -0.17847 0.42243 0.01771 0.39075 0.12865 0.38682 C 0.35972 0.36578 0.59236 0.35214 0.82222 0.31283 C 0.82535 0.31144 0.83403 0.3119 0.83177 0.30867 C 0.82795 0.30358 0.82135 0.30543 0.81597 0.30427 C 0.80382 0.30173 0.79167 0.29942 0.77934 0.29803 C 0.74878 0.29456 0.71806 0.29202 0.68733 0.28948 C 0.54635 0.27722 0.59566 0.28138 0.42552 0.27699 C 0.20069 0.28138 0.03073 0.26936 -0.17622 0.32138 C -0.18403 0.32624 -0.19375 0.32786 -0.2 0.33618 C -0.20208 0.33896 -0.19635 0.34312 -0.19358 0.34451 C -0.1849 0.3489 -0.1757 0.3519 -0.16649 0.35306 C -0.1526 0.35468 0.00243 0.36115 0.00642 0.36138 C 0.32465 0.35422 0.63368 0.35144 0.94774 0.28948 C 0.95347 0.28532 0.96319 0.28532 0.9651 0.27699 C 0.96979 0.25664 0.92743 0.23699 0.92708 0.23676 C 0.90573 0.22612 0.88403 0.21711 0.86198 0.20925 C 0.79757 0.18612 0.71111 0.15977 0.64444 0.14797 C 0.43351 0.11098 0.22014 0.11167 0.00799 0.10358 C -0.075 0.10705 -0.15816 0.10682 -0.24097 0.11422 C -0.29306 0.11861 -0.28924 0.11769 -0.31406 0.13942 C -0.31094 0.15306 -0.31372 0.14728 -0.29514 0.15422 C -0.23958 0.17456 -0.23715 0.17387 -0.17431 0.18173 C -0.00398999999999999 0.203 0.14462 0.2111 0.31441 0.2178 C 0.39479 0.21641 0.47517 0.21549 0.55556 0.21341 C 0.58698 0.21271 0.55208 0.20185 0.54774 0.20069 C 0.52951 0.1963 0.47014 0.18312 0.45712 0.18173 C 0.39375 0.17503 0.33003 0.17433 0.26667 0.16901 C 0.14306 0.17295 -0.01997 0.1593 -0.15399 0.19653 C -0.17743 0.203 -0.17986 0.2074 -0.19514 0.22196 C -0.18906 0.24254 -0.19219 0.23907 -0.1651 0.24948 C -0.11458 0.26867 -0.06181 0.27769 -0.00955 0.28532 C 0.18576 0.31399 0.37691 0.32462 0.57309 0.33179 C 0.65625 0.32855 0.82569 0.34081 0.93021 0.30659 C 0.90312 0.27052 0.84653 0.26289 0.81267 0.25364 C 0.63542 0.20462 0.4599 0.1889 0.27934 0.17757 C 0.21024 0.17988 -0.01788 0.15422 -0.10781 0.23468 C -0.10625 0.24023 -0.10625 0.2474 -0.10313 0.25156 C -0.08177 0.28023 -0.01684 0.27607 0.00642 0.27699 C 0.25469 0.29757 0.54444 0.26358 0.79219 0.203 C 0.81024 0.19029 0.7559 0.1852 0.7349 0.18381 C 0.68246 0.18034 0.63021 0.17826 0.57778 0.17549 C 0.50486 0.17156 0.43177 0.16994 0.35885 0.16693 C 0.21771 0.17202 0.11319 0.1452 -0.00781 0.20508 C -0.01615 0.22266 -0.01233 0.22982 0.00642 0.23676 C 0.10312 0.27283 0.11736 0.27468 0.21111 0.28532 C 0.43906 0.31098 0.66649 0.31769 0.89531 0.32138 C 0.92552 0.32277 0.95556 0.32439 0.98576 0.32555 C 1.02187 0.32693 1.1224 0.33225 1.00955 0.32138 C 0.92118 0.31283 0.79132 0.30104 0.69687 0.29595 C 0.6599 0.29387 0.62274 0.29318 0.58576 0.29179 C 0.47674 0.29271 0.35451 0.27861 0.24601 0.32138 C 0.25538 0.33919 0.28194 0.34127 0.29531 0.34243 C 0.34444 0.34659 0.39375 0.34612 0.44288 0.34867 C 0.63056 0.34497 0.81944 0.33942 1.00642 0.31491 C 1.01493 0.31214 1.02621 0.31537 1.03177 0.30659 C 1.03559 0.30058 1.02031 0.30335 1.01441 0.30219 C 1.00121 0.29965 0.98802 0.29711 0.97465 0.29595 C 0.94601 0.29341 0.81962 0.28809 0.80156 0.2874 C 0.31285 0.2978 0.53212 0.27722 0.14288 0.33179 C 0.0684 0.34219 -0.00208 0.36462 -0.06979 0.40578 C -0.08958 0.45133 -0.02135 0.46381 -0.00313 0.46936 C 0.09236 0.49826 0.19167 0.49711 0.28889 0.50104 C 0.51667 0.49549 0.72899 0.4867 0.95243 0.46936 C 0.97899 0.46404 1.00885 0.4689 1.03177 0.45017 C 1.03403 0.44832 1.02934 0.4437 1.02708 0.44185 C 1.0217 0.43722 1.0158 0.43306 1.00955 0.43121 C 0.97326 0.42034 0.93646 0.41295 0.9 0.4037 C 0.82431 0.38474 0.7467 0.38682 0.66996 0.37826 C 0.5849 0.36878 0.47257 0.36647 0.38576 0.36347 C 0.25208 0.36717 0.1467 0.37988 0.01597 0.40578 C -0.00278 0.41364 -0.05417 0.42612 -0.06823 0.45017 C -0.0651 0.45433 -0.06302 0.4615 -0.05868 0.46289 C -0.03785 0.46959 0.00486 0.47352 0.00486 0.47352 C 0.12621 0.47029 0.23733 0.46335 0.35712 0.44185 C 0.46545 0.42219 0.5842 0.40901 0.69045 0.36786 C 0.70538 0.3556 0.70816 0.35399 0.70642 0.35098 C 0.69705 0.33433 0.66302 0.32601 0.64931 0.32347 C 0.58437 0.31121 0.51788 0.30751 0.45243 0.30427 C 0.32726 0.30705 0.20278 0.30289 0.07934 0.33387 C 0.03941 0.34381 -0.03958 0.36994 -0.03958 0.36994 C -0.04601 0.3741 -0.05295 0.37688 -0.05868 0.38266 C -0.08056 0.40439 -0.0408 0.42011 -0.03177 0.42266 C -0.00642 0.42982 0.03628 0.43584 0.06042 0.43977 C 0.24323 0.4363 0.36736 0.4363 0.53819 0.37618 C 0.58003 0.33688 0.53472 0.31653 0.50156 0.29803 C 0.45937 0.27445 0.37361 0.23699 0.33333 0.22196 C 0.16441 0.15884 -0.01302 0.1237 -0.18733 0.09942 C -0.32222 0.08069 -0.46424 0.07006 -0.36024 0.07815 C -0.35573 0.07792 -0.18872 0.0719 -0.17135 0.06982 C -0.09931 0.0615 0.02778 0.04046 0.10799 0.02751 C 0.17917 0.01618 0.28594 0.00763 0.34931 -0.03376 C 0.35729 -0.04509 0.34045 -0.04902 0.3349 -0.05087 C 0.32066 -0.05549 0.2875 -0.06359 0.27621 -0.06567 C 0.175 -0.08393 0.07344 -0.08416 -0.02847 -0.08879 C -0.10642 -0.08694 -0.18264 -0.08116 -0.26024 -0.06983 C -0.26962 -0.06544 -0.28733 -0.06613 -0.28733 -0.05295 C -0.28733 -0.03677 -0.25764 -0.02983 -0.25712 -0.0296 C -0.23854 -0.02243 -0.22014 -0.01503 -0.20156 -0.01064 C -0.17795 -0.00509 -0.15382 -0.00393 -0.13004 0 C -0.01875 0.0178 0.08785 0.0319 0.2 0.03584 C 0.29323 0.0437 0.38455 0.04763 0.47778 0.03584 C 0.4849 0.03399 0.49965 0.03699 0.49844 0.02751 C 0.49792 0.02289 0.48403 0.01156 0.48264 0.01063 C 0.4474 -0.01272 0.40139 -0.01665 0.36354 -0.02127 C 0.16597 -0.04509 0.20365 -0.03815 -0.0158 -0.04023 C 0.1559 -0.10081 0.32865 -0.16 0.49531 -0.24324 C 0.6033 -0.29711 0.7099 -0.33919 0.80156 -0.43122 C 0.80521 -0.44047 0.81215 -0.44833 0.81267 -0.45873 C 0.81615 -0.53133 0.7375 -0.55283 0.70156 -0.56208 C 0.5526 -0.60139 0.39705 -0.60208 0.24601 -0.60671 C 0.09826 -0.59376 -0.00156000000000001 -0.59353 -0.13333 -0.5348 C -0.13906 -0.52925 -0.14566 -0.52463 -0.1507 -0.51792 C -0.16649 -0.49665 -0.12847 -0.47885 -0.12066 -0.47561 C -0.09653 -0.46567 -0.05538 -0.45989 -0.0349 -0.45665 C -0.01267 -0.45318 0.00955 -0.45087 0.03177 -0.4481 C 0.15538 -0.45041 0.26111 -0.44879 0.37934 -0.46729 C 0.38524 -0.46937 0.39132 -0.47029 0.39687 -0.47353 C 0.40625 -0.47885 0.39983 -0.48463 0.39375 -0.48833 C 0.38281 -0.49526 0.3566 -0.50012 0.34774 -0.50104 C 0.30556 -0.5052 0.26302 -0.50497 0.22066 -0.50729 C 0.16042 -0.50659 0.1 -0.50659 0.03976 -0.5052 C -0.04271 -0.50336 -0.13646 -0.50382 -0.21111 -0.45041 C -0.21771 -0.40578 -0.13247 -0.38636 -0.12066 -0.38266 C -0.01771 -0.34983 0.09045 -0.34544 0.19531 -0.33411 C 0.37309 -0.33711 0.54878 -0.33503 0.72552 -0.35099 C 0.73507 -0.35376 0.74601 -0.35214 0.75399 -0.35931 C 0.75764 -0.36278 0.74583 -0.36486 0.74132 -0.36578 C 0.73038 -0.36833 0.7191 -0.36856 0.70799 -0.36994 C 0.61111 -0.38289 0.67378 -0.37711 0.55556 -0.38266 C 0.32639 -0.37711 0.11111 -0.37919 -0.11267 -0.32347 C -0.12431 -0.31723 -0.13611 -0.31168 -0.14757 -0.30451 C -0.15208 -0.30174 -0.16042 -0.30058 -0.16024 -0.29388 C -0.15903 -0.27029 -0.12344 -0.26382 -0.1158 -0.2622 C -0.07813 -0.25434 0.00694 -0.2481 0.03819 -0.24532 C 0.30087 -0.25573 0.5566 -0.25573 0.81267 -0.33619 C 0.82066 -0.34174 0.82882 -0.34705 0.83663 -0.35307 C 0.83889 -0.35468 0.84219 -0.35584 0.84288 -0.35931 C 0.84514 -0.37156 0.82899 -0.37711 0.82552 -0.3785 C 0.81354 -0.38359 0.80121 -0.38775 0.78889 -0.39122 C 0.70226 -0.41503 0.61354 -0.41619 0.52552 -0.42289 C 0.33628 -0.41642 0.16927 -0.44509 -0.00313 -0.35723 C -0.00729 -0.35237 -0.01354 -0.34937 -0.0158 -0.34243 C -0.02066 -0.3274 0.000869999999999999 -0.31584 0.01267 -0.31075 C 0.03194 -0.30266 0.05174 -0.29688 0.07153 -0.29179 C 0.19687 -0.26035 0.32222 -0.25711 0.44931 -0.25156 C 0.65399 -0.25596 0.87344 -0.24416 1.07778 -0.28763 C 1.01615 -0.32231 0.89184 -0.31445 0.82222 -0.31723 C 0.56719 -0.31468 0.32969 -0.32786 0.08108 -0.27283 C 0.01528 -0.25827 -0.04444 -0.24463 -0.10469 -0.20717 C -0.12535 -0.17272 -0.07257 -0.17295 -0.06024 -0.17133 C -0.03854 -0.16856 -0.01684 -0.16694 0.00486 -0.16486 C 0.09479 -0.17156 0.22674 -0.17688 0.32222 -0.19653 C 0.38976 -0.21041 0.4566 -0.22914 0.52378 -0.24532 C 0.56649 -0.25573 0.61163 -0.26567 0.65087 -0.29179 C 0.64826 -0.29596 0.6467 -0.30243 0.64288 -0.30451 C 0.63108 -0.31122 0.58472 -0.31422 0.57778 -0.31492 C 0.42569 -0.31052 0.39392 -0.31885 0.27465 -0.29596 C 0.23229 -0.28786 0.18299 -0.28 0.14444 -0.25156 C 0.13854 -0.23122 0.15139 -0.22844 0.16823 -0.22405 C 0.2125 -0.21249 0.27535 -0.20902 0.31753 -0.20509 C 0.52378 -0.20971 0.72361 -0.22058 0.92865 -0.24324 C 1.03281 -0.2548 1.13437 -0.26312 1.23663 -0.29179 C 1.21701 -0.33064 1.16146 -0.32879 1.13177 -0.33411 C 1.00174 -0.357 0.87049 -0.35885 0.73976 -0.36578 C 0.56562 -0.36301 0.39149 -0.3644 0.21753 -0.35723 C 0.12049 -0.3533 -0.00538 -0.33966 -0.09514 -0.27908 C -0.09045 -0.27283 -0.08698 -0.26382 -0.0809 -0.26012 C -0.05955 -0.24717 0.01302 -0.24185 0.02378 -0.24093 C 0.05399 -0.23862 0.0842 -0.23815 0.11441 -0.23677 C 0.29028 -0.24208 0.29566 -0.23908 0.43819 -0.25156 C 0.48889 -0.25596 0.59045 -0.26636 0.59045 -0.26636 C 0.60156 -0.26914 0.61267 -0.27191 0.62378 -0.27492 C 0.62812 -0.27607 0.63385 -0.27445 0.63663 -0.27908 C 0.63837 -0.28185 0.63264 -0.28416 0.63021 -0.28532 C 0.62465 -0.28786 0.61858 -0.28925 0.61267 -0.28971 C 0.57934 -0.29203 0.54601 -0.29249 0.51267 -0.29388 C 0.31996 -0.28948 0.1309 -0.27538 -0.05868 -0.23052 C -0.06615 -0.22636 -0.07413 -0.22359 -0.0809 -0.21781 C -0.0901 -0.20994 -0.07847 -0.20139 -0.07448 -0.19885 C -0.06493 -0.1926 -0.05486 -0.18729 -0.04444 -0.18405 C 0.02934 -0.16185 0.0592 -0.16486 0.13976 -0.15862 C 0.39167 -0.16463 0.63524 -0.15584 0.88108 -0.22405 C 0.88733 -0.22821 0.89826 -0.22775 0.9 -0.23677 C 0.90226 -0.24833 0.87535 -0.26544 0.85885 -0.27283 C 0.83576 -0.28324 0.8125 -0.29203 0.78889 -0.30012 C 0.6809 -0.33665 0.66788 -0.33711 0.54931 -0.35538 C 0.36632 -0.38312 0.18559 -0.39746 0.00156 -0.40162 C -0.10694 -0.40023 -0.21545 -0.40208 -0.32361 -0.39746 C -0.34514 -0.39653 -0.36719 -0.39445 -0.38733 -0.38474 C -0.39132 -0.38289 -0.38906 -0.37133 -0.38559 -0.36786 C -0.3809 -0.36324 -0.37396 -0.36648 -0.36823 -0.36578 C -0.15677 -0.37526 0.05399 -0.38821 0.2651 -0.4037 C 0.34288 -0.40948 0.42066 -0.41549 0.49844 -0.42081 C 0.53594 -0.42336 0.61111 -0.42705 0.61111 -0.42705 C 0.65469 -0.43422 0.69462 -0.44023 0.50799 -0.42705 C 0.47604 -0.42474 0.44427 -0.41966 0.41267 -0.41434 C 0.2651 -0.38937 0.125 -0.3674 -0.0158 -0.30243 C -0.06076 -0.28162 -0.10851 -0.26174 -0.14115 -0.21364 C -0.14497 -0.18983 -0.13837 -0.19237 -0.12222 -0.18821 C 0.03194 -0.21064 0.17517 -0.31908 0.29844 -0.43977 C 0.34462 -0.48486 0.38663 -0.52671 0.41111 -0.59607 C 0.40746 -0.6081 0.40625 -0.6222 0.4 -0.63214 C 0.38993 -0.64856 0.34861 -0.65156 0.34132 -0.65318 C 0.29375 -0.6511 0.24583 -0.65411 0.19844 -0.64694 C 0.08472 -0.62937 -0.01719 -0.54914 -0.10469 -0.45665 C -0.11372 -0.43561 -0.12587 -0.41619 -0.13177 -0.3933 C -0.14566 -0.34058 -0.11823 -0.26983 -0.09358 -0.2326 C -0.01615 -0.11607 0.10903 -0.05804 0.22066 -0.03168 C 0.25521 -0.02359 0.29062 -0.02312 0.32552 -0.01896 C 0.44601 -0.02174 0.55764 -0.01226 0.66996 -0.07191 C 0.67257 -0.07538 0.67812 -0.07769 0.67778 -0.08255 C 0.67691 -0.09364 0.65556 -0.09688 0.65243 -0.09734 C 0.64028 -0.09873 0.62812 -0.09873 0.61597 -0.09942 C 0.56667 -0.09596 0.51736 -0.09526 0.46823 -0.08879 C 0.3566 -0.07376 0.24601 -0.03168 0.13976 0.0148 C 0.06996 0.04532 0.00625 0.07653 -0.05556 0.12878 C -0.06493 0.14936 -0.07344 0.15537 -0.04444 0.17549 C -0.02517 0.18867 0.04896 0.18959 0.06042 0.19029 C 0.1217 0.18104 0.18351 0.17595 0.24444 0.16277 C 0.33767 0.14266 0.43385 0.0911 0.51753 0.03375 C 0.56962 -0.00208 0.63993 -0.0511 0.66996 -0.12255 C 0.66944 -0.12671 0.67049 -0.13226 0.66823 -0.13526 C 0.66146 -0.14428 0.63611 -0.14844 0.63021 -0.15006 C 0.58368 -0.14659 0.53663 -0.14775 0.49045 -0.13966 C 0.4559 -0.13364 0.42257 -0.11931 0.38889 -0.10775 C 0.275 -0.06867 0.15746 -0.02289 0.0651 0.08023 C 0.04358 0.10427 0.02812 0.13664 0.00955 0.16485 C 0.00208 0.19029 -0.0092 0.2141 -0.01267 0.24092 C -0.01944 0.29318 -0.00104 0.32231 0.02708 0.35514 C 0.09392 0.43329 0.17448 0.45017 0.25885 0.46936 C 0.33351 0.46289 0.40851 0.46335 0.48264 0.45017 C 0.59253 0.43052 0.74288 0.34127 0.80955 0.2178 C 0.8224 0.19399 0.82969 0.16555 0.83976 0.13942 C 0.84462 0.1015 0.85382 0.06774 0.84288 0.02959 C 0.83073 -0.01272 0.80295 -0.04717 0.77465 -0.06983 C 0.68837 -0.13896 0.58576 -0.15862 0.48733 -0.16694 C 0.44184 -0.17064 0.39635 -0.16994 0.35087 -0.17133 C 0.14496 -0.16532 -0.06736 -0.16255 -0.23629 0.0148 C -0.24097 0.0289 -0.24826 0.04208 -0.2507 0.05711 C -0.25677 0.0948 -0.23958 0.11745 -0.21875 0.1415 C -0.15295 0.21757 -0.05313 0.243 0.03021 0.25364 C 0.07448 0.25919 0.1191 0.25641 0.16354 0.2578 C 0.40139 0.24023 0.65226 0.19375 0.83021 -0.03607 C 0.83785 -0.0622 0.85278 -0.09064 0.84132 -0.12047 C 0.82865 -0.1533 0.78785 -0.18012 0.76667 -0.19029 C 0.70937 -0.21781 0.64913 -0.22405 0.58889 -0.22844 C 0.54774 -0.23145 0.50642 -0.23122 0.4651 -0.2326 C 0.29219 -0.2222 0.10868 -0.20231 -0.04601 -0.08671 C -0.06979 -0.0689 -0.08941 -0.04301 -0.11111 -0.02127 C -0.12118 0 -0.1349 0.01873 -0.14115 0.04231 C -0.18299 0.20138 -0.02326 0.32855 0.06667 0.36347 C 0.10226 0.37734 0.13941 0.38312 0.17621 0.3889 C 0.21632 0.39514 0.2566 0.39607 0.29687 0.39953 C 0.47309 0.37734 0.66892 0.34058 0.76354 0.11422 C 0.76458 0.1015 0.76788 0.08878 0.76667 0.07584 C 0.76441 0.05063 0.74861 0.02173 0.73333 0.00832 C 0.66667 -0.04971 0.57899 -0.04231 0.5033 -0.04856 C 0.32795 -0.03422 0.15642 -0.03168 -0.00781 0.06127 C -0.08229 0.10358 -0.10156 0.13295 -0.15851 0.19653 C -0.16545 0.21618 -0.17517 0.23468 -0.17934 0.25572 C -0.20938 0.41086 -0.04948 0.50081 0.0349 0.52624 C 0.07083 0.53711 0.10799 0.53757 0.14444 0.54335 C 0.22812 0.53341 0.31233 0.5304 0.39531 0.51375 C 0.52222 0.48809 0.69062 0.37433 0.76996 0.23676 C 0.78472 0.21133 0.79323 0.18034 0.80486 0.1519 C 0.81632 0.09202 0.82795 0.06913 0.81267 0.00832 C 0.79809 -0.05018 0.77535 -0.07237 0.73663 -0.10359 C 0.64496 -0.17711 0.54201 -0.19885 0.43663 -0.21133 C 0.38958 -0.21688 0.34236 -0.21711 0.29531 -0.21989 C 0.15434 -0.21596 0.01493 -0.20509 -0.11892 -0.13734 C -0.19462 -0.09896 -0.21858 -0.06705 -0.2776 -0.00648 C -0.28681 0.0148 -0.29879 0.03399 -0.30469 0.05711 C -0.34254 0.21179 -0.16962 0.31098 -0.08733 0.33618 C -0.05295 0.34659 -0.01736 0.34751 0.01753 0.35306 C 0.10104 0.34381 0.18542 0.34289 0.26823 0.32555 C 0.42812 0.29225 0.59514 0.14774 0.7033 -0.00856 C 0.76042 -0.0911 0.76962 -0.13018 0.80642 -0.22613 C 0.81476 -0.28763 0.82639 -0.32047 0.80799 -0.38058 C 0.79271 -0.43052 0.75799 -0.45711 0.72378 -0.48 C 0.61128 -0.55515 0.49965 -0.557 0.37621 -0.5644 C 0.1434 -0.54405 -0.13542 -0.54474 -0.32517 -0.32347 C -0.34948 -0.29549 -0.36545 -0.25711 -0.38559 -0.22405 C -0.38611 -0.18867 -0.39063 -0.04763 -0.38247 -0.01064 C -0.3507 0.13295 -0.25208 0.25248 -0.16181 0.32971 C 0.01719 0.48254 0.21198 0.51491 0.4191 0.52624 C 0.4651 0.52277 0.51146 0.52485 0.55712 0.51584 C 0.6849 0.49063 0.7974 0.41711 0.88108 0.2874 C 0.88871 0.24416 0.90052 0.21271 0.88576 0.16901 C 0.8342 0.01526 0.67465 -0.03075 0.56667 -0.06127 C 0.51632 -0.07561 0.46562 -0.08833 0.41441 -0.09526 C 0.36007 -0.10243 0.30538 -0.10081 0.25087 -0.10359 C 0.07917 -0.09457 -0.11233 -0.0874 -0.26024 0.04855 C -0.27813 0.06497 -0.29097 0.08948 -0.30625 0.10982 C -0.3125 0.12948 -0.32205 0.14797 -0.32517 0.16901 C -0.3316 0.20901 -0.31875 0.25318 -0.3 0.28323 C -0.24375 0.37318 -0.14115 0.42821 -0.05868 0.45225 C -0.02014 0.46335 0.01962 0.46566 0.05885 0.46936 C 0.10208 0.47352 0.14549 0.47352 0.18889 0.4756 C 0.34635 0.45618 0.5625 0.42127 0.64774 0.21549 C 0.64462 0.19584 0.64583 0.17387 0.63819 0.1563 C 0.63264 0.14358 0.62118 0.13711 0.61111 0.1311 C 0.57309 0.10797 0.5309 0.10219 0.49045 0.09295 C 0.42587 0.09549 0.36111 0.09318 0.29687 0.1015 C 0.18003 0.11653 0.07049 0.19352 -0.01111 0.30219 C -0.01736 0.32254 -0.03021 0.34127 -0.03004 0.36347 C -0.02795 0.59283 0.16632 0.63306 0.29687 0.65942 C 0.37361 0.65318 0.45087 0.65433 0.52708 0.64046 C 0.62743 0.62196 0.74115 0.5526 0.81597 0.46081 C 0.83385 0.43861 0.8467 0.41017 0.86198 0.38474 C 0.8684 0.36069 0.88194 0.33826 0.88108 0.31283 C 0.87969 0.26844 0.87083 0.22335 0.85556 0.18381 C 0.84601 0.15884 0.82691 0.14196 0.80955 0.1267 C 0.72639 0.05248 0.6151 0.02566 0.51753 0.0148 C 0.47483 0.00994 0.43177 0.01202 0.38889 0.01063 C 0.24774 0.01965 0.08455 0.03144 -0.0349 0.14797 C -0.05087 0.1637 -0.0625 0.18612 -0.07622 0.20508 C -0.08038 0.22196 -0.08715 0.23815 -0.08889 0.25572 C -0.09288 0.2978 -0.07865 0.33295 -0.06024 0.36578 C -0.01632 0.4437 0.05486 0.4904 0.12378 0.51584 C 0.15399 0.52693 0.18524 0.53133 0.21597 0.53896 C 0.27569 0.53341 0.33628 0.53572 0.39531 0.52208 C 0.45 0.50936 0.54097 0.4363 0.57778 0.37826 C 0.58802 0.36208 0.59358 0.34173 0.60156 0.32347 C 0.60538 0.29734 0.61354 0.26751 0.6033 0.24092 C 0.59774 0.22682 0.58819 0.21595 0.57934 0.20508 C 0.52535 0.13849 0.47535 0.13757 0.40486 0.12231 C 0.34236 0.12809 0.27951 0.12717 0.21753 0.13942 C 0.13229 0.1563 0.05955 0.21919 -0.00625 0.2874 C -0.01736 0.31075 -0.03142 0.33179 -0.03958 0.35722 C -0.08455 0.49757 0.02378 0.62427 0.10955 0.67214 C 0.1401 0.68925 0.1724 0.70173 0.20486 0.71029 C 0.23924 0.7193 0.27465 0.72023 0.30955 0.72508 C 0.48507 0.71491 0.65677 0.67884 0.7651 0.46936 C 0.78021 0.44023 0.78837 0.40578 0.8 0.3741 C 0.81007 0.28971 0.82101 0.25364 0.80642 0.16901 C 0.76944 -0.04625 0.61094 -0.15862 0.45885 -0.19445 C 0.41753 -0.20416 0.37517 -0.2044 0.33333 -0.20925 C 0.18385 -0.20162 0.11181 -0.22405 -0.01111 -0.15862 C -0.03524 -0.14567 -0.0566 -0.12463 -0.07934 -0.10775 C -0.08993 -0.09018 -0.10278 -0.07468 -0.11111 -0.05503 C -0.15122 0.04046 -0.09219 0.13873 -0.04444 0.20508 C 0.04722 0.33179 0.17222 0.41734 0.30156 0.45225 C 0.33333 0.46081 0.36615 0.46081 0.39844 0.46497 C 0.42604 0.46358 0.45382 0.46612 0.48108 0.46081 C 0.57465 0.44254 0.62049 0.38312 0.66354 0.27907 C 0.66476 0.24069 0.66858 0.20832 0.65712 0.1711 C 0.62274 0.05988 0.52257 0.04786 0.44601 0.03167 C 0.2875 0.03514 0.09931 0.06705 -0.0158 0.2326 C -0.03073 0.25387 -0.03906 0.28185 -0.05069 0.30659 C -0.05868 0.36786 -0.06979 0.4111 -0.05712 0.47352 C -0.01754 0.66774 0.13455 0.77849 0.27465 0.80323 C 0.30712 0.80901 0.34028 0.80601 0.37309 0.8074 C 0.47118 0.78913 0.55694 0.77133 0.63333 0.67861 C 0.65417 0.65341 0.66927 0.62081 0.68733 0.5919 C 0.70885 0.51607 0.72448 0.48 0.72708 0.39745 C 0.73524 0.14797 0.54392 0.00994 0.38264 -0.01688 C 0.34844 -0.02266 0.31371 -0.01989 0.27934 -0.02127 C 0.15417 -0.00717 0.00451 0.0111 -0.09514 0.1267 C -0.10955 0.14358 -0.11962 0.16624 -0.13177 0.18589 C -0.13594 0.20485 -0.1434 0.22312 -0.14444 0.243 C -0.1474 0.29734 -0.13073 0.32994 -0.10625 0.37202 C -0.0599 0.45202 0.00745999999999999 0.50982 0.08264 0.52855 C 0.11128 0.53572 0.1408 0.53133 0.16996 0.53271 C 0.20174 0.53133 0.23368 0.53456 0.2651 0.52855 C 0.37361 0.50774 0.49618 0.42728 0.5651 0.31075 C 0.57795 0.28901 0.58628 0.26289 0.59687 0.23884 C 0.6 0.21988 0.60521 0.20115 0.60642 0.18173 C 0.61424 0.06011 0.50521 0.05711 0.44288 0.05271 C 0.41806 0.05618 0.39271 0.05664 0.36823 0.06335 C 0.25781 0.09387 0.12031 0.1956 0.05556 0.32138 C 0.04097 0.34959 0.03333 0.38335 0.02222 0.41433 C 0.0125 0.4874 -0.00017 0.5304 0.01753 0.60462 C 0.04062 0.7015 0.10503 0.77919 0.17621 0.81179 C 0.20208 0.82358 0.23021 0.82451 0.25712 0.83075 C 0.31858 0.81873 0.38125 0.81595 0.44132 0.79491 C 0.56667 0.75075 0.6941 0.5519 0.74288 0.39953 C 0.75764 0.35329 0.7651 0.30358 0.77621 0.25572 C 0.7816 0.16185 0.79288 0.08208 0.77309 -0.01064 C 0.72014 -0.25873 0.53125 -0.39122 0.35399 -0.4333 C 0.31111 -0.44347 0.26719 -0.44324 0.22378 -0.4481 C 0.18628 -0.44671 0.14844 -0.44994 0.11111 -0.44393 C 0.02726 -0.43052 0.01371 -0.41388 -0.05712 -0.36994 C -0.08455 -0.33041 -0.1125 -0.30312 -0.1158 -0.24324 C -0.11823 -0.19792 -0.11632 -0.15099 -0.10625 -0.10775 C -0.0941 -0.05573 -0.03646 -0.00116 -0.00625 0.02312 C 0.07587 0.08901 0.15434 0.09688 0.24774 0.1015 C 0.39601 0.07884 0.50434 0.04578 0.60642 -0.10775 C 0.61163 -0.12393 0.62101 -0.13896 0.62222 -0.15653 C 0.63038 -0.27006 0.54132 -0.26058 0.4842 -0.26428 C 0.45503 -0.26359 0.42552 -0.26867 0.39687 -0.2622 C 0.26007 -0.23168 0.10937 -0.11908 0.02708 0.03167 C 0.00746 0.06751 -0.00365 0.11052 -0.01892 0.15006 C -0.02431 0.18751 -0.03351 0.22427 -0.0349 0.26219 C -0.04063 0.4215 0.03246 0.55953 0.14601 0.60878 C 0.17309 0.62058 0.20208 0.6215 0.23021 0.62774 C 0.25937 0.62497 0.28924 0.62867 0.31753 0.61942 C 0.41128 0.58867 0.49618 0.49526 0.54774 0.3889 C 0.56719 0.34867 0.57951 0.30289 0.59531 0.25988 C 0.61181 0.1378 0.625 0.09942 0.60955 -0.02544 C 0.58628 -0.21318 0.4842 -0.36648 0.34931 -0.42497 C 0.25434 -0.46613 0.19618 -0.45781 0.09687 -0.46081 C -0.01979 -0.44255 -0.14115 -0.42705 -0.2349 -0.31931 C -0.25799 -0.29272 -0.27396 -0.25711 -0.29358 -0.22613 C -0.30139 -0.19168 -0.31788 -0.15862 -0.31736 -0.12255 C -0.31615 -0.04555 -0.30695 0.03237 -0.28889 0.10543 C -0.2783 0.14867 -0.25538 0.18543 -0.23333 0.21988 C -0.16267 0.33017 -0.06406 0.40809 0.04288 0.43329 C 0.07674 0.44138 0.11163 0.43907 0.14601 0.44185 C 0.27604 0.41618 0.38854 0.38196 0.47778 0.24092 C 0.49184 0.21873 0.50104 0.19167 0.51267 0.16693 C 0.51701 0.14451 0.52569 0.12231 0.52552 0.09942 C 0.52483 0.03375 0.50434 -0.01341 0.45556 -0.02544 C 0.43941 -0.02937 0.42274 -0.02682 0.40642 -0.02752 C 0.31007 -0.02382 0.22899 0.0067 0.17309 0.11838 C 0.17153 0.1311 0.16788 0.14358 0.16823 0.1563 C 0.17014 0.23699 0.2566 0.2474 0.29844 0.25572 C 0.32014 0.25433 0.34219 0.25688 0.36354 0.25156 C 0.46337 0.22659 0.54635 0.13456 0.59375 0.01688 C 0.60503 -0.01133 0.61163 -0.04231 0.62066 -0.07191 C 0.62326 -0.09942 0.6283 -0.12671 0.62865 -0.15445 C 0.62882 -0.17642 0.62778 -0.19908 0.62222 -0.21989 C 0.59288 -0.32902 0.49844 -0.33226 0.42708 -0.34058 C 0.40121 -0.33966 0.375 -0.34266 0.34931 -0.33827 C 0.26927 -0.3244 0.20903 -0.27769 0.14444 -0.21781 C 0.13437 -0.19677 0.12101 -0.17781 0.11441 -0.15445 C 0.07205 -0.00463 0.19149 0.12855 0.28264 0.17549 C 0.30868 0.1889 0.33663 0.19514 0.36354 0.20508 C 0.41493 0.19653 0.46788 0.19884 0.51753 0.17965 C 0.55903 0.1637 0.5967 0.09295 0.62222 0.05271 C 0.63125 0.02312 0.64392 -0.00486 0.64931 -0.03607 C 0.6684 -0.14729 0.6342 -0.28601 0.56198 -0.35099 C 0.51684 -0.39145 0.47587 -0.39214 0.42378 -0.4037 C 0.36979 -0.39468 0.31476 -0.39376 0.26198 -0.37642 C 0.20417 -0.35746 0.16684 -0.30428 0.12378 -0.25573 C 0.11163 -0.22544 0.09549 -0.19746 0.08733 -0.16486 C 0.02604 0.08023 0.22118 0.32323 0.38108 0.38474 C 0.4125 0.39676 0.44549 0.39884 0.47778 0.40578 C 0.50694 0.403 0.53663 0.40601 0.5651 0.39745 C 0.66597 0.3674 0.70139 0.30011 0.75399 0.19237 C 0.76198 0.15653 0.77795 0.12208 0.77778 0.08462 C 0.77743 0.0111 0.76875 -0.06289 0.75243 -0.13318 C 0.72621 -0.24648 0.63056 -0.33041 0.55087 -0.3637 C 0.52222 -0.37573 0.49167 -0.37781 0.46198 -0.38474 C 0.32986 -0.36393 0.21111 -0.36393 0.10799 -0.24093 C 0.08924 -0.2185 0.07621 -0.1889 0.06042 -0.16278 C 0.04427 -0.09203 0.02812 -0.0548 0.04132 0.02104 C 0.0592 0.12416 0.11684 0.22104 0.18733 0.26844 C 0.21337 0.28601 0.24236 0.29387 0.26996 0.30659 C 0.32292 0.29803 0.3776 0.30127 0.42865 0.28115 C 0.48403 0.25942 0.52257 0.1741 0.55399 0.12046 C 0.56615 0.07745 0.58194 0.03607 0.59045 -0.00856 C 0.62066 -0.16786 0.61337 -0.32948 0.57309 -0.48416 C 0.55677 -0.54705 0.51441 -0.67977 0.4651 -0.71677 C 0.43733 -0.73781 0.40174 -0.7281 0.36996 -0.73364 C 0.16476 -0.72948 -0.0967 -0.78289 -0.28559 -0.61526 C -0.3125 -0.59122 -0.33333 -0.55607 -0.35712 -0.52648 C -0.36667 -0.49133 -0.38646 -0.45827 -0.38559 -0.42081 C -0.38368 -0.33711 -0.37153 -0.25203 -0.34913 -0.17341 C -0.33524 -0.12486 -0.30625 -0.08601 -0.27934 -0.04856 C -0.16545 0.11006 -0.06267 0.12971 0.09219 0.16901 C 0.23785 0.163 0.3724 0.16069 0.5 0.05271 C 0.53299 0.02474 0.56024 -0.01341 0.59045 -0.04648 C 0.6059 -0.08393 0.62656 -0.11815 0.63663 -0.15862 C 0.67639 -0.31931 0.60052 -0.49226 0.49687 -0.57295 C 0.42465 -0.62937 0.33681 -0.64625 0.25712 -0.67006 C 0.04705 -0.66104 0.00711999999999999 -0.69411 -0.15208 -0.60671 C -0.18177 -0.59052 -0.20833 -0.56578 -0.23629 -0.54544 C -0.25399 -0.51653 -0.27587 -0.49156 -0.28889 -0.45873 C -0.29913 -0.43307 -0.30278 -0.40301 -0.30469 -0.37411 C -0.31667 -0.18729 -0.19219 -0.06012 -0.07292 -0.00648 C -0.04826 0.00462 -0.02205 0.00901 0.0033 0.01688 C 0.0849 0.00717 0.13576 0.02982 0.19219 -0.04023 C 0.2033 -0.05411 0.20903 -0.07399 0.21753 -0.09087 C 0.22326 -0.11769 0.23507 -0.14336 0.2349 -0.17133 C 0.23455 -0.2296 0.22917 -0.28879 0.21597 -0.34451 C 0.18385 -0.47954 0.03681 -0.52694 -0.05069 -0.55168 C -0.14983 -0.54336 -0.27622 -0.55838 -0.36667 -0.47561 C -0.38177 -0.46174 -0.38038 -0.43052 -0.38733 -0.4081 C -0.38195 -0.26775 -0.38872 -0.12578 -0.37135 0.01271 C -0.3625 0.08347 -0.26788 0.23838 -0.2349 0.28115 C -0.08854 0.46959 0.08958 0.52948 0.2842 0.56231 C 0.4 0.55653 0.49705 0.55838 0.58889 0.44809 C 0.60625 0.42728 0.61753 0.39884 0.63177 0.3741 C 0.63767 0.34381 0.64792 0.31445 0.64931 0.28323 C 0.65851 0.0756 0.47552 -0.03677 0.34931 -0.06567 C 0.30538 -0.07561 0.26042 -0.07561 0.21597 -0.08047 C 0.11285 -0.07376 0.05139 -0.07769 -0.04913 -0.04023 C -0.14549 -0.0044 -0.15903 0.01664 -0.2349 0.08208 C -0.24271 0.10289 -0.25382 0.12162 -0.25868 0.14381 C -0.26997 0.19607 -0.26007 0.23491 -0.23629 0.27907 C -0.18663 0.37248 -0.09427 0.42196 -0.01267 0.44185 C 0.02014 0.44994 0.05399 0.4474 0.08733 0.45017 C 0.18038 0.43607 0.25625 0.42381 0.33021 0.34034 C 0.34531 0.32323 0.35677 0.30081 0.36996 0.28115 C 0.37743 0.25572 0.3908 0.23214 0.39219 0.20508 C 0.39601 0.13341 0.38976 0.10797 0.35712 0.06982 C 0.34774 0.05896 0.33889 0.04555 0.32708 0.04023 C 0.31458 0.03445 0.30052 0.03861 0.28733 0.03792 C 0.26979 0.03861 0.25208 0.03537 0.2349 0.04023 C 0.15833 0.0615 0.09983 0.1237 0.03976 0.18589 C 0.01163 0.24485 0.00174 0.25156 -0.00469 0.32347 C -0.01823 0.4763 0.09653 0.57572 0.19687 0.59607 C 0.22413 0.60162 0.25191 0.59884 0.27934 0.60023 C 0.30851 0.59745 0.33802 0.59907 0.36667 0.5919 C 0.48559 0.56208 0.59045 0.46867 0.65399 0.33387 C 0.65608 0.32393 0.66042 0.31445 0.66042 0.30427 C 0.66042 0.28578 0.66042 0.26589 0.65399 0.24948 C 0.65035 0.24023 0.64062 0.23838 0.63333 0.23468 C 0.60538 0.22081 0.59149 0.22289 0.56042 0.21988 C 0.46719 0.22358 0.37014 0.2393 0.28733 0.30011 C 0.28368 0.30728 0.2783 0.31329 0.27621 0.32138 C 0.27257 0.33595 0.28246 0.34728 0.29045 0.35306 C 0.30885 0.36647 0.31892 0.36393 0.33976 0.36578 C 0.35191 0.36439 0.36441 0.36578 0.37621 0.36138 C 0.46424 0.32925 0.48924 0.24786 0.52378 0.14589 C 0.52691 0.11491 0.53281 0.08416 0.53333 0.05271 C 0.5349 -0.03723 0.5217 -0.17896 0.45712 -0.2326 C 0.43889 -0.24786 0.42812 -0.24555 0.40799 -0.2474 C 0.39583 -0.24601 0.38316 -0.24833 0.37153 -0.24324 C 0.32083 -0.22151 0.25174 -0.17596 0.21441 -0.12255 C 0.20399 -0.10775 0.1974 -0.08879 0.18889 -0.07191 C 0.18542 -0.04416 0.17969 -0.01341 0.18576 0.0148 C 0.19288 0.04809 0.22795 0.11445 0.24132 0.13734 C 0.28351 0.20948 0.34236 0.27676 0.40799 0.30867 C 0.43125 0.32 0.45677 0.32138 0.48108 0.32763 C 0.525 0.32208 0.56996 0.32532 0.61267 0.31075 C 0.66597 0.29271 0.69583 0.22081 0.72222 0.16485 C 0.71962 0.13318 0.72083 0.10058 0.71441 0.06982 C 0.70885 0.04323 0.6783 0.00393 0.66198 -0.00856 C 0.59792 -0.05757 0.52187 -0.05341 0.45087 -0.05711 C 0.41858 -0.05434 0.38576 -0.05688 0.35399 -0.04856 C 0.26701 -0.02544 0.18212 0.02612 0.10799 0.08878 C 0.10156 0.10358 0.08924 0.11607 0.08889 0.13318 C 0.08542 0.30497 0.21007 0.4148 0.31441 0.47352 C 0.35174 0.49456 0.3908 0.50982 0.43021 0.52208 C 0.47309 0.53526 0.51701 0.54034 0.56042 0.54959 C 0.71944 0.53271 0.88212 0.54728 1.00955 0.39745 C 1.03229 0.37063 1.04861 0.33526 1.06823 0.30427 C 1.07569 0.27745 1.09097 0.25248 1.09045 0.22404 C 1.08715 0.05641 1.03663 0.01757 0.9349 -0.04648 C 0.81736 -0.12023 0.70226 -0.12093 0.57465 -0.12486 C 0.40139 -0.11954 0.21962 -0.10405 0.06354 0.01063 C 0.04271 0.02589 0.02656 0.05017 0.00799 0.06982 C -0.00052 0.09017 -0.01736 0.10774 -0.01736 0.1311 C -0.01736 0.31075 0.10642 0.4178 0.2191 0.47144 C 0.25191 0.48693 0.28681 0.49248 0.32066 0.50312 C 0.4441 0.48138 0.58021 0.48717 0.67465 0.3593 C 0.69323 0.3341 0.70538 0.3015 0.72066 0.2726 C 0.7276 0.2437 0.74219 0.21618 0.74132 0.18589 C 0.73993 0.13803 0.72934 0.09017 0.71441 0.04647 C 0.70781 0.02728 0.69167 0.01734 0.67934 0.00416 C 0.6625 -0.01364 0.64687 -0.03515 0.62708 -0.04648 C 0.58819 -0.06867 0.50139 -0.07677 0.46198 -0.08255 C 0.43455 -0.08023 0.27778 -0.06775 0.25399 -0.06127 C 0.14549 -0.03122 0.05 0.03098 -0.03958 0.11422 C -0.05069 0.13526 -0.0658 0.15352 -0.07292 0.17757 C -0.14184 0.40855 0.05677 0.57664 0.20156 0.61295 C 0.23698 0.62173 0.27361 0.61873 0.30955 0.6215 C 0.34392 0.61942 0.37865 0.62243 0.41267 0.61503 C 0.51285 0.59329 0.57517 0.55144 0.65243 0.47144 C 0.6625 0.45017 0.675 0.43075 0.68264 0.40786 C 0.71007 0.32647 0.66719 0.22219 0.6033 0.203 C 0.58194 0.19653 0.5599 0.19722 0.53819 0.19445 C 0.49375 0.2037 0.44826 0.20624 0.40486 0.22196 C 0.32118 0.25225 0.27309 0.31769 0.22222 0.4037 C 0.21007 0.46566 0.19705 0.49595 0.21111 0.56023 C 0.24219 0.70127 0.34514 0.78381 0.44931 0.80532 C 0.47969 0.81156 0.51059 0.80832 0.54132 0.80971 C 0.63212 0.79098 0.70625 0.76786 0.76996 0.67006 C 0.7875 0.643 0.79844 0.60948 0.81267 0.57919 C 0.82743 0.50751 0.84583 0.46243 0.83177 0.3889 C 0.80712 0.26058 0.75365 0.19491 0.66996 0.13318 C 0.63785 0.10959 0.60625 0.08347 0.57153 0.06751 C 0.49687 0.03329 0.38038 0.02612 0.30642 0.01688 C 0.12257 0.03491 -0.03993 0.02959 -0.20295 0.14797 C -0.22656 0.16508 -0.24653 0.19029 -0.26823 0.21133 C -0.27726 0.22959 -0.29514 0.24439 -0.29514 0.26636 C -0.29514 0.38867 -0.26858 0.43537 -0.20469 0.50728 C -0.11094 0.61295 0.00955 0.67029 0.13021 0.69341 C 0.17431 0.70173 0.2191 0.69896 0.26354 0.70173 C 0.37274 0.68832 0.48767 0.67468 0.58108 0.58774 C 0.62951 0.54266 0.63542 0.51167 0.66354 0.44601 C 0.66788 0.40208 0.67882 0.34312 0.6651 0.29803 C 0.63073 0.1852 0.53142 0.11745 0.44601 0.09711 C 0.41302 0.08901 0.37934 0.08878 0.34601 0.08462 C 0.27413 0.0874 0.20191 0.08532 0.13021 0.09295 C 0.01198 0.10543 -0.10504 0.16138 -0.20469 0.24508 C -0.21163 0.26196 -0.22049 0.27792 -0.22517 0.29595 C -0.2316 0.31907 -0.22431 0.3519 -0.21406 0.36994 C -0.16875 0.45179 -0.1033 0.47445 -0.03333 0.49664 C 0.03437 0.49248 0.10278 0.49595 0.16996 0.48416 C 0.26753 0.46705 0.35382 0.40138 0.43333 0.32971 C 0.44896 0.30127 0.46996 0.27375 0.46996 0.23468 C 0.46996 0.20532 0.46684 0.17526 0.45885 0.14797 C 0.45365 0.13017 0.44201 0.11699 0.43177 0.10358 C 0.37795 0.03352 0.31753 0.02982 0.24601 0.01896 C 0.13125 0.03745 0.03715 0.03861 -0.05069 0.14589 C -0.07066 0.17017 -0.08559 0.20069 -0.10313 0.22821 C -0.12691 0.31052 -0.13941 0.32555 -0.13646 0.41017 C -0.13073 0.57942 -0.04028 0.74266 0.06354 0.83491 C 0.09062 0.85896 0.12274 0.87029 0.15243 0.88786 C 0.32708 0.8756 0.50677 0.91884 0.64444 0.75468 C 0.66823 0.72624 0.68681 0.6911 0.70799 0.65942 C 0.74653 0.54358 0.75208 0.55722 0.75399 0.42705 C 0.75625 0.27237 0.69097 0.11214 0.59375 0.02751 C 0.51597 -0.04023 0.4316 -0.06058 0.34132 -0.06983 C 0.30538 -0.06844 0.2691 -0.07099 0.23333 -0.06567 C 0.11875 -0.04833 0.01024 0.01364 -0.07934 0.10774 C -0.08733 0.12462 -0.09792 0.13988 -0.10313 0.15861 C -0.13941 0.29086 -0.03264 0.40046 0.04444 0.44601 C 0.06615 0.45896 0.08924 0.4689 0.11267 0.47352 C 0.1441 0.47953 0.17621 0.4763 0.20799 0.47769 C 0.23021 0.47491 0.25312 0.47722 0.27465 0.46936 C 0.34306 0.44416 0.3526 0.42728 0.40156 0.37826 C 0.41927 0.3415 0.45052 0.28323 0.45885 0.23884 C 0.46389 0.21202 0.46198 0.18381 0.46354 0.1563 C 0.45191 0.10312 0.45365 0.09364 0.42378 0.04647 C 0.36823 -0.04093 0.27639 -0.04925 0.19844 -0.05711 C 0.13976 -0.04717 0.08021 -0.04301 0.02222 -0.02752 C -0.04219 -0.01041 -0.10243 0.04347 -0.1507 0.09942 C -0.15712 0.11422 -0.16927 0.1267 -0.16962 0.14381 C -0.17066 0.17618 -0.16632 0.20994 -0.15538 0.23884 C -0.14653 0.26335 -0.12778 0.27953 -0.11267 0.29803 C -0.08333 0.3341 -0.04983 0.36462 -0.01111 0.38058 C 0.01042 0.38936 0.03333 0.3889 0.05556 0.39306 C 0.1026 0.38474 0.15087 0.38404 0.19687 0.36786 C 0.30694 0.32948 0.38854 0.18682 0.44132 0.06335 C 0.44601 0.03445 0.45486 0.00624 0.45556 -0.02336 C 0.45642 -0.05388 0.45347 -0.08532 0.44601 -0.11422 C 0.43229 -0.1674 0.3625 -0.18127 0.32865 -0.18613 C 0.30694 -0.18544 0.2849 -0.18983 0.26354 -0.18405 C 0.15365 -0.15468 0.03403 -0.04971 -0.02535 0.07815 C -0.04063 0.11098 -0.04861 0.14867 -0.06024 0.18381 C -0.06944 0.27514 -0.07899 0.30173 -0.05556 0.39745 C -0.02031 0.54058 0.08802 0.66913 0.19687 0.70612 C 0.22205 0.71468 0.24878 0.71029 0.27465 0.71237 C 0.30104 0.70959 0.3283 0.71237 0.35399 0.70381 C 0.48351 0.66034 0.53871 0.56185 0.60486 0.41849 C 0.63524 0.2756 0.65885 0.14127 0.56198 0.03375 C 0.54983 0.02034 0.53698 0.00717 0.52222 0 C 0.4849 -0.0185 0.42604 -0.01688 0.38889 -0.01896 C 0.27517 -0.00532 0.15017 0.02682 0.05712 0.12231 C 0.04167 0.13826 0.02969 0.1593 0.01597 0.17757 C 0.01181 0.19514 0.0033 0.21179 0.0033 0.23029 C 0.0033 0.27306 0.00746 0.31607 0.01597 0.35722 C 0.03351 0.44254 0.11996 0.54612 0.18264 0.57063 C 0.20104 0.5778 0.22066 0.57641 0.23976 0.57919 C 0.25556 0.5778 0.27187 0.58034 0.28733 0.57503 C 0.30469 0.56901 0.32083 0.55676 0.33663 0.54543 C 0.41476 0.48948 0.4283 0.4067 0.45087 0.30011 C 0.45972 0.1563 0.45799 0.0067 0.35556 -0.07399 C 0.3191 -0.10266 0.30312 -0.09942 0.26042 -0.10775 C 0.22066 -0.10289 0.18038 -0.10382 0.14132 -0.09295 C 0.12187 -0.0874 0.10469 -0.07191 0.08733 -0.05919 C 0.0316 -0.01827 0.00121 0.01526 -0.03177 0.08462 C -0.03333 0.11029 -0.03854 0.15607 -0.03177 0.18173 C -0.00938 0.26728 0.05746 0.35653 0.12066 0.38682 C 0.13681 0.39468 0.15451 0.39537 0.17153 0.39953 C 0.20226 0.39815 0.23351 0.40416 0.26354 0.39537 C 0.2809 0.39029 0.29496 0.37271 0.30955 0.3593 C 0.35521 0.31699 0.37535 0.25664 0.39531 0.19029 C 0.39896 0.16555 0.40712 0.1415 0.40642 0.1163 C 0.40538 0.07699 0.39965 0.03745 0.39045 0 C 0.36979 -0.08463 0.30191 -0.12648 0.24132 -0.1311 C 0.21701 -0.12833 0.19184 -0.13087 0.16823 -0.12255 C 0.15295 -0.11723 0.14028 -0.10243 0.12708 -0.09087 C 0.08542 -0.05457 0.06458 -0.00948 0.04288 0.04855 C 0.03819 0.07676 0.02865 0.10427 0.02865 0.13318 C 0.02865 0.28323 0.07049 0.41225 0.16354 0.49896 C 0.21285 0.54497 0.23455 0.54196 0.29531 0.56023 C 0.33333 0.55468 0.37222 0.55468 0.40955 0.54335 C 0.46163 0.5274 0.48681 0.4467 0.50799 0.39306 C 0.54462 0.13364 0.46771 -0.11376 0.28108 -0.21989 C 0.2283 -0.24994 0.2125 -0.24416 0.15399 -0.24948 C 0.13646 -0.24879 0.11858 -0.25226 0.10156 -0.2474 C 0.02812 -0.22636 -0.03038 -0.16578 -0.07135 -0.08463 C -0.07552 -0.06497 -0.0842 -0.04601 -0.08403 -0.02544 C -0.08281 0.09711 -0.02031 0.17202 0.05885 0.21988 C 0.10694 0.24878 0.16528 0.25456 0.21597 0.26427 C 0.27309 0.25364 0.33073 0.2474 0.38733 0.2326 C 0.49288 0.20508 0.60017 0.10751 0.65399 -0.01688 C 0.66597 -0.04463 0.67205 -0.07607 0.68108 -0.10567 C 0.68472 -0.13179 0.69375 -0.15746 0.69219 -0.18405 C 0.68941 -0.22821 0.67986 -0.27145 0.66823 -0.31283 C 0.66371 -0.32879 0.6533 -0.34081 0.64444 -0.35307 C 0.59896 -0.41549 0.56927 -0.41411 0.50642 -0.42705 C 0.46354 -0.42081 0.41996 -0.42012 0.37778 -0.4081 C 0.35746 -0.40231 0.33906 -0.38705 0.32066 -0.37411 C 0.23924 -0.3163 0.19184 -0.25226 0.15556 -0.13966 C 0.15365 -0.0911 0.14826 -0.04948 0.15885 -0.00208 C 0.20156 0.18774 0.37118 0.35306 0.51267 0.39306 C 0.54132 0.40115 0.57083 0.40162 0.6 0.40578 C 0.62483 0.40439 0.65 0.40647 0.67465 0.40162 C 0.77361 0.38196 0.82951 0.32254 0.88733 0.22196 C 0.90503 0.15653 0.90746 0.16647 0.90486 0.09295 C 0.89809 -0.09549 0.79201 -0.20625 0.66042 -0.24324 C 0.63906 -0.24925 0.61701 -0.2474 0.59531 -0.24948 C 0.45035 -0.24625 0.35799 -0.22289 0.22552 -0.13734 C 0.14896 -0.08786 0.10955 -0.05526 0.05399 0.02751 C 0.04931 0.04508 0.03976 0.0615 0.03976 0.08023 C 0.03976 0.30312 0.23819 0.35329 0.3651 0.38058 C 0.42431 0.37641 0.4842 0.38011 0.54288 0.36786 C 0.61788 0.35214 0.71233 0.28786 0.76354 0.21133 C 0.78003 0.18682 0.79219 0.15792 0.80642 0.1311 C 0.81285 0.10705 0.82535 0.08462 0.82552 0.05919 C 0.82587 0.0037 0.82118 -0.05295 0.80799 -0.10567 C 0.77118 -0.25133 0.62621 -0.32231 0.52552 -0.34243 C 0.48819 -0.34983 0.45035 -0.34821 0.41267 -0.35099 C 0.22882 -0.33873 0.00347 -0.29989 -0.14444 -0.13734 C -0.16493 -0.11492 -0.18125 -0.08671 -0.2 -0.06127 C -0.21111 -0.00717 -0.22431 0.02682 -0.20938 0.08462 C -0.15851 0.28323 0.04496 0.37688 0.18264 0.41017 C 0.21562 0.41803 0.24931 0.41849 0.28264 0.42266 C 0.35399 0.41364 0.42621 0.41225 0.49687 0.39537 C 0.56788 0.37849 0.64878 0.31815 0.69045 0.23676 C 0.70399 0.2104 0.71267 0.18034 0.72378 0.1519 C 0.73003 0.09202 0.73767 0.05503 0.72865 -0.00648 C 0.70625 -0.15954 0.60174 -0.25573 0.49219 -0.28532 C 0.45764 -0.29457 0.42222 -0.29665 0.38733 -0.30243 C 0.31806 -0.29526 0.24826 -0.29341 0.17934 -0.28116 C 0.14149 -0.27445 0.10486 -0.25942 0.06823 -0.24532 C -0.05764 -0.19653 -0.20208 -0.12023 -0.26337 0.04439 C -0.25816 0.08878 -0.26129 0.13664 -0.24757 0.17757 C -0.22882 0.23352 -0.15851 0.30196 -0.11892 0.32763 C 0.01128 0.41225 0.13733 0.42497 0.27934 0.43537 C 0.42465 0.42474 0.53437 0.41063 0.66996 0.33387 C 0.73906 0.2948 0.79253 0.24439 0.83021 0.15861 C 0.83385 0.1156 0.8401 0.0941 0.82708 0.05271 C 0.78733 -0.07422 0.63976 -0.07885 0.55712 -0.08255 C 0.39705 -0.07908 0.25642 -0.03353 0.10486 0.03375 C 0.00971999999999999 0.07584 -0.09844 0.13086 -0.16024 0.24092 C -0.16441 0.25988 -0.17431 0.27838 -0.17292 0.29803 C -0.16042 0.45225 -0.02743 0.44208 0.05712 0.44393 C 0.09479 0.43769 0.13299 0.43584 0.16996 0.42497 C 0.38212 0.36277 0.60434 0.20578 0.71441 -0.05087 C 0.71719 -0.08116 0.72396 -0.12162 0.71441 -0.15214 C 0.70816 -0.17179 0.6974 -0.18844 0.68733 -0.20509 C 0.62031 -0.3163 0.55035 -0.33064 0.44931 -0.34705 C 0.30816 -0.34266 0.17587 -0.28671 0.04601 -0.21364 C -0.0566 -0.15584 -0.17292 -0.08255 -0.25226 0.02543 C -0.27483 0.05641 -0.29149 0.09456 -0.31111 0.12878 C -0.31667 0.15792 -0.32691 0.18566 -0.32847 0.21549 C -0.33576 0.35607 -0.21181 0.3926 -0.13646 0.41849 C -0.07135 0.41225 -0.00556 0.41364 0.05885 0.39953 C 0.16545 0.37618 0.29045 0.29664 0.36996 0.19861 C 0.42361 0.13225 0.43507 0.08185 0.4651 -0.00208 C 0.47865 -0.09203 0.48837 -0.11191 0.47778 -0.20093 C 0.46528 -0.3059 0.40243 -0.41503 0.33021 -0.46081 C 0.27066 -0.49873 0.23264 -0.49827 0.16823 -0.5096 C 0.11111 -0.49827 0.05312 -0.49272 -0.00313 -0.47561 C -0.11458 -0.44162 -0.23629 -0.33087 -0.29201 -0.19653 C -0.3026 -0.17087 -0.30764 -0.14174 -0.3158 -0.11422 C -0.30833 -0.06428 -0.30851 -0.0111 -0.29358 0.03584 C -0.27969 0.07861 -0.19653 0.14936 -0.17292 0.16485 C -0.06337 0.2363 0.04931 0.23699 0.16823 0.24092 C 0.3401 0.21156 0.56406 0.16347 0.67934 -0.03168 C 0.69115 -0.05156 0.69844 -0.07538 0.70799 -0.09734 C 0.71059 -0.1163 0.71528 -0.13503 0.71597 -0.15445 C 0.71823 -0.22104 0.66701 -0.26127 0.62378 -0.27052 C 0.60399 -0.27468 0.58368 -0.27353 0.56354 -0.27492 C 0.53976 -0.27283 0.51528 -0.27584 0.49219 -0.26844 C 0.36858 -0.22844 0.18837 -0.15052 0.09844 -0.02127 C 0.08698 -0.00486 0.08056 0.01688 0.07153 0.03584 C 0.07049 0.05063 0.06701 0.06543 0.06823 0.08023 C 0.07222 0.12555 0.08681 0.1452 0.11597 0.1711 C 0.18698 0.23422 0.26042 0.2393 0.34288 0.243 C 0.47726 0.22936 0.61441 0.19792 0.72552 0.0867 C 0.74462 0.06751 0.75937 0.04162 0.77621 0.01896 C 0.78733 -0.01596 0.80104 -0.04509 0.79844 -0.08463 C 0.78958 -0.22058 0.66736 -0.27029 0.5842 -0.28116 C 0.55573 -0.28486 0.52708 -0.28393 0.49844 -0.28532 C 0.47101 -0.28324 0.44306 -0.28601 0.41597 -0.27908 C 0.27066 -0.24139 0.07014 -0.13989 -0.02535 0.02751 C -0.03715 0.04809 -0.04444 0.07237 -0.05399 0.09503 C -0.05712 0.1311 -0.06424 0.15977 -0.05069 0.19445 C -0.00729 0.30543 0.07257 0.32162 0.15712 0.33179 C 0.18472 0.32901 0.21267 0.3304 0.23976 0.32347 C 0.39496 0.2837 0.55816 0.16138 0.64444 -0.01896 C 0.65746 -0.04648 0.66458 -0.07815 0.67465 -0.10775 C 0.67934 -0.15376 0.69045 -0.20555 0.67465 -0.25156 C 0.66736 -0.27307 0.65399 -0.29018 0.64132 -0.30659 C 0.58316 -0.38104 0.51806 -0.38428 0.44132 -0.39538 C 0.23976 -0.37804 -0.00364999999999999 -0.29734 -0.14288 -0.08463 C -0.1599 -0.0585 -0.17135 -0.02682 -0.18542 0.00208 C -0.19462 0.05549 -0.20903 0.10682 -0.19826 0.16277 C -0.17274 0.29942 -0.06146 0.37641 0.03333 0.40162 C 0.06927 0.4111 0.10642 0.41156 0.14288 0.41641 C 0.18316 0.41295 0.22361 0.41341 0.26354 0.40578 C 0.41024 0.37734 0.56667 0.29271 0.66823 0.14381 C 0.71233 0.07907 0.71806 0.03722 0.73976 -0.04023 C 0.74045 -0.07769 0.74566 -0.1496 0.73333 -0.18821 C 0.70052 -0.2911 0.6125 -0.2837 0.54444 -0.28763 C 0.51528 -0.28555 0.48594 -0.2874 0.45712 -0.28116 C 0.27726 -0.24255 0.10625 -0.13388 -0.04444 -0.00208 C -0.05556 0.01896 -0.06962 0.03792 -0.07778 0.06127 C -0.10191 0.1304 -0.07153 0.19584 -0.0349 0.243 C 0.0349 0.33295 0.13785 0.37086 0.23177 0.38474 C 0.27448 0.39098 0.31753 0.38751 0.36042 0.3889 C 0.40642 0.38404 0.45295 0.38427 0.49844 0.3741 C 0.63767 0.34312 0.81076 0.26451 0.90486 0.11422 C 0.91858 0.09225 0.92604 0.06497 0.93663 0.04023 C 0.93715 0.02058 0.94028 0.00069 0.93819 -0.01896 C 0.93403 -0.05919 0.9184 -0.08278 0.89531 -0.10775 C 0.83021 -0.1785 0.76111 -0.17018 0.68108 -0.17757 C 0.42049 -0.14682 0.13455 -0.06174 -0.05399 0.19653 C -0.05972 0.21988 -0.07205 0.24185 -0.07135 0.26636 C -0.07031 0.30358 -0.06372 0.34219 -0.04913 0.3741 C -0.03854 0.39722 -0.01788 0.40948 0 0.42266 C 0.06476 0.47098 0.08385 0.46612 0.15885 0.48416 C 0.23403 0.47491 0.3099 0.47352 0.3842 0.45664 C 0.51111 0.42797 0.68368 0.31237 0.76996 0.18173 C 0.78576 0.15769 0.79635 0.12832 0.80955 0.1015 C 0.81267 0.08115 0.8191 0.06104 0.8191 0.04023 C 0.8191 0.00578 0.80503 -0.02151 0.78576 -0.04231 C 0.72986 -0.10243 0.65677 -0.0948 0.58889 -0.10151 C 0.41875 -0.0874 0.25104 -0.04047 0.09219 0.04439 C -0.00156000000000001 0.09456 -0.08056 0.15144 -0.14896 0.24948 C -0.15538 0.26913 -0.1651 0.28763 -0.16823 0.30867 C -0.17431 0.35098 -0.15903 0.37849 -0.13646 0.40578 C -0.06076 0.49711 -0.00226 0.50566 0.09531 0.52416 C 0.17465 0.51653 0.25469 0.51722 0.33333 0.50104 C 0.375 0.49248 0.41406 0.46867 0.45399 0.45017 C 0.58125 0.39144 0.65816 0.34474 0.72865 0.19029 C 0.73177 0.17202 0.7375 0.15399 0.73819 0.13526 C 0.73958 0.09341 0.71128 0.05017 0.6842 0.03375 C 0.67083 0.02566 0.65556 0.0252 0.64132 0.02104 C 0.59531 0.02173 0.54913 0.01664 0.5033 0.02312 C 0.4625 0.0289 0.32431 0.08277 0.28889 0.09942 C 0.15035 0.16439 0.07969 0.18081 -0.0158 0.30867 C -0.02865 0.38034 -0.01944 0.40416 0.03333 0.44393 C 0.13264 0.51861 0.23837 0.5274 0.34931 0.53688 C 0.52743 0.52115 0.79184 0.52532 0.92066 0.31491 C 0.92274 0.3015 0.92674 0.28832 0.92708 0.27468 C 0.92812 0.22497 0.89705 0.18543 0.86823 0.16069 C 0.80642 0.10751 0.72934 0.1052 0.65885 0.09503 C 0.53976 0.10011 0.43246 0.11722 0.31753 0.16277 C 0.21667 0.20277 0.11267 0.24832 0.04601 0.36138 C 0.04496 0.38705 0.04097 0.41803 0.05243 0.44185 C 0.07135 0.48092 0.12083 0.52277 0.14931 0.54104 C 0.24444 0.60208 0.34132 0.60046 0.44444 0.60462 C 0.57413 0.59237 0.67726 0.57896 0.78576 0.47769 C 0.79167 0.46566 0.80191 0.45595 0.8033 0.44185 C 0.81181 0.35029 0.69306 0.31214 0.64931 0.30011 C 0.61996 0.29202 0.5901 0.28878 0.56042 0.28323 C 0.45816 0.28855 0.2592 0.28323 0.13177 0.32138 C 0.08542 0.33526 0.02865 0.3593 -0.00625 0.40578 C -0.00087 0.47144 0.08628 0.49526 0.12066 0.50728 C 0.24323 0.55029 0.36441 0.5563 0.49045 0.56023 C 0.69826 0.55237 0.8474 0.56624 1.03177 0.45017 C 1.03594 0.44323 1.04444 0.43815 1.04444 0.42913 C 1.04444 0.36508 0.96476 0.33873 0.9349 0.32763 C 0.8184 0.28439 0.69757 0.28162 0.57778 0.27468 C 0.36753 0.27769 0.16806 0.26474 -0.03177 0.35514 C -0.0408 0.36439 -0.05087 0.37179 -0.05868 0.38266 C -0.08194 0.41526 -0.00313 0.44832 0.00156 0.45017 C 0.08611 0.48185 0.17483 0.48323 0.26198 0.4904 C 0.41962 0.48323 0.67934 0.50104 0.84444 0.41017 C 0.85312 0.39468 0.84514 0.39029 0.83177 0.38474 C 0.79878 0.3711 0.7934 0.37572 0.75243 0.3741 C 0.49462 0.34797 0.18871 0.37873 -0.05556 0.5052 C -0.06181 0.51214 -0.07205 0.51584 -0.07448 0.52624 C -0.0783 0.54289 -0.05139 0.55861 -0.04601 0.56023 C -0.02622 0.56601 0.08073 0.57271 0.08264 0.57295 C 0.27726 0.56693 0.44514 0.55653 0.63663 0.51792 C 0.69774 0.50566 0.75538 0.49549 0.81441 0.47144 C 0.81701 0.46936 0.82344 0.46867 0.82222 0.46497 C 0.82031 0.45919 0.81406 0.45849 0.80955 0.45664 C 0.80174 0.45341 0.79375 0.45225 0.78576 0.45017 C 0.57743 0.45757 0.38056 0.45734 0.17621 0.49896 C 0.07326 0.52 -0.01979 0.52878 -0.11424 0.57919 C -0.12188 0.59445 -0.10712 0.59144 -0.0967 0.59399 C -0.03698 0.59121 0.02309 0.5926 0.08264 0.58543 C 0.28299 0.56138 0.47118 0.50196 0.66667 0.43977 C 0.74722 0.4141 0.84392 0.39699 0.91597 0.33618 C 0.92934 0.30844 0.8684 0.30289 0.86354 0.30219 C 0.84392 0.29965 0.71441 0.29433 0.70642 0.29387 C 0.62656 0.29526 0.54653 0.2948 0.46667 0.29803 C 0.37031 0.30196 0.17778 0.31491 0.17778 0.31491 C 0.06424 0.33988 -0.05538 0.3563 -0.16181 0.41849 C -0.16076 0.42404 -0.16215 0.4319 -0.15851 0.43537 C -0.15347 0.44046 -0.14601 0.43861 -0.13958 0.43977 C -0.12847 0.44162 -0.11736 0.44254 -0.10625 0.44393 C 0.09514 0.43006 0.29097 0.38474 0.48889 0.33618 C 0.60642 0.30728 0.73316 0.29133 0.84288 0.22404 C 0.8434 0.22196 0.84566 0.21919 0.84444 0.2178 C 0.83906 0.21179 0.8125 0.21156 0.81111 0.21133 C 0.62066 0.21341 0.43802 0.22913 0.24931 0.25988 C 0.13646 0.27815 0.02135 0.28994 -0.08733 0.33826 C -0.09132 0.34358 -0.10052 0.3519 -0.0809 0.35098 C -0.0691 0.35029 0.05764 0.32948 0.06667 0.32763 C 0.13976 0.31237 0.21267 0.29526 0.28576 0.27907 C 0.42031 0.24925 0.5526 0.20254 0.68576 0.16277 C 0.81823 0.12323 0.96753 0.08901 1.09375 0.01896 C 1.09531 0.01688 1.09809 0.01549 1.09844 0.01271 C 1.09913 0.00763 1.09132 0.0074 1.0842 0.00624 C 1.07517 0.00485 1.06615 0.00347 1.05712 0.00208 C 0.83472 0.01225 0.62292 0.04185 0.40486 0.10543 C 0.25625 0.1489 0.0408 0.19006 -0.0967 0.30659 C -0.09826 0.31075 -0.10122 0.31445 -0.10156 0.31907 C -0.1033 0.3452 -0.05868 0.34497 -0.05069 0.34659 C -0.04896 0.34659 0.16927 0.33572 0.19687 0.32971 C 0.24236 0.32 0.48698 0.25271 0.56996 0.22821 C 0.66753 0.1993 0.82153 0.16508 0.9033 0.09295 C 0.90121 0.0874 0.90052 0.08023 0.89687 0.07584 C 0.88455 0.06196 0.86319 0.06312 0.84931 0.06127 C 0.76996 0.06543 0.69028 0.06474 0.61111 0.07399 C 0.43715 0.09433 0.26094 0.1378 0.09045 0.18821 C 0.00538 0.21341 -0.10035 0.23283 -0.17292 0.30427 C -0.10729 0.34844 0.11562 0.28786 0.2033 0.26427 C 0.57274 0.16485 0.41371 0.20277 0.67621 0.12462 C 0.78507 0.09202 0.84687 0.07884 0.95243 0.04231 C 1.0092 0.02243 1.11962 -0.00509 1.1651 -0.06567 C 1.16146 -0.09018 1.12621 -0.10174 1.11267 -0.10567 C 1.04045 -0.12671 0.99757 -0.12509 0.92066 -0.1311 C 0.60174 -0.12208 0.29288 -0.12116 -0.02066 -0.04231 C -0.10156 -0.02197 -0.2132 0.000460000000000002 -0.28247 0.06982 C -0.27882 0.07584 -0.27674 0.08532 -0.27135 0.08878 C -0.26424 0.09364 -0.25556 0.09318 -0.24757 0.09295 C -0.2099 0.09179 -0.1724 0.0874 -0.1349 0.08462 C 0.04705 0.04948 0.22378 -0.01503 0.40156 -0.07607 C 0.46615 -0.09827 0.53785 -0.11307 0.6 -0.14798 C 0.59948 -0.15006 0.59983 -0.1533 0.59844 -0.15445 C 0.59566 -0.15653 0.59201 -0.15607 0.58889 -0.15653 C 0.58194 -0.15746 0.57517 -0.15792 0.56823 -0.15862 C 0.43733 -0.15561 0.31233 -0.14151 0.18264 -0.1163 C 0.14462 -0.1089 0.1059 -0.10613 0.06823 -0.09526 C 0.03733 -0.08625 -0.12344 -0.04763 -0.17622 0.01271 C -0.11319 0.07352 -0.14844 0.0467 0.01753 0.01688 C 0.175 -0.01133 0.33594 -0.06752 0.49219 -0.11006 C 0.55903 -0.12833 0.625 -0.15122 0.69219 -0.16694 C 0.73021 -0.17573 0.76441 -0.17989 0.79844 -0.20301 C 0.79149 -0.22682 0.76163 -0.22752 0.74601 -0.23052 C 0.68559 -0.24255 0.66649 -0.24278 0.60156 -0.24948 C 0.38229 -0.24555 0.00625000000000001 -0.28231 -0.2316 -0.17133 C -0.23854 -0.16416 -0.24618 -0.15977 -0.22379 -0.1607 C -0.19358 -0.16185 -0.1632 -0.16555 -0.13333 -0.16925 C -0.0908 -0.17434 0.03038 -0.19468 0.06354 -0.20301 C 0.10521 -0.21341 0.14583 -0.22983 0.18733 -0.24093 C 0.30781 -0.27307 0.43003 -0.29526 0.55087 -0.32555 C 0.91215 -0.41619 0.6217 -0.3489 0.78733 -0.38682 C 0.79635 -0.39099 0.80538 -0.39561 0.81441 -0.39954 C 0.81649 -0.40047 0.82118 -0.39885 0.82066 -0.40162 C 0.81979 -0.40555 0.81562 -0.40694 0.81267 -0.4081 C 0.80712 -0.41041 0.80104 -0.41087 0.79531 -0.41226 C 0.44861 -0.40116 0.61615 -0.41318 0.29219 -0.3785 C 0.19444 -0.3681 0.09462 -0.35006 0 -0.31283 C -0.00174 -0.31052 -0.0158 -0.29734 0.00156 -0.29804 C 0.06719 -0.30104 0.1592 -0.31445 0.22708 -0.32347 C 0.46823 -0.3889 0.71198 -0.4363 0.95399 -0.4948 C 0.89427 -0.50266 0.83229 -0.48555 0.77309 -0.47769 C 0.73819 -0.47307 0.70312 -0.46983 0.66823 -0.4652 C 0.58299 -0.45364 0.49792 -0.44116 0.41267 -0.42914 C 0.29097 -0.41203 0.16944 -0.38867 0.04931 -0.35723 C 0.0099 -0.34705 -0.03108 -0.33411 -0.0651 -0.30451 C -0.01458 -0.26359 0.10017 -0.3022 0.12222 -0.30451 C 0.22847 -0.31515 0.20174 -0.31723 0.30799 -0.33827 C 0.44653 -0.36601 0.35903 -0.3422 0.49219 -0.37642 C 0.51753 -0.38289 0.54271 -0.39145 0.56823 -0.39746 C 0.60521 -0.40625 0.64253 -0.40694 0.67778 -0.42497 C 0.63212 -0.44023 0.57448 -0.41642 0.52865 -0.41018 C 0.50278 -0.40671 0.47674 -0.40671 0.45087 -0.4037 C 0.41128 -0.39931 0.30208 -0.38312 0.26354 -0.37642 C 0.19167 -0.36393 0.05781 -0.357 -0.0158 -0.30012 C -0.01979 -0.28416 -0.00868 -0.28601 0.00156 -0.28324 C 0.15833 -0.29133 0.30069 -0.32994 0.45399 -0.36994 C 0.56267 -0.39838 0.50799 -0.3748 0.59844 -0.41226 C 0.61597 -0.41966 0.65087 -0.43561 0.65087 -0.43561 C 0.5934 -0.46914 0.44219 -0.44023 0.43177 -0.43977 C 0.28958 -0.42012 0.14618 -0.40093 0.00642 -0.35931 C -0.04913 -0.34289 -0.13611 -0.32601 -0.17934 -0.26844 C -0.17708 -0.26151 -0.17691 -0.25272 -0.17292 -0.2474 C -0.16875 -0.24208 -0.16267 -0.2407 -0.15712 -0.23885 C -0.12986 -0.23006 -0.10642 -0.23168 -0.07778 -0.23052 C 0.23941 -0.23653 0.04809 -0.22243 0.22552 -0.2474 C 0.2941 -0.25711 0.36788 -0.26174 0.43333 -0.29388 C 0.43385 -0.29665 0.43594 -0.29989 0.4349 -0.30243 C 0.43385 -0.30497 0.43073 -0.30336 0.42865 -0.30451 C 0.42535 -0.30636 0.42257 -0.30937 0.4191 -0.31075 C 0.39462 -0.32093 0.36649 -0.32 0.34132 -0.32139 C 0.1816 -0.31931 0.02222 -0.30983 -0.13646 -0.28324 C -0.2066 -0.27145 -0.29792 -0.25942 -0.36024 -0.20925 C -0.36597 -0.17873 -0.3125 -0.18127 -0.30295 -0.17966 C -0.03785 -0.18705 0.21562 -0.24139 0.47778 -0.28532 C 0.5526 -0.29781 0.6276 -0.30197 0.70156 -0.32347 C 0.62795 -0.34405 0.53646 -0.32948 0.46823 -0.32763 C 0.29722 -0.30914 0.12795 -0.29226 -0.04115 -0.25156 C -0.15035 -0.2252 -0.25747 -0.1933 -0.35399 -0.11838 C -0.37517 -0.0807 -0.37795 -0.06058 -0.33802 -0.04023 C -0.26788 -0.00463 -0.18594 -0.00833 -0.11267 -0.00208 C 0.22187 -0.00532 0.59809 0.0252 0.93819 -0.05295 C 0.9217 -0.07006 0.89045 -0.06451 0.87153 -0.06567 C 0.68837 -0.06289 0.5066 -0.05434 0.32378 -0.04856 C 0.08403 -0.02451 0.1099 -0.03862 -0.06667 0.00624 C -0.1191 0.01965 -0.17847 0.03006 -0.22379 0.0719 C -0.22014 0.07815 -0.21806 0.0874 -0.21267 0.09086 C -0.20556 0.09549 -0.19688 0.0941 -0.18872 0.09503 C -0.16962 0.09711 -0.1507 0.09803 -0.13177 0.09942 C 0.10799 0.0911 0.34288 0.06335 0.58108 0.02959 C 0.66059 0.01826 0.79514 -0.01018 0.88264 -0.05295 C 0.88524 -0.05573 0.88906 -0.05734 0.89045 -0.06127 C 0.89045 -0.06127 0.88611 -0.06983 0.87778 -0.07191 C 0.86788 -0.07445 0.85781 -0.07515 0.84774 -0.07607 C 0.82708 -0.07792 0.80642 -0.07908 0.78576 -0.08047 C 0.61858 -0.07908 0.45121 -0.0874 0.2842 -0.07607 C 0.19931 -0.07029 -0.03733 -0.02752 -0.15538 0.00624 C -0.22153 0.02497 -0.33872 0.04532 -0.38733 0.12046 C -0.38455 0.13757 -0.38733 0.13387 -0.36823 0.1415 C -0.3283 0.15745 -0.3158 0.15329 -0.26823 0.1563 C 0.0125 0.14821 0.28229 0.12185 0.55885 0.04647 C 0.66667 0.01711 0.7967 -0.00301 0.89219 -0.08255 C 0.85937 -0.1452 0.80156 -0.13942 0.74774 -0.14798 C 0.61267 -0.16925 0.60625 -0.16601 0.45885 -0.17549 C 0.21597 -0.17133 -0.02691 -0.17064 -0.26979 -0.16278 C -0.30903 -0.16139 -0.35139 -0.16902 -0.38733 -0.14798 C -0.39879 -0.14127 -0.38576 -0.11237 -0.37778 -0.09942 C -0.36788 -0.08347 -0.30052 -0.08717 -0.28889 -0.08671 C -0.10712 -0.06798 0.07656 -0.09781 0.25712 -0.12902 C 0.3651 -0.14775 0.47378 -0.17203 0.58264 -0.17757 C 0.58785 -0.17619 0.59514 -0.17896 0.59844 -0.17341 C 0.60069 -0.16971 0.59201 -0.16948 0.58889 -0.16694 C 0.58299 -0.16231 0.5776 -0.15653 0.57153 -0.15214 C 0.56215 -0.1452 0.55208 -0.14012 0.54288 -0.13318 C 0.52986 -0.12324 0.51788 -0.11122 0.50486 -0.10151 C 0.44705 -0.05781 0.38299 -0.01873 0.34288 0.05503 C 0.34236 0.05988 0.34028 0.06497 0.34132 0.06982 C 0.34479 0.08578 0.35208 0.08578 0.36198 0.09086 C 0.38542 0.08462 0.40538 0.07422 0.42222 0.05063 C 0.42847 0.04185 0.43976 0.02312 0.43976 0.02312 C 0.43924 0.01688 0.44045 0.00971 0.43819 0.00416 C 0.43681 0.00092 0.43299 0 0.43021 0 C 0.4217 0 0.41337 0.00277 0.40486 0.00416 C 0.29115 0.07468 0.17535 0.16532 0.09531 0.29595 C 0.09323 0.30589 0.08993 0.31537 0.08889 0.32555 C 0.08316 0.38566 0.14062 0.38358 0.16996 0.39098 C 0.20955 0.38682 0.24948 0.38589 0.28889 0.37826 C 0.35538 0.36555 0.46354 0.32023 0.52222 0.27907 C 0.62118 0.20971 0.6901 0.16832 0.73021 0.03167 C 0.73246 -0.01573 0.73212 -0.05318 0.69219 -0.06983 C 0.68142 -0.07422 0.66996 -0.07538 0.65885 -0.07815 C 0.62187 -0.07468 0.58455 -0.07445 0.54774 -0.06775 C 0.42517 -0.04555 0.27882 0.03792 0.17309 0.10358 C 0.08455 0.15861 -0.00816 0.2037 -0.06823 0.31075 C -0.07031 0.3193 -0.07396 0.3274 -0.07448 0.33618 C -0.07587 0.35653 -0.0684 0.36809 -0.05712 0.38058 C -0.0191 0.42289 0.04618 0.42659 0.09219 0.43121 C 0.12274 0.43422 0.15347 0.43399 0.1842 0.43537 C 0.34323 0.42612 0.48993 0.39769 0.63976 0.32138 C 0.7309 0.27514 0.8276 0.21942 0.89844 0.1267 C 0.93333 0.08092 0.94601 0.03907 0.96823 -0.01688 C 0.97292 -0.06451 0.9809 -0.09156 0.96667 -0.13734 C 0.95191 -0.18497 0.93056 -0.20786 0.89687 -0.2326 C 0.81562 -0.29226 0.72674 -0.29642 0.63663 -0.30659 C 0.5434 -0.30243 0.45 -0.30359 0.35712 -0.29388 C 0.10469 -0.26752 -0.1441 -0.14937 -0.36823 0.00208 C -0.37465 0.02612 -0.38542 0.04878 -0.38733 0.07399 C -0.39132 0.12555 -0.39028 0.17849 -0.38559 0.23029 C -0.38229 0.26566 -0.35677 0.30219 -0.33802 0.32347 C -0.26302 0.40786 -0.16927 0.40971 -0.07622 0.41433 C 0.00694 0.40601 0.06319 0.40416 0.14601 0.37826 C 0.22135 0.35468 0.32066 0.30543 0.39219 0.26636 C 0.50208 0.20647 0.61181 0.13711 0.6842 0.00832 C 0.68889 -0.01688 0.70017 -0.05064 0.69045 -0.07815 C 0.67934 -0.1096 0.64687 -0.13757 0.62552 -0.15006 C 0.5375 -0.20185 0.43316 -0.19145 0.33976 -0.19445 C 0.15174 -0.18359 -0.02691 -0.15376 -0.19653 -0.03815 C -0.26424 0.00786 -0.32083 0.05618 -0.36181 0.1415 C -0.35972 0.16832 -0.3625 0.19653 -0.35556 0.22196 C -0.35087 0.2393 -0.33854 0.25156 -0.32847 0.26427 C -0.28316 0.32115 -0.23195 0.32971 -0.17292 0.34243 C -0.12101 0.33965 -0.06892 0.34196 -0.01736 0.33387 C 0.02778 0.32693 0.12674 0.28092 0.16667 0.25988 C 0.30139 0.1889 0.40174 0.11052 0.48889 -0.0444 C 0.49913 -0.09341 0.51875 -0.15862 0.47778 -0.19445 C 0.46771 -0.20324 0.45625 -0.20994 0.44444 -0.21364 C 0.43316 -0.21711 0.42118 -0.21503 0.40955 -0.21573 C 0.39479 -0.21503 0.37969 -0.21781 0.3651 -0.21364 C 0.29601 -0.19422 0.22899 -0.13757 0.16996 -0.08879 C 0.10087 -0.03191 0.03246 0.02682 -0.00313 0.1267 C -0.00365 0.13849 -0.00608 0.15098 -0.00469 0.16277 C 0.00017 0.20208 0.00972 0.21526 0.03333 0.23884 C 0.08871 0.2941 0.14774 0.2948 0.21441 0.30219 C 0.27361 0.29595 0.33351 0.29526 0.39219 0.28323 C 0.47865 0.26543 0.60347 0.19861 0.68264 0.14797 C 0.7474 0.10659 0.82396 0.05664 0.86667 -0.02336 C 0.86719 -0.03029 0.86944 -0.03746 0.86823 -0.0444 C 0.86354 -0.06983 0.83246 -0.06682 0.82066 -0.06775 C 0.71701 -0.06266 0.61215 -0.01549 0.51597 0.03375 C 0.39062 0.0978 0.25174 0.16 0.15399 0.28948 C 0.15191 0.29803 0.14653 0.30612 0.14774 0.31491 C 0.15139 0.34243 0.16458 0.33919 0.17934 0.34243 C 0.20642 0.33456 0.23403 0.33017 0.26042 0.31907 C 0.37361 0.27144 0.47778 0.17873 0.56996 0.08023 C 0.65139 -0.00694 0.71806 -0.09549 0.76042 -0.22405 C 0.75799 -0.27145 0.76424 -0.29203 0.73663 -0.31723 C 0.78472 -0.33827 0.83108 -0.36994 0.88108 -0.38058 C 0.96406 -0.39815 1.13021 -0.4333 1.13021 -0.4333 C 1.12274 -0.41503 1.11285 -0.39815 1.10799 -0.3785 C 1.09635 -0.33087 1.10868 -0.27584 1.13177 -0.23885 C 1.14115 -0.22382 1.15035 -0.20833 1.16198 -0.19653 C 1.18559 -0.17272 1.23663 -0.13318 1.23663 -0.13318 C 1.23246 -0.31838 1.30608 -0.5896 1.13663 -0.64694 C 1.11632 -0.65388 1.09549 -0.65734 1.07465 -0.65966 C 1.04462 -0.66289 1.01441 -0.66243 0.9842 -0.66382 C 0.80746 -0.65179 0.63646 -0.6 0.46667 -0.5348 C 0.27014 -0.45942 0.02656 -0.38914 -0.13646 -0.20925 C -0.14115 -0.19792 -0.14792 -0.18775 -0.1507 -0.17549 C -0.15851 -0.14127 -0.12448 -0.13018 -0.10955 -0.12255 C -0.04861 -0.12671 0.01233 -0.12763 0.07309 -0.13526 C 0.16615 -0.14705 0.26233 -0.18821 0.35087 -0.22613 C 0.41667 -0.25434 0.49687 -0.28625 0.54774 -0.35307 C 0.54931 -0.35792 0.55208 -0.36255 0.55243 -0.36786 C 0.55312 -0.37804 0.52309 -0.3859 0.52066 -0.38682 C 0.41371 -0.38012 0.30642 -0.34382 0.20486 -0.30012 C 0.07569 -0.2444 -0.06042 -0.19283 -0.1651 -0.07191 C -0.16823 -0.06405 -0.17379 -0.05734 -0.17431 -0.04856 C -0.17708 -0.00278 -0.14271 -0.00231 -0.11892 0.00416 C -0.05816 0.00138 0.00278 0.00138 0.06354 -0.00416 C 0.15503 -0.01249 0.24705 -0.04301 0.3349 -0.07607 C 0.39792 -0.09966 0.46424 -0.1281 0.52066 -0.17341 C 0.52413 -0.18243 0.52865 -0.18752 0.51267 -0.18821 C 0.49635 -0.1889 0.47986 -0.18544 0.46354 -0.18405 C 0.30017 -0.13642 0.13785 -0.07122 -0.00955 0.03584 C -0.01441 0.04485 -0.02066 0.05063 -0.00156 0.04855 C 0.02083 0.04624 0.04306 0.04092 0.0651 0.03584 C 0.09844 0.02797 0.16076 0.0067 0.18889 -0.00648 C 0.22153 -0.02174 0.35903 -0.08925 0.41267 -0.12694 C 0.45312 -0.15538 0.52083 -0.19353 0.54931 -0.25364 C 0.54826 -0.26081 0.54896 -0.2689 0.54601 -0.27492 C 0.54097 -0.28532 0.52587 -0.2844 0.5191 -0.28532 C 0.42656 -0.27769 0.33681 -0.22428 0.25087 -0.18405 C 0.20538 -0.16278 0.10503 -0.11029 0.06198 -0.05295 C 0.05486 -0.00416 0.07917 -0.00185 0.11267 0.00624 C 0.18837 0.02427 0.26458 0.02612 0.34132 0.02959 C 0.46562 0.0215 0.59184 0.02427 0.71441 -0.00856 C 0.76042 -0.02081 0.82587 -0.03353 0.85885 -0.08463 C 0.85521 -0.09226 0.85295 -0.10174 0.84774 -0.10775 C 0.82708 -0.13226 0.78385 -0.12902 0.76042 -0.1311 C 0.71753 -0.12625 0.67431 -0.12463 0.63177 -0.1163 C 0.56406 -0.10312 0.46042 -0.05989 0.39687 -0.02544 C 0.35399 -0.00208 0.28976 0.03607 0.2651 0.09295 C 0.26771 0.10289 0.26875 0.11375 0.27309 0.12231 C 0.27951 0.13595 0.29705 0.14011 0.30642 0.14381 C 0.33871 0.15607 0.33056 0.1519 0.37153 0.15861 C 0.44392 0.15491 0.50521 0.1519 0.57309 0.11838 C 0.59236 0.10867 0.60746 0.10127 0.62066 0.08023 C 0.62483 0.05202 0.61042 0.0474 0.59219 0.04439 C 0.51111 0.04901 0.42812 0.06335 0.35399 0.1119 C 0.35295 0.11329 0.34931 0.11653 0.35087 0.1163 C 0.36389 0.11352 0.39097 0.08971 0.40156 0.08023 C 0.44844 0.03861 0.49184 -0.01942 0.51111 -0.09087 C 0.51302 -0.1133 0.52049 -0.13711 0.5 -0.14382 C 0.44097 -0.11006 0.38889 -0.04694 0.36198 0.03167 C 0.35382 0.15306 0.46753 0.14589 0.53021 0.14797 C 0.57934 0.1452 0.62882 0.14682 0.67778 0.13942 C 0.74722 0.12878 0.81632 0.09202 0.87465 0.04231 C 0.87778 0.03514 0.88403 0.02936 0.8842 0.02104 C 0.88576 -0.03283 0.82969 -0.03399 0.8033 -0.04231 C 0.76406 -0.04162 0.72483 -0.0444 0.68576 -0.04023 C 0.56233 -0.02682 0.41111 0.03237 0.30156 0.09086 C 0.23785 0.12485 0.15243 0.15838 0.11267 0.24092 C 0.11528 0.25572 0.11545 0.27167 0.12066 0.28532 C 0.13212 0.31537 0.19184 0.34381 0.21111 0.35306 C 0.33698 0.41318 0.46875 0.42774 0.60156 0.43537 C 0.72101 0.42659 0.82865 0.43029 0.93663 0.36138 C 0.94028 0.35653 0.94514 0.3526 0.94774 0.34659 C 0.96823 0.29826 0.90417 0.27306 0.88264 0.26636 C 0.86753 0.2615 0.85191 0.25919 0.83663 0.25572 C 0.78906 0.25641 0.74132 0.25456 0.69375 0.2578 C 0.59184 0.26474 0.48993 0.2948 0.39045 0.32347 C 0.32361 0.34266 0.25868 0.3637 0.19844 0.40786 C 0.18038 0.47375 0.28108 0.49873 0.30799 0.50728 C 0.36649 0.52578 0.39496 0.52485 0.45885 0.5348 C 0.53785 0.54728 0.6158 0.55121 0.69531 0.55584 C 0.77917 0.55121 0.84045 0.55098 0.91753 0.52855 C 0.92274 0.52508 0.92865 0.52254 0.93333 0.51792 C 0.96493 0.48693 0.9 0.46381 0.89045 0.46081 C 0.82986 0.44138 0.76684 0.44323 0.70486 0.43977 C 0.56719 0.44138 0.41701 0.42913 0.28264 0.48416 C 0.27639 0.49202 0.27431 0.49202 0.29375 0.49896 C 0.30035 0.50127 0.30746 0.50011 0.31441 0.50104 C 0.32604 0.50289 0.33767 0.5052 0.34931 0.50728 C 0.52257 0.49988 0.49757 0.50566 0.6191 0.4904 C 0.67187 0.4837 0.72344 0.46844 0.77621 0.46497 C 0.79149 0.45873 0.8099 0.45641 0.81753 0.43537 C 0.80625 0.42034 0.80972 0.42081 0.79219 0.41641 C 0.77535 0.41225 0.74132 0.40578 0.74132 0.40578 C 0.64861 0.4111 0.56424 0.41433 0.47465 0.43977 C 0.46458 0.44647 0.44444 0.44763 0.45556 0.46497 C 0.45712 0.46751 0.4599 0.46797 0.46198 0.46936 C 0.48403 0.46821 0.5066 0.46474 0.52865 0.46936 C 0.53611 0.47098 0.54219 0.48231 0.54931 0.48624 C 0.56493 0.50705 0.58316 0.52416 0.6 0.54335 C 0.60399 0.54797 0.60677 0.55422 0.61111 0.55815 C 0.61649 0.56277 0.62292 0.56485 0.62865 0.56855 C 0.65503 0.58497 0.66823 0.59584 0.69531 0.60254 C 0.69792 0.60138 0.72882 0.59006 0.7349 0.58335 C 0.75556 0.56092 0.76528 0.52092 0.77153 0.48832 C 0.77431 0.44416 0.77396 0.38589 0.74288 0.3593 C 0.73819 0.36208 0.73264 0.36347 0.72865 0.36786 C 0.71996 0.37757 0.71944 0.40763 0.71753 0.42058 C 0.7151 0.4541 0.71128 0.48763 0.72066 0.52 C 0.72292 0.52809 0.72413 0.53734 0.72865 0.54335 C 0.7316 0.54728 0.73611 0.54867 0.73976 0.55167 C 0.74931 0.54821 0.75868 0.54451 0.76823 0.54104 C 0.77344 0.53919 0.77795 0.53433 0.78264 0.53063 C 0.80764 0.51098 0.83038 0.49225 0.85087 0.46497 C 0.8533 0.48508 0.84861 0.50427 0.84601 0.52416 C 0.8441 0.5556 0.83941 0.58612 0.83663 0.61734 C 0.83767 0.62011 0.8375 0.6252 0.83976 0.62566 C 0.84531 0.62659 0.85174 0.61225 0.85399 0.60878 C 0.86667 0.58982 0.87726 0.57271 0.88576 0.54959 C 0.88403 0.52717 0.88681 0.52393 0.87153 0.51584 C 0.84687 0.523 0.82812 0.5415 0.80642 0.55815 C 0.79965 0.56323 0.79271 0.56809 0.78576 0.57295 C 0.78403 0.5741 0.77986 0.57896 0.78108 0.57711 C 0.78715 0.56855 0.79375 0.56023 0.8 0.55167 C 0.80052 0.5489 0.80347 0.54474 0.80156 0.54335 C 0.79913 0.54173 0.79635 0.54636 0.79375 0.54751 C 0.79062 0.54913 0.78733 0.55029 0.7842 0.55167 C 0.76927 0.55769 0.75503 0.56323 0.73976 0.56647 C 0.73715 0.56786 0.73003 0.56763 0.73177 0.57063 C 0.73437 0.57526 0.7401 0.57503 0.74444 0.57503 C 0.75833 0.57503 0.77205 0.57202 0.78576 0.57063 C 0.80799 0.56855 0.83021 0.56647 0.85243 0.56439 C 0.88611 0.55769 0.90486 0.55537 0.93333 0.53063 C 0.94028 0.51838 0.94271 0.51514 0.93333 0.50312 C 0.87326 0.50589 0.81198 0.51375 0.75712 0.54959 C 0.75243 0.56832 0.76059 0.56624 0.77153 0.56855 C 0.79635 0.56578 0.81493 0.56231 0.83819 0.55584 C 0.86233 0.54913 0.87708 0.54821 0.89687 0.53063 C 0.89271 0.51306 0.86094 0.52532 0.85399 0.52624 C 0.81528 0.53156 0.77847 0.53503 0.74601 0.56647 C 0.75069 0.58936 0.76597 0.57017 0.77621 0.56439 C 0.79583 0.55329 0.81858 0.53942 0.8349 0.52 C 0.85156 0.49988 0.83003 0.52 0.84444 0.50728 C 0.83837 0.49664 0.84028 0.49503 0.82708 0.50104 C 0.81007 0.5089 0.79549 0.52023 0.7842 0.53896 C 0.78003 0.54566 0.77309 0.56023 0.77309 0.56023 C 0.76979 0.58266 0.77344 0.58636 0.79045 0.5919 C 0.81476 0.58913 0.85035 0.58705 0.86996 0.56231 C 0.86806 0.55514 0.86927 0.55375 0.86198 0.55375 C 0.83871 0.55375 0.81545 0.55514 0.79219 0.55584 C 0.75781 0.55884 0.71788 0.55838 0.68576 0.57919 C 0.70035 0.60555 0.68924 0.59075 0.74132 0.58127 C 0.7651 0.57688 0.78542 0.56994 0.80642 0.55584 C 0.8151 0.54034 0.80486 0.53757 0.79375 0.5348 C 0.76163 0.52647 0.72621 0.52786 0.69375 0.52416 C 0.60312 0.52578 0.51424 0.5341 0.42378 0.53896 C 0.2816 0.56393 0.33524 0.55884 0.26354 0.56439 C 0.25833 0.56647 0.25278 0.56786 0.24774 0.57063 C 0.24635 0.57133 0.24323 0.57387 0.24444 0.57503 C 0.24809 0.57849 0.26788 0.58104 0.27153 0.58127 C 0.30069 0.58243 0.32969 0.58266 0.35885 0.58335 C 0.40226 0.58196 0.44566 0.58196 0.48889 0.57919 C 0.51007 0.5778 0.53142 0.57549 0.55243 0.57063 C 0.56545 0.56763 0.59045 0.55584 0.59045 0.55584 C 0.60573 0.53618 0.5875 0.53734 0.57309 0.53271 C 0.55816 0.52786 0.54236 0.52832 0.52708 0.52624 C 0.43976 0.5274 0.27222 0.52786 0.18108 0.5348 C 0.15243 0.53711 0.09531 0.54751 0.09531 0.54751 C 0.08993 0.55029 0.0816 0.5489 0.07934 0.55584 C 0.07778 0.56069 0.08646 0.56185 0.09045 0.56231 C 0.10833 0.56462 0.12639 0.5637 0.14444 0.56439 C 0.20156 0.55769 0.2592 0.55699 0.31597 0.54543 C 0.35694 0.53688 0.3974 0.52439 0.43819 0.51375 C 0.44253 0.5126 0.51441 0.49826 0.52552 0.49456 C 0.54271 0.48878 0.57621 0.47352 0.57621 0.47352 C 0.5901 0.46104 0.59913 0.45086 0.57621 0.43977 C 0.55556 0.42982 0.5309 0.42982 0.50955 0.42705 C 0.38524 0.42936 0.26094 0.43375 0.13663 0.43977 C 0.07187 0.4467 0.05746 0.44578 -0.00313 0.46081 C -0.025 0.46636 -0.06823 0.47977 -0.06823 0.47977 C -0.07188 0.4837 -0.08559 0.49387 -0.06337 0.49248 C -0.01528 0.48948 0.03542 0.48 0.08264 0.46497 C 0.11024 0.45618 0.18524 0.42751 0.21111 0.41433 C 0.27448 0.38243 0.34965 0.35514 0.3842 0.27052 C 0.3875 0.22566 0.36806 0.20439 0.33819 0.18589 C 0.27691 0.14774 0.21476 0.1378 0.14774 0.13318 C 0.11337 0.13086 0.07882 0.1304 0.04444 0.12878 C -0.10729 0.13711 -0.2408 0.14196 -0.38733 0.18381 C -0.38629 0.20925 -0.38941 0.2356 -0.38403 0.25988 C -0.38229 0.26751 -0.37396 0.26844 -0.36823 0.27052 C -0.35885 0.27399 -0.34913 0.27514 -0.33958 0.27699 C -0.2684 0.29156 -0.1974 0.29248 -0.12535 0.29595 C -0.000350000000000003 0.28138 0.12917 0.27283 0.25399 0.2474 C 0.30903 0.2363 0.37465 0.22381 0.42378 0.18589 C 0.39809 0.14011 0.29531 0.17757 0.29531 0.17757 C 0.18559 0.1963 0.07621 0.22081 -0.03177 0.25364 C -0.07813 0.26774 -0.11823 0.27907 -0.15712 0.31491 C -0.16094 0.33641 -0.14792 0.3378 -0.13333 0.34243 C -0.09306 0.35514 -0.08837 0.35167 -0.03958 0.35514 C 0.04514 0.35375 0.12986 0.3556 0.21441 0.35098 C 0.25521 0.34867 0.36181 0.32555 0.4033 0.31907 C 0.51198 0.30196 0.4566 0.31838 0.55712 0.29179 C 0.5816 0.28532 0.63021 0.27052 0.63021 0.27052 C 0.63281 0.26774 0.63819 0.26659 0.63819 0.26219 C 0.63819 0.25803 0.63316 0.25711 0.63021 0.25572 C 0.62569 0.25364 0.62083 0.25225 0.61597 0.25156 C 0.6059 0.25017 0.59583 0.25017 0.58576 0.24948 C 0.49722 0.2511 0.46163 0.24878 0.37778 0.25988 C 0.27187 0.27399 0.27483 0.28 0.16667 0.30011 C 0.07344 0.31745 -0.01944 0.33156 -0.11111 0.36138 C -0.11372 0.36416 -0.1283 0.37526 -0.10781 0.3741 C -0.0691 0.37202 -0.03056 0.36693 0.00799 0.36138 C 0.06684 0.35283 0.12569 0.34358 0.1842 0.33179 C 0.32014 0.30451 0.4566 0.27514 0.59045 0.2326 C 0.62031 0.22312 0.70712 0.20555 0.74774 0.16901 C 0.72344 0.13734 0.67101 0.14289 0.64132 0.13942 C 0.46632 0.14196 0.29774 0.15329 0.12378 0.16485 C -0.02622 0.18682 -0.18125 0.18867 -0.32691 0.24508 C -0.32847 0.24717 -0.33333 0.24925 -0.33177 0.25156 C -0.32413 0.26335 -0.29653 0.26173 -0.29028 0.26219 C -0.12865 0.24994 0.03576 0.23098 0.19531 0.19029 C 0.25208 0.17572 0.30851 0.1593 0.3651 0.14381 C 0.38646 0.13803 0.40764 0.13202 0.42865 0.12462 C 0.4474 0.11792 0.4842 0.1015 0.4842 0.1015 C 0.4941 0.08763 0.46198 0.08878 0.46042 0.08878 C 0.45035 0.08786 0.44028 0.0874 0.43021 0.0867 C 0.2559 0.08971 0.08924 0.11537 -0.08403 0.14589 C -0.11927 0.1519 -0.16823 0.16185 -0.2 0.19029 C -0.19635 0.19445 -0.19358 0.20092 -0.18872 0.203 C -0.18125 0.20624 -0.17292 0.20462 -0.1651 0.20508 C -0.15243 0.20601 -0.13958 0.20647 -0.12691 0.20717 C 0.06389 0.19514 0.25486 0.16115 0.44288 0.1163 C 0.54861 0.0911 0.66111 0.07214 0.76667 0.04023 C 0.76979 0.03815 0.77431 0.03769 0.77621 0.03375 C 0.77726 0.03167 0.77465 0.0289 0.77309 0.02751 C 0.77083 0.0252 0.76788 0.02381 0.7651 0.02312 C 0.7599 0.02173 0.75451 0.02173 0.74931 0.02104 C 0.68681 0.02173 0.62448 0.02081 0.56198 0.02312 C 0.46493 0.02682 0.36927 0.04832 0.27309 0.06335 C 0.18871 0.07653 0.09861 0.07399 0.01753 0.1119 C 0.01146 0.11815 0.000869999999999999 0.12532 0.02552 0.12231 C 0.07014 0.11745 0.1151 0.11375 0.15885 0.1015 C 0.21389 0.08578 0.26927 0.07352 0.32378 0.05503 C 0.43299 0.01803 0.54132 -0.01896 0.64931 -0.06127 C 0.6875 -0.0763 0.73333 -0.08532 0.76823 -0.11422 C 0.76354 -0.13295 0.72535 -0.1207 0.72222 -0.12047 C 0.60312 -0.10636 0.48871 -0.03769 0.37934 0.02104 C 0.30434 0.06127 0.23924 0.10659 0.17778 0.17757 C 0.17517 0.18451 0.17205 0.19121 0.16996 0.19861 C 0.16319 0.22266 0.17865 0.22219 0.19219 0.22404 C 0.27726 0.2067 0.35729 0.16208 0.4349 0.11422 C 0.51892 0.06219 0.60816 0.0111 0.67153 -0.08255 C 0.67257 -0.0874 0.67552 -0.09226 0.67465 -0.09734 C 0.67187 -0.11422 0.66371 -0.11307 0.65399 -0.1163 C 0.5559 -0.10359 0.49028 -0.08486 0.39687 -0.0444 C 0.27118 0.00994 0.14896 0.05988 0.0349 0.14797 C 0.03229 0.15352 0.02587 0.15838 0.02708 0.16485 C 0.03125 0.18844 0.0533 0.18612 0.0651 0.18821 C 0.23142 0.16532 0.3941 0.10636 0.54601 0.01063 C 0.59635 -0.02104 0.64965 -0.05041 0.69219 -0.09942 C 0.68924 -0.12139 0.68542 -0.11607 0.66823 -0.11838 C 0.53194 -0.10867 0.39878 -0.04763 0.26823 0 C 0.13368 0.04925 -0.00365 0.09942 -0.12535 0.19237 C -0.12795 0.19792 -0.13333 0.20254 -0.13333 0.20925 C -0.13333 0.22127 -0.1092 0.22566 -0.10781 0.22612 C 0.06667 0.1993 0.23785 0.11329 0.39531 0.01063 C 0.41962 -0.00509 0.44323 -0.0222 0.46667 -0.04023 C 0.51163 -0.07492 0.55764 -0.09781 0.58576 -0.15445 C 0.58941 -0.19353 0.57448 -0.23052 0.54444 -0.24324 C 0.53524 -0.24717 0.48663 -0.2548 0.48108 -0.25573 C 0.40312 -0.25249 0.33299 -0.23307 0.25885 -0.20093 C 0.21007 -0.17966 0.23628 -0.1963 0.20156 -0.17133 C 0.19792 -0.16578 0.1934 -0.1607 0.19045 -0.15445 C 0.17031 -0.1126 0.21753 -0.09434 0.23819 -0.09087 C 0.24549 -0.08971 0.25295 -0.08948 0.26042 -0.08879 C 0.31771 -0.09573 0.32691 -0.08671 0.36354 -0.12486 C 0.3684 -0.13503 0.375 -0.1452 0.37465 -0.15862 C 0.37222 -0.23168 0.31962 -0.23607 0.27621 -0.23885 C 0.24028 -0.23815 0.20417 -0.2407 0.16823 -0.23677 C 0.10226 -0.2296 0.02986 -0.2 -0.03177 -0.16925 C -0.06771 -0.15145 -0.09983 -0.13318 -0.12535 -0.09526 C -0.12639 -0.08532 -0.12899 -0.07492 -0.12379 -0.06567 C -0.11094 -0.04278 -0.07639 -0.04162 -0.05868 -0.03815 C -0.01788 -0.04093 0.02309 -0.03885 0.06354 -0.04648 C 0.21441 -0.07468 0.2783 -0.11214 0.42708 -0.17549 C 0.51215 -0.21179 0.60243 -0.2585 0.68108 -0.31931 C 0.6842 -0.32486 0.68976 -0.32925 0.69045 -0.33619 C 0.69253 -0.35815 0.65087 -0.3637 0.64288 -0.36578 C 0.44323 -0.35376 0.28281 -0.33295 0.09045 -0.2474 C 0.02066 -0.21642 -0.0625 -0.19029 -0.12222 -0.12902 C -0.12292 -0.12278 -0.12622 -0.10914 -0.12066 -0.10359 C -0.10087 -0.08347 -0.04688 -0.08555 -0.02691 -0.08463 C 0.1842 -0.09642 0.07187 -0.08416 0.30955 -0.12694 C 0.37326 -0.1385 0.43455 -0.1674 0.49687 -0.18821 C 0.57899 -0.21549 0.57517 -0.21203 0.64774 -0.24948 C 0.67986 -0.26613 0.71354 -0.28 0.73819 -0.31283 C 0.73871 -0.31561 0.74115 -0.31908 0.73976 -0.32139 C 0.73177 -0.33549 0.71562 -0.33411 0.70486 -0.33619 C 0.5151 -0.32208 0.29826 -0.27515 0.1191 -0.19885 C 0.05174 -0.17018 -0.08299 -0.13133 -0.15399 -0.06336 C -0.16129 -0.02451 -0.10625 -0.03029 -0.09358 -0.0296 C -0.01424 -0.03445 0.06528 -0.037 0.14444 -0.0444 C 0.2934 -0.05827 0.43837 -0.10752 0.5842 -0.1459 C 0.67726 -0.17041 0.7717 -0.18729 0.86198 -0.22844 C 0.81406 -0.23746 0.73854 -0.20208 0.69531 -0.18405 C 0.64045 -0.16116 0.58628 -0.13596 0.53177 -0.11214 C 0.4309 -0.06798 0.31667 -0.02844 0.23976 0.07399 C 0.23368 0.14797 0.3026 0.14451 0.34132 0.14797 C 0.36458 0.15006 0.38785 0.15075 0.41111 0.1519 C 0.53819 0.14451 0.66076 0.14104 0.78576 0.1119 C 0.83611 0.10011 0.88628 0.08809 0.93663 0.07584 C 0.9526 0.07214 0.96858 0.06867 0.9842 0.06335 C 0.99392 0.06011 1.01267 0.05063 1.01267 0.05063 C 0.98941 0.03006 1.00486 0.04185 0.93976 0.04855 C 0.92344 0.05017 0.80503 0.07514 0.80156 0.07584 C 0.65556 0.11329 0.52031 0.18104 0.37778 0.23676 C 0.31962 0.25942 0.27535 0.27907 0.22378 0.31907 C 0.22292 0.32277 0.21753 0.33757 0.22222 0.34243 C 0.22621 0.34659 0.23177 0.34682 0.23663 0.34867 C 0.25885 0.35722 0.2592 0.35584 0.28576 0.36138 C 0.34184 0.36 0.39792 0.35907 0.45399 0.35722 C 0.51875 0.35491 0.58333 0.34659 0.64774 0.33826 C 0.66146 0.33641 0.67517 0.33456 0.68889 0.33179 C 0.69687 0.33017 0.72014 0.32138 0.71267 0.32555 C 0.66354 0.35214 0.60642 0.35676 0.55556 0.36994 C 0.475 0.39075 0.39462 0.41433 0.31441 0.43745 C 0.2684 0.45063 0.21042 0.45757 0.16823 0.4904 C 0.1776 0.49849 0.17413 0.49688 0.19219 0.49664 C 0.24983 0.49595 0.30746 0.49387 0.3651 0.49248 C 0.48802 0.48185 0.61094 0.46566 0.73333 0.44601 C 0.7724 0.43352 0.81215 0.42404 0.85087 0.41017 C 0.85347 0.40809 0.85816 0.40763 0.85885 0.4037 C 0.85937 0.40092 0.85469 0.40208 0.85243 0.40162 C 0.84722 0.40069 0.84184 0.40023 0.83663 0.39953 C 0.78628 0.40162 0.73594 0.40185 0.68576 0.40578 C 0.61892 0.4111 0.55052 0.42821 0.4842 0.43745 C 0.2026 0.47676 0.52726 0.42266 0.25399 0.46705 C 0.21736 0.47306 0.18108 0.48115 0.14444 0.48624 C 0.11441 0.4904 0.08403 0.49063 0.05399 0.49456 C 0.03437 0.49711 0.01493 0.50196 -0.00469 0.5052 C -0.01111 0.50612 -0.03004 0.5089 -0.02379 0.50728 C 0.14965 0.4615 0.3533 0.42081 0.51597 0.32347 C 0.56424 0.29456 0.62812 0.2763 0.65885 0.21133 C 0.65677 0.1993 0.65677 0.18636 0.65243 0.17549 C 0.64687 0.16162 0.6191 0.1415 0.61111 0.13734 C 0.58142 0.12138 0.52795 0.10358 0.49844 0.09711 C 0.36111 0.06659 0.21996 0.06705 0.08108 0.06335 C 0.06736 0.0615 0.05226 0.0652 0.03976 0.05711 C 0.03819 0.05618 0.04288 0.05549 0.04444 0.05503 C 0.05017 0.05341 0.05625 0.05271 0.06198 0.05063 C 0.08906 0.04069 0.11597 0.02959 0.14288 0.01896 C 0.16736 0.00925 0.19132 -0.00185 0.21597 -0.01064 C 0.27465 -0.03168 0.33351 -0.05249 0.39219 -0.07399 C 0.42187 -0.08486 0.45087 -0.09919 0.48108 -0.10775 C 0.64965 -0.15515 0.49826 -0.1089 0.64444 -0.16278 C 0.67951 -0.17573 0.71094 -0.18151 0.74288 -0.20301 C 0.74566 -0.21734 0.74201 -0.21526 0.73177 -0.22197 C 0.69687 -0.22127 0.66181 -0.22497 0.62708 -0.21989 C 0.47778 -0.19746 0.29479 -0.14821 0.16667 -0.04023 C 0.16458 -0.03468 0.1599 -0.0296 0.16042 -0.02336 C 0.16302 0.00578 0.19878 0.00508 0.21267 0.00832 C 0.27517 0.00277 0.33785 0.00115 0.4 -0.00856 C 0.41736 -0.01133 0.54115 -0.05388 0.55885 -0.06127 C 0.59444 -0.07607 0.65677 -0.09734 0.69375 -0.13318 C 0.69167 -0.13665 0.69045 -0.14197 0.68733 -0.14382 C 0.68299 -0.14659 0.67778 -0.14544 0.67309 -0.1459 C 0.6651 -0.14682 0.65729 -0.14729 0.64931 -0.14798 C 0.53056 -0.13549 0.4184 -0.11283 0.30486 -0.06336 C 0.24236 -0.03607 0.18177 -0.01388 0.13177 0.04439 C 0.12726 0.06821 0.13976 0.06959 0.15399 0.0719 C 0.16823 0.06982 0.18281 0.06913 0.19687 0.06543 C 0.23038 0.05595 0.26667 0.03167 0.29687 0.01063 C 0.32795 -0.0111 0.35712 -0.03561 0.37309 -0.07815 C 0.36944 -0.09318 0.37222 -0.08925 0.34931 -0.08047 C 0.3184 -0.06844 0.29358 -0.03168 0.26996 -0.00648 C 0.19236 0.0763 0.11684 0.1563 0.06198 0.26844 C 0.05382 0.30451 0.04236 0.32786 0.05712 0.36578 C 0.06163 0.37734 0.09774 0.38566 0.10156 0.38682 C 0.13437 0.38127 0.16771 0.37919 0.2 0.36994 C 0.27899 0.34751 0.35347 0.29202 0.42066 0.23468 C 0.5276 0.14358 0.62726 0.03352 0.67153 -0.12902 C 0.67552 -0.17804 0.67344 -0.24023 0.62708 -0.25156 C 0.61667 -0.25411 0.6059 -0.25295 0.59531 -0.25364 C 0.43958 -0.24717 0.28715 -0.16255 0.15243 -0.06127 C 0.10226 -0.02359 0.04878 0.01549 0.02865 0.09086 C 0.03073 0.10427 0.03073 0.11861 0.0349 0.1311 C 0.04219 0.15352 0.07517 0.15399 0.08889 0.1563 C 0.11649 0.15144 0.14444 0.14936 0.17153 0.1415 C 0.26962 0.11329 0.36146 0.03653 0.44288 -0.03815 C 0.48663 -0.07815 0.53194 -0.11746 0.55087 -0.18613 C 0.54826 -0.19607 0.54757 -0.2074 0.54288 -0.21573 C 0.54062 -0.21989 0.53559 -0.21919 0.53177 -0.21989 C 0.525 -0.22127 0.51806 -0.22127 0.51111 -0.22197 C 0.45469 -0.21827 0.40382 -0.19122 0.35243 -0.1607 C 0.21649 -0.08023 0.03351 0.05271 -0.00781 0.2578 C -0.00729 0.26705 -0.00816 0.27653 -0.00625 0.28532 C 0.00486 0.33595 0.05486 0.33456 0.08576 0.33826 C 0.20312 0.3156 0.31094 0.23722 0.40642 0.14589 C 0.47812 0.07745 0.52934 0.01919 0.55885 -0.09295 C 0.56354 -0.13133 0.56719 -0.17942 0.5349 -0.20093 C 0.52812 -0.20555 0.52014 -0.20509 0.51267 -0.20717 C 0.48299 -0.20648 0.4533 -0.20925 0.42378 -0.20509 C 0.39948 -0.20162 0.37621 -0.19145 0.35243 -0.18405 C 0.25746 -0.15445 0.16753 -0.11584 0.07934 -0.05919 C -0.00294999999999999 -0.00648 -0.08073 0.05295 -0.1349 0.1519 C -0.14497 0.21734 -0.14132 0.27214 -0.08403 0.29387 C -0.07066 0.29896 -0.0566 0.29942 -0.04288 0.30219 C -0.00156 0.29664 0.0401 0.29456 0.08108 0.28532 C 0.23264 0.25156 0.41076 0.13688 0.51267 -0.01688 C 0.52986 -0.07515 0.5467 -0.1496 0.49531 -0.19029 C 0.47691 -0.20486 0.45712 -0.20185 0.43663 -0.20301 C 0.34219 -0.19908 0.27292 -0.16555 0.18889 -0.10775 C 0.08976 -0.03954 0 0.04925 -0.05069 0.18381 C -0.05608 0.22127 -0.06354 0.24647 -0.05069 0.28532 C -0.04635 0.29849 -0.02222 0.30381 -0.01424 0.30659 C 0.0059 0.30312 0.02656 0.30335 0.04601 0.29595 C 0.10208 0.27422 0.17187 0.20624 0.21597 0.15861 C 0.30347 0.06404 0.37083 -0.01226 0.42378 -0.14382 C 0.42708 -0.1674 0.43507 -0.19908 0.41441 -0.21364 C 0.34236 -0.20093 0.31111 -0.15168 0.24444 -0.09295 C 0.12187 0.01503 0.01024 0.16323 -0.05868 0.33618 C -0.06076 0.35445 -0.06528 0.37248 -0.0651 0.39098 C -0.06476 0.41456 -0.06337 0.43884 -0.05712 0.46081 C -0.04531 0.50219 0.00608 0.5015 0.03021 0.5052 C 0.13333 0.49711 0.22483 0.44601 0.31441 0.37826 C 0.42951 0.29133 0.50451 0.203 0.5651 0.04647 C 0.56719 0.02959 0.57222 0.01295 0.57153 -0.00416 C 0.57049 -0.03006 0.56719 -0.05619 0.56042 -0.08047 C 0.54896 -0.12093 0.50608 -0.12463 0.48108 -0.12902 C 0.43559 -0.12278 0.38924 -0.12278 0.34444 -0.11006 C 0.21545 -0.0733 0.10347 -0.01827 -0.00469 0.08023 C -0.05278 0.12416 -0.08594 0.16508 -0.11267 0.2326 C -0.11354 0.24763 -0.11649 0.27445 -0.11111 0.28948 C -0.09931 0.32208 -0.07031 0.32763 -0.04757 0.33387 C -0.01476 0.32763 0.01875 0.32578 0.05087 0.31491 C 0.07639 0.30636 0.17691 0.24277 0.19687 0.22821 C 0.28837 0.16185 0.38403 0.08115 0.43177 -0.04648 C 0.43403 -0.07029 0.4408 -0.10035 0.42222 -0.1163 C 0.4184 -0.11954 0.41371 -0.12047 0.40955 -0.12255 C 0.39149 -0.11908 0.37257 -0.12047 0.35556 -0.11214 C 0.26528 -0.06775 0.20191 0.01225 0.13177 0.09711 C 0.11927 0.1119 0.10625 0.12717 0.09687 0.14589 C 0.0842 0.17133 0.06667 0.22821 0.06667 0.22821 C 0.06476 0.26266 0.06007 0.29549 0.08889 0.31075 C 0.09392 0.31352 0.09948 0.31352 0.10486 0.31491 C 0.12344 0.31006 0.14253 0.30821 0.16042 0.30011 C 0.18906 0.28693 0.23437 0.24462 0.25712 0.22196 C 0.31944 0.16 0.35156 0.10982 0.38108 0.0148 C 0.38559 -0.01781 0.39045 -0.06104 0.36198 -0.07815 C 0.35764 -0.0807 0.35243 -0.07977 0.34774 -0.08047 C 0.32969 -0.077 0.31146 -0.07584 0.29375 -0.06983 C 0.27569 -0.06382 0.25816 -0.05503 0.24132 -0.0444 C 0.14479 0.01688 0.03819 0.08878 -0.01424 0.21988 C -0.01076 0.24185 -0.0125 0.26543 0.00486 0.27699 C 0.01163 0.28162 0.01962 0.28115 0.02708 0.28323 C 0.05191 0.28046 0.07691 0.28023 0.10156 0.27468 C 0.16753 0.26011 0.23003 0.21271 0.28733 0.16901 C 0.34965 0.12138 0.41285 0.06127 0.44132 -0.0296 C 0.43871 -0.04023 0.43785 -0.05203 0.43333 -0.06127 C 0.42656 -0.07515 0.41128 -0.07283 0.40156 -0.07399 C 0.28333 -0.06474 0.15625 0.01387 0.09219 0.15006 C 0.08437 0.19861 0.07378 0.23953 0.11111 0.26844 C 0.11632 0.27237 0.12135 0.27699 0.12708 0.27907 C 0.13368 0.28138 0.1408 0.28046 0.14774 0.28115 C 0.26858 0.25849 0.3533 0.09803 0.39687 -0.04023 C 0.40434 -0.08948 0.41181 -0.12393 0.41111 -0.17341 C 0.41059 -0.20185 0.4026 -0.23931 0.39375 -0.26428 C 0.34948 -0.38983 0.2434 -0.40047 0.15087 -0.4081 C 0.07882 -0.40255 0.0066 -0.40162 -0.0651 -0.39122 C -0.17344 -0.37549 -0.27413 -0.32208 -0.37448 -0.26844 C -0.3941 -0.18451 -0.39479 -0.20231 -0.38559 -0.08047 C -0.3816 -0.02682 -0.33993 0.01295 -0.30764 0.03584 C -0.24271 0.08208 -0.18542 0.08878 -0.11267 0.09295 C 0.0125 0.08693 0.13316 0.05641 0.24774 -0.0148 C 0.30365 -0.04948 0.35764 -0.08948 0.41267 -0.12694 C 0.47882 -0.17203 0.55174 -0.25757 0.58108 -0.35099 C 0.57847 -0.36301 0.5783 -0.37642 0.57309 -0.38682 C 0.56788 -0.39723 0.54583 -0.39677 0.53976 -0.39746 C 0.48871 -0.39353 0.43976 -0.37156 0.39219 -0.34705 C 0.31892 -0.30844 0.23871 -0.26197 0.17934 -0.19029 C 0.13924 -0.14197 0.13125 -0.11214 0.10486 -0.05087 C 0.10226 -0.03399 0.0967 -0.01734 0.09687 0 C 0.09722 0.03468 0.09948 0.07006 0.10642 0.10358 C 0.11024 0.12231 0.12014 0.13826 0.12865 0.15422 C 0.16337 0.21849 0.22049 0.22358 0.27465 0.22821 C 0.42587 0.1963 0.56528 0.08693 0.6349 -0.09942 C 0.63802 -0.11838 0.64392 -0.13711 0.64444 -0.15653 C 0.64635 -0.2222 0.63177 -0.24463 0.58889 -0.25804 C 0.56979 -0.25457 0.55035 -0.25411 0.53177 -0.2474 C 0.51875 -0.24278 0.50729 -0.2326 0.49531 -0.22405 C 0.42326 -0.17295 0.36319 -0.09688 0.34288 0.01063 C 0.34045 0.05711 0.3408 0.08809 0.36667 0.12231 C 0.37066 0.12786 0.37431 0.13433 0.37934 0.13734 C 0.39062 0.14427 0.41181 0.14474 0.42378 0.14589 C 0.49601 0.1274 0.56441 0.07445 0.61597 0.00416 C 0.63299 -0.01919 0.63941 -0.04509 0.64931 -0.07399 C 0.64983 -0.08324 0.65174 -0.09249 0.65087 -0.10151 C 0.64913 -0.11954 0.6467 -0.13781 0.64132 -0.15445 C 0.63316 -0.18012 0.60434 -0.18752 0.58733 -0.19237 C 0.55712 -0.1896 0.52656 -0.19168 0.49687 -0.18405 C 0.43576 -0.16833 0.37639 -0.11815 0.32865 -0.06775 C 0.30573 -0.04347 0.26996 -0.00416 0.25243 0.03167 C 0.23594 0.06566 0.23246 0.08416 0.22378 0.11838 C 0.22483 0.13849 0.22431 0.15953 0.22708 0.17965 C 0.23246 0.21896 0.26719 0.22404 0.29045 0.22612 C 0.37743 0.20855 0.44427 0.11167 0.46667 0.00208 C 0.46354 -0.06312 0.46337 -0.11607 0.41597 -0.15214 C 0.40538 -0.16023 0.38003 -0.16 0.36996 -0.1607 C 0.35781 -0.15931 0.34514 -0.1607 0.33333 -0.15653 C 0.32205 -0.1526 0.31181 -0.14474 0.30156 -0.13734 C 0.22969 -0.08416 0.19601 -0.02613 0.1651 0.07399 C 0.16354 0.1163 0.16024 0.16693 0.1842 0.20069 C 0.19149 0.21086 0.21215 0.21965 0.22066 0.22404 C 0.23819 0.22196 0.25625 0.22474 0.27309 0.2178 C 0.34878 0.18636 0.40174 0.11884 0.43333 0.02543 C 0.43698 -0.00694 0.44062 -0.05179 0.42222 -0.07815 C 0.41233 -0.09249 0.40538 -0.09156 0.39219 -0.09526 C 0.37674 -0.09179 0.36076 -0.09133 0.34601 -0.08463 C 0.33368 -0.07908 0.28837 -0.03029 0.2842 -0.02544 C 0.23073 0.03745 0.20417 0.08555 0.1842 0.17549 C 0.18472 0.20092 0.18212 0.22659 0.18576 0.25156 C 0.19253 0.29664 0.23212 0.33849 0.2651 0.34451 C 0.2809 0.34728 0.29687 0.34589 0.31267 0.34659 C 0.42552 0.3348 0.53142 0.27537 0.60799 0.16277 C 0.61597 0.13826 0.63142 0.09849 0.63177 0.06982 C 0.63212 0.04069 0.6316 0.0111 0.62552 -0.01688 C 0.62187 -0.03399 0.61128 -0.04694 0.6033 -0.06127 C 0.5691 -0.12324 0.53507 -0.12671 0.48264 -0.13966 C 0.32934 -0.13064 0.19896 0.000920000000000004 0.13333 0.18173 C 0.12483 0.24254 0.11441 0.34243 0.17465 0.36138 C 0.18194 0.3637 0.18941 0.36277 0.19687 0.36347 C 0.28819 0.34936 0.3849 0.26705 0.44288 0.17341 C 0.46892 0.13133 0.47135 0.11537 0.48889 0.06543 C 0.50243 -0.01896 0.50573 -0.09827 0.44774 -0.15445 C 0.43628 -0.16555 0.41944 -0.16786 0.40642 -0.17133 C 0.29601 -0.16162 0.21042 -0.02359 0.15885 0.09503 C 0.15191 0.13225 0.13733 0.18497 0.16198 0.2178 C 0.1691 0.22728 0.17986 0.22797 0.18889 0.23029 C 0.24722 0.21133 0.29132 0.17318 0.33177 0.1119 C 0.34792 0.0874 0.37621 0.03375 0.37621 0.03375 C 0.38212 0.0067 0.39323 -0.02266 0.38264 -0.05087 C 0.38142 -0.05434 0.37726 -0.05364 0.37465 -0.05503 C 0.32986 -0.03792 0.30052 0.01711 0.27153 0.06335 C 0.21111 0.15953 0.15434 0.26728 0.12865 0.3889 C 0.12917 0.40508 0.12726 0.42173 0.13021 0.43745 C 0.1349 0.4615 0.15937 0.46636 0.17309 0.46936 C 0.23142 0.45688 0.30538 0.40878 0.34288 0.35098 C 0.36354 0.3193 0.40486 0.25572 0.40486 0.25572 C 0.42049 0.20717 0.4283 0.16416 0.43333 0.1119 C 0.42778 0.03676 0.40799 -0.02474 0.34931 -0.05087 C 0.33802 -0.05596 0.32604 -0.05642 0.31441 -0.05919 C 0.2842 -0.0585 0.25382 -0.06127 0.22378 -0.05711 C 0.11441 -0.04208 -0.02882 0.04901 -0.09514 0.16693 C -0.10208 0.1963 -0.11094 0.21896 -0.10955 0.24948 C -0.10382 0.37433 0.02587 0.39121 0.09531 0.40162 C 0.14132 0.39884 0.18767 0.40069 0.23333 0.39306 C 0.31667 0.37919 0.40156 0.3341 0.47309 0.27699 C 0.50781 0.24925 0.53316 0.22867 0.55712 0.18589 C 0.57743 0.14982 0.58108 0.1311 0.59219 0.09295 C 0.58854 0.06751 0.58698 0.04138 0.58108 0.01688 C 0.56337 -0.05619 0.49028 -0.0696 0.44444 -0.07815 C 0.40417 -0.07607 0.36371 -0.07908 0.32378 -0.07191 C 0.30121 -0.06775 0.28003 -0.05503 0.25885 -0.0444 C 0.12865 0.02081 0.0434 0.10474 -0.03646 0.25572 C -0.04288 0.28115 -0.05243 0.30543 -0.05556 0.33179 C -0.05833 0.35607 -0.05764 0.3815 -0.05399 0.40578 C -0.03837 0.50774 0.08212 0.50797 0.13819 0.51144 C 0.27222 0.49572 0.44722 0.43237 0.53976 0.29179 C 0.5592 0.26219 0.56979 0.22081 0.58108 0.18589 C 0.58229 0.15769 0.58455 0.14196 0.57934 0.11422 C 0.56545 0.04046 0.51163 0.02011 0.46198 0.01688 C 0.42656 0.02104 0.39045 0.02058 0.35556 0.02959 C 0.33108 0.03584 0.23819 0.09063 0.2191 0.10358 C 0.125 0.16693 0.04479 0.24023 0.0033 0.37202 C 0.00486 0.39375 0.0033 0.41641 0.00799 0.43745 C 0.02066 0.49341 0.10035 0.49225 0.13021 0.49456 C 0.26597 0.4763 0.37674 0.41387 0.48733 0.30659 C 0.50625 0.28832 0.52535 0.27006 0.54132 0.2474 C 0.56528 0.21341 0.60642 0.13734 0.60642 0.13734 C 0.61059 0.11977 0.61788 0.10312 0.6191 0.08462 C 0.62066 0.05988 0.61823 0.03491 0.61441 0.01063 C 0.60677 -0.03885 0.56667 -0.04601 0.53663 -0.05295 C 0.43802 -0.0474 0.34896 0.01849 0.26996 0.09503 C 0.23837 0.12532 0.17205 0.18682 0.14288 0.22612 C 0.10434 0.27815 0.09566 0.30497 0.06996 0.36347 C 0.06337 0.40046 0.04687 0.47029 0.08576 0.4904 C 0.09479 0.49503 0.10486 0.49456 0.11441 0.49664 C 0.14878 0.4904 0.18368 0.48832 0.21753 0.47769 C 0.2599 0.46427 0.33733 0.41526 0.37465 0.3889 C 0.50955 0.29341 0.62778 0.18243 0.67309 -0.01896 C 0.67101 -0.04786 0.6717 -0.07746 0.66667 -0.10567 C 0.65451 -0.17364 0.60243 -0.19445 0.55885 -0.20717 C 0.46632 -0.20324 0.39531 -0.16601 0.30955 -0.10775 C 0.21528 -0.0437 0.12292 0.01988 0.08108 0.1563 C 0.08316 0.18034 0.08108 0.20555 0.08733 0.22821 C 0.09983 0.27399 0.1474 0.28323 0.17621 0.28948 C 0.20851 0.2867 0.24115 0.28809 0.27309 0.28115 C 0.37552 0.25873 0.46111 0.14104 0.51597 0.03167 C 0.52344 -0.0289 0.52639 -0.10336 0.48108 -0.13966 C 0.47257 -0.14636 0.43125 -0.15538 0.42708 -0.15653 C 0.39583 -0.15099 0.36406 -0.1489 0.33333 -0.13966 C 0.19913 -0.09966 0.0691 0.02289 -0.00313 0.17757 C -0.00486 0.19722 -0.01129 0.24162 -0.00625 0.26427 C 0.01059 0.33873 0.08437 0.35121 0.13177 0.35722 C 0.23733 0.35006 0.3184 0.31352 0.41111 0.24508 C 0.46528 0.20508 0.52344 0.15445 0.55885 0.08462 C 0.57448 0.05387 0.58628 0.01133 0.59687 -0.02336 C 0.59531 -0.05503 0.59722 -0.0874 0.59219 -0.11838 C 0.58958 -0.1348 0.5816 -0.1489 0.57465 -0.16278 C 0.52101 -0.27145 0.41858 -0.26729 0.33177 -0.27283 C 0.14531 -0.25688 -0.025 -0.19885 -0.16649 -0.0296 C -0.18524 0.02173 -0.19097 0.02243 -0.19184 0.07584 C -0.19375 0.17549 -0.09497 0.24717 -0.0349 0.2726 C -0.01163 0.28231 0.0125 0.2874 0.03663 0.29179 C 0.06233 0.29664 0.08854 0.29734 0.11441 0.30011 C 0.24358 0.29387 0.3625 0.26659 0.48264 0.20069 C 0.5599 0.15838 0.62639 0.11121 0.67621 0.02104 C 0.68194 -0.01919 0.68611 -0.02821 0.67465 -0.07607 C 0.66684 -0.1089 0.62899 -0.14197 0.60642 -0.15214 C 0.59323 -0.15815 0.57882 -0.15931 0.5651 -0.16278 C 0.52604 -0.16208 0.48663 -0.16532 0.44774 -0.1607 C 0.425 -0.15792 0.29635 -0.11584 0.28108 -0.11006 C 0.15035 -0.05989 0.03003 0.01179 -0.05868 0.1519 C -0.06337 0.16832 -0.07222 0.18335 -0.07292 0.20069 C -0.07813 0.3341 0.02656 0.3378 0.09844 0.34034 C 0.2092 0.3267 0.30556 0.28971 0.40642 0.22612 C 0.49896 0.16786 0.58767 0.09965 0.63976 -0.02127 C 0.64722 -0.06937 0.65087 -0.13341 0.60799 -0.15445 C 0.6 -0.15838 0.59115 -0.15862 0.58264 -0.1607 C 0.55625 -0.15862 0.52934 -0.16047 0.5033 -0.15445 C 0.47326 -0.14752 0.41476 -0.11191 0.38889 -0.09295 C 0.29479 -0.02405 0.21476 0.06589 0.18576 0.20717 C 0.18628 0.2326 0.18437 0.25826 0.18733 0.28323 C 0.19358 0.33757 0.24583 0.38173 0.28264 0.39098 C 0.29722 0.39468 0.31233 0.39399 0.32708 0.39537 C 0.36615 0.39121 0.4059 0.3919 0.44444 0.38266 C 0.46771 0.37711 0.48941 0.36323 0.51111 0.35098 C 0.62257 0.28855 0.69358 0.21456 0.7349 0.06127 C 0.73819 0.01873 0.74062 0.01503 0.7349 -0.0296 C 0.71042 -0.2222 0.54184 -0.22127 0.42865 -0.22405 C 0.27378 -0.21295 0.14844 -0.17896 0.03819 -0.02544 C 0.01962 0.03121 0.01007 0.06011 0.00799 0.12231 C 0.01267 0.15514 0.01458 0.18127 0.02708 0.21133 C 0.05556 0.27907 0.11562 0.33341 0.17153 0.35306 C 0.18472 0.35769 0.2592 0.36254 0.26996 0.36347 C 0.31528 0.3563 0.33524 0.35676 0.37934 0.33387 C 0.47187 0.28601 0.53385 0.18844 0.56667 0.06751 C 0.57014 0.04046 0.57743 -0.00856 0.57621 -0.03607 C 0.57483 -0.0652 0.5724 -0.09434 0.56667 -0.12255 C 0.55156 -0.1963 0.49097 -0.24047 0.43819 -0.24948 C 0.4224 -0.25226 0.40642 -0.25087 0.39045 -0.25156 C 0.27882 -0.24116 0.13733 -0.23468 0.05243 -0.12047 C 0.04861 -0.09226 0.04392 -0.07515 0.05885 -0.0444 C 0.09375 0.02774 0.17014 0.06728 0.22865 0.08462 C 0.24635 0.08994 0.26458 0.09248 0.28264 0.09503 C 0.3026 0.09757 0.32274 0.09803 0.34288 0.09942 C 0.45503 0.08693 0.43108 0.0948 0.51597 0.0719 C 0.55451 0.0615 0.59462 0.04925 0.62552 0.0148 C 0.62621 0.00855 0.62899 -0.0044 0.62552 -0.01064 C 0.61215 -0.03538 0.56996 -0.03746 0.55087 -0.04023 C 0.52118 -0.03815 0.49149 -0.03862 0.46198 -0.03376 C 0.36371 -0.01734 0.22292 0.0615 0.15556 0.16485 C 0.15295 0.17826 0.14774 0.19283 0.15243 0.20717 C 0.16632 0.24855 0.20694 0.25179 0.2349 0.25364 C 0.25868 0.25156 0.28299 0.25295 0.30642 0.2474 C 0.33212 0.24138 0.36545 0.21734 0.38733 0.19861 C 0.45816 0.1378 0.51215 0.05942 0.53663 -0.04856 C 0.53819 -0.07792 0.53976 -0.07723 0.5349 -0.10567 C 0.51875 -0.19838 0.44601 -0.20255 0.38733 -0.20509 C 0.34983 -0.20301 0.31198 -0.20416 0.27465 -0.19885 C 0.22674 -0.19214 0.0901 -0.13526 0.06823 -0.12694 C 0.04861 -0.11954 0.03212 -0.1022 0.01441 -0.08879 C -0.02639 -0.05757 -0.04427 -0.03746 -0.06181 0.01896 C -0.06076 0.04162 -0.06181 0.06451 -0.05868 0.0867 C -0.05608 0.10543 -0.03472 0.15422 -0.02847 0.16693 C 0.03368 0.29248 0.13368 0.30312 0.23663 0.31699 C 0.34705 0.30959 0.49306 0.27167 0.57153 0.1563 C 0.59861 0.11653 0.61458 0.06543 0.62552 0.0148 C 0.62708 0 0.63073 -0.01457 0.63021 -0.0296 C 0.62743 -0.09781 0.60677 -0.17457 0.54931 -0.18821 C 0.53889 -0.19075 0.52812 -0.1896 0.51753 -0.19029 C 0.49375 -0.18752 0.46962 -0.18705 0.44601 -0.18174 C 0.35399 -0.1607 0.2342 -0.04093 0.19375 0.0719 C 0.18351 0.10034 0.18108 0.12393 0.17621 0.15422 C 0.17726 0.18173 0.17604 0.20948 0.17934 0.23676 C 0.1901 0.32717 0.26649 0.36948 0.32552 0.3741 C 0.33715 0.37271 0.34913 0.37387 0.36042 0.36994 C 0.39878 0.35699 0.43663 0.31769 0.46354 0.28115 C 0.53108 0.1889 0.56545 0.07792 0.5842 -0.04648 C 0.58854 -0.10613 0.60069 -0.21457 0.55556 -0.25364 C 0.54826 -0.25989 0.52691 -0.2659 0.5191 -0.26844 C 0.50208 -0.26636 0.4849 -0.26705 0.46823 -0.2622 C 0.45156 -0.25734 0.40816 -0.22682 0.39531 -0.21573 C 0.32621 -0.15653 0.26649 -0.09827 0.22066 -0.00648 C 0.21042 0.0437 0.20451 0.05318 0.21441 0.1119 C 0.21736 0.12971 0.24184 0.16578 0.25087 0.17549 C 0.29427 0.22266 0.34375 0.2252 0.39687 0.23029 C 0.41163 0.2289 0.42674 0.23006 0.44132 0.22612 C 0.5316 0.20138 0.61146 0.12439 0.65087 0.0148 C 0.65295 0 0.65712 -0.01457 0.65712 -0.0296 C 0.65712 -0.05434 0.65521 -0.07954 0.65087 -0.10359 C 0.64045 -0.1607 0.59184 -0.20393 0.55243 -0.21781 C 0.53576 -0.22359 0.51858 -0.22497 0.50156 -0.22844 C 0.46146 -0.22775 0.42101 -0.23099 0.38108 -0.22613 C 0.35781 -0.22336 0.33542 -0.21295 0.31267 -0.20509 C 0.2092 -0.16948 0.09045 -0.10197 0.04444 0.03584 C 0.04062 0.07537 0.03819 0.07537 0.04774 0.12231 C 0.05677 0.16693 0.09705 0.18705 0.12708 0.19029 C 0.18333 0.17919 0.23715 0.13849 0.26042 0.06543 C 0.27153 0.03052 0.27187 0.01641 0.27621 -0.01896 C 0.27066 -0.06359 0.26875 -0.12555 0.22865 -0.14174 C 0.22205 -0.14451 0.21493 -0.14451 0.20799 -0.1459 C 0.19097 -0.14382 0.17361 -0.14497 0.15712 -0.13966 C 0.08073 -0.11538 0.02118 -0.04116 -0.02379 0.04023 C -0.03507 0.08717 -0.04462 0.13364 -0.03802 0.18381 C -0.03229 0.22659 -0.02101 0.24693 0 0.28115 C 0.03906 0.34474 0.09757 0.39815 0.15556 0.42705 C 0.19844 0.44832 0.26302 0.45803 0.30799 0.46705 C 0.42812 0.46011 0.50226 0.47537 0.58733 0.36138 C 0.59861 0.3274 0.60486 0.31815 0.60486 0.27907 C 0.60486 0.17318 0.51858 0.04809 0.44774 0.01271 C 0.40729 -0.0074 0.39462 -0.00463 0.35243 -0.00856 C 0.2592 -0.00509 0.13681 0.01942 0.07309 0.12046 C 0.06823 0.13826 0.06441 0.14589 0.0651 0.16485 C 0.06632 0.19699 0.07639 0.2178 0.09375 0.23884 C 0.13073 0.28393 0.17431 0.28901 0.22222 0.29387 C 0.25503 0.28901 0.28837 0.28786 0.32066 0.27907 C 0.35608 0.26936 0.40104 0.23699 0.43177 0.21341 C 0.48802 0.1704 0.53594 0.11722 0.56354 0.03792 C 0.56615 0.02196 0.57413 -0.00301 0.55712 -0.00856 C 0.53333 -0.00463 0.5474 -0.01041 0.52066 0.02543 C 0.4934 0.06196 0.48229 0.11121 0.47621 0.16069 C 0.47899 0.20485 0.475 0.22543 0.50642 0.243 C 0.51545 0.23953 0.52552 0.2393 0.53333 0.2326 C 0.54149 0.22543 0.55243 0.203 0.55243 0.203 C 0.56233 0.15722 0.57691 0.09456 0.53333 0.0719 C 0.52187 0.07422 0.49306 0.07861 0.48108 0.0867 C 0.45104 0.10705 0.42014 0.1341 0.39375 0.16277 C 0.35677 0.203 0.31979 0.23884 0.3033 0.30011 C 0.30139 0.31907 0.30035 0.3378 0.31597 0.34451 C 0.34687 0.33433 0.36753 0.28347 0.38264 0.25156 C 0.4059 0.20208 0.42413 0.1563 0.43177 0.09942 C 0.43038 0.0763 0.43437 0.06774 0.41753 0.06335 C 0.40069 0.06774 0.40712 0.06451 0.3842 0.08878 C 0.35556 0.11884 0.3342 0.15121 0.30955 0.18821 C 0.29687 0.20717 0.2849 0.22797 0.27778 0.25156 C 0.27309 0.26705 0.26354 0.29803 0.26354 0.29803 C 0.26285 0.30543 0.25868 0.33133 0.26667 0.33618 C 0.27257 0.33988 0.27934 0.33179 0.28576 0.32971 C 0.30069 0.3126 0.31788 0.30219 0.33333 0.28532 C 0.36597 0.24971 0.3967 0.21364 0.42222 0.16901 C 0.42604 0.16208 0.41042 0.17572 0.40486 0.17965 C 0.39931 0.18358 0.39392 0.18751 0.38889 0.19237 C 0.37483 0.20601 0.36146 0.22081 0.34774 0.23468 C 0.3059 0.27722 0.27014 0.31792 0.24444 0.38058 C 0.24375 0.39029 0.24115 0.4104 0.24444 0.42058 C 0.25486 0.45248 0.28993 0.45688 0.31111 0.45873 C 0.38733 0.45017 0.46007 0.41942 0.53177 0.38474 C 0.67257 0.31653 0.80885 0.22844 0.9349 0.12046 C 0.99427 0.06959 1.07743 0.00717 1.1033 -0.08671 C 1.10069 -0.09596 1.10017 -0.10682 1.09531 -0.11422 C 1.08576 -0.12856 1.06163 -0.12601 1.05087 -0.12694 C 1.01389 -0.12208 0.97656 -0.11977 0.93976 -0.11214 C 0.80069 -0.08347 0.66875 -0.00208 0.53976 0.06543 C 0.41806 0.12901 0.28472 0.21433 0.2191 0.37202 C 0.21701 0.38474 0.21302 0.39722 0.21267 0.41017 C 0.21198 0.42913 0.21302 0.44855 0.21597 0.46705 C 0.22205 0.50474 0.25608 0.51352 0.27934 0.51792 C 0.3 0.51445 0.32101 0.51375 0.34132 0.50728 C 0.40521 0.48647 0.52674 0.3926 0.56823 0.34867 C 0.64549 0.26682 0.73056 0.19607 0.75556 0.06127 C 0.75295 0.04578 0.75226 0.02936 0.74774 0.0148 C 0.73993 -0.01064 0.70955 -0.01503 0.69375 -0.01896 C 0.64115 -0.01503 0.59392 -0.01573 0.54288 0.00208 C 0.51806 0.01063 0.49444 0.02543 0.46996 0.03584 C 0.39028 0.06913 0.31476 0.09965 0.24132 0.15422 C 0.19601 0.18797 0.13715 0.23352 0.11267 0.29803 C 0.11979 0.33549 0.11302 0.33618 0.13663 0.33179 C 0.21996 0.26474 0.26944 0.13826 0.28733 0.0148 C 0.28524 -0.05018 0.29514 -0.12347 0.24132 -0.15006 C 0.22917 -0.14937 0.21684 -0.15075 0.20486 -0.14798 C 0.19809 -0.14636 0.19201 -0.14127 0.18576 -0.13734 C 0.14201 -0.10914 0.11719 -0.07006 0.08889 -0.01896 C 0.07795 0.02266 0.07066 0.06173 0.06667 0.10543 C 0.06892 0.14821 0.07361 0.19953 0.10955 0.21549 C 0.11562 0.21826 0.12222 0.21849 0.12865 0.21988 C 0.14236 0.21641 0.15694 0.21618 0.16996 0.20925 C 0.25382 0.16439 0.30417 0.07699 0.33333 -0.03376 C 0.33976 -0.0844 0.34479 -0.16879 0.29531 -0.17966 C 0.28576 -0.17757 0.27587 -0.17711 0.26667 -0.17341 C 0.2467 -0.16532 0.21319 -0.11792 0.20642 -0.11006 C 0.16024 -0.05549 0.13507 0.0319 0.12378 0.10982 C 0.12726 0.20323 0.14184 0.29942 0.21441 0.33826 C 0.24306 0.35352 0.25365 0.35167 0.2842 0.35514 C 0.43177 0.34127 0.54132 0.22728 0.59531 0.04855 C 0.59774 0.02936 0.60556 -0.02775 0.60486 -0.04856 C 0.59896 -0.21364 0.4526 -0.22266 0.36198 -0.22844 C 0.23594 -0.22497 0.11979 -0.19538 0.00156 -0.13526 C -0.08194 -0.09272 -0.14844 -0.03723 -0.19653 0.06335 C -0.19965 0.07676 -0.20556 0.08948 -0.20625 0.10358 C -0.2132 0.26173 -0.08906 0.30381 0.0033 0.32555 C 0.05243 0.32277 0.10174 0.32254 0.15087 0.31699 C 0.23767 0.30705 0.32448 0.27167 0.4033 0.22404 C 0.53524 0.14427 0.65 0.04532 0.7 -0.14174 C 0.70121 -0.18081 0.70417 -0.19977 0.69687 -0.23677 C 0.67743 -0.33573 0.60903 -0.34289 0.54444 -0.35307 C 0.38385 -0.34752 0.18264 -0.24717 0.07621 -0.08047 C 0.0474 -0.03538 0.0441 -0.01781 0.02552 0.03375 C 0.01771 0.09318 0.01267 0.10404 0.02708 0.17549 C 0.03021 0.19075 0.03906 0.20277 0.04601 0.21549 C 0.08507 0.28763 0.13056 0.30243 0.19375 0.31075 C 0.23559 0.30936 0.2776 0.31283 0.3191 0.30659 C 0.34566 0.30266 0.44896 0.25641 0.46996 0.24508 C 0.60556 0.17248 0.71823 0.06636 0.78576 -0.10775 C 0.78785 -0.12463 0.79219 -0.14151 0.79219 -0.15862 C 0.79219 -0.18336 0.7901 -0.20856 0.78576 -0.2326 C 0.77674 -0.28301 0.72135 -0.29087 0.69219 -0.29596 C 0.65399 -0.2911 0.61562 -0.28948 0.57778 -0.28116 C 0.50208 -0.26451 0.36736 -0.18613 0.31753 -0.1607 C 0.20434 -0.10312 0.04931 0.01248 -0.01267 0.15861 C -0.02135 0.17896 -0.02535 0.20231 -0.03177 0.22404 C -0.03073 0.25572 -0.03316 0.28786 -0.02847 0.31907 C -0.02604 0.33549 -0.01754 0.34913 -0.01111 0.36347 C 0.01545 0.42312 0.0342 0.4363 0.0842 0.45017 C 0.10746 0.44878 0.1309 0.45086 0.15399 0.44601 C 0.19045 0.43838 0.2316 0.4104 0.26354 0.3889 C 0.42101 0.28254 0.54722 0.12485 0.6191 -0.09087 C 0.62274 -0.11353 0.63021 -0.13549 0.63021 -0.15862 C 0.63021 -0.23769 0.61875 -0.3207 0.55399 -0.34243 C 0.54271 -0.34613 0.53073 -0.34544 0.5191 -0.34705 C 0.48056 -0.34058 0.44149 -0.33711 0.4033 -0.32763 C 0.35972 -0.31677 0.28663 -0.28023 0.24774 -0.25804 C 0.16024 -0.20786 0.05017 -0.13295 -0.00781 -0.02752 C -0.03629 0.02427 -0.0375 0.04994 -0.04913 0.10774 C -0.05139 0.15144 -0.05556 0.17896 -0.04757 0.22196 C -0.03316 0.29919 0.01146 0.36485 0.06823 0.3889 C 0.09288 0.3993 0.1125 0.39815 0.13819 0.39953 C 0.2099 0.38404 0.3026 0.34636 0.35087 0.26844 C 0.37101 0.23607 0.38681 0.1993 0.40486 0.16485 C 0.41319 0.14867 0.42691 0.07214 0.43021 0.05503 C 0.43212 -0.00578 0.43646 -0.07954 0.39375 -0.11838 C 0.38003 -0.13087 0.36684 -0.13041 0.35087 -0.13318 C 0.3276 -0.12902 0.30399 -0.12763 0.28108 -0.12047 C 0.25017 -0.11075 0.21181 -0.07977 0.18576 -0.05919 C 0.04601 0.05133 -0.06424 0.20925 -0.09514 0.42705 C -0.0941 0.46289 -0.09635 0.49942 -0.09201 0.5348 C -0.08629 0.5815 -0.05208 0.60462 -0.02222 0.61295 C -0.00417 0.61017 0.01424 0.61086 0.03177 0.60462 C 0.08056 0.58728 0.12621 0.53248 0.16198 0.48832 C 0.25729 0.37086 0.31371 0.2252 0.33976 0.05711 C 0.34184 -0.0407 0.34097 -0.17503 0.25399 -0.21364 C 0.24184 -0.21896 0.22865 -0.21919 0.21597 -0.22197 C 0.17951 -0.2185 0.14271 -0.21827 0.10642 -0.21133 C 0.02604 -0.19607 -0.05069 -0.1422 -0.12066 -0.09087 C -0.24913 0.00347 -0.32604 0.09942 -0.38733 0.27699 C -0.38472 0.35375 -0.38611 0.43098 -0.37934 0.50728 C -0.37587 0.54659 -0.34913 0.59491 -0.33004 0.6215 C -0.27135 0.70289 -0.19861 0.72578 -0.11736 0.73133 C -0.09254 0.72994 -0.06754 0.73179 -0.04288 0.72717 C 0.13663 0.69295 0.30868 0.55098 0.43333 0.38058 C 0.49844 0.29179 0.55052 0.19653 0.57465 0.07584 C 0.57552 0.04647 0.58246 -0.00578 0.5651 -0.03168 C 0.55451 -0.04763 0.54132 -0.04856 0.52708 -0.05295 C 0.50434 -0.05018 0.48125 -0.04994 0.45885 -0.0444 C 0.39531 -0.0289 0.33715 0.01896 0.2842 0.06543 C 0.21059 0.12994 0.16267 0.18982 0.12222 0.29387 C 0.11319 0.34612 0.10503 0.36901 0.11597 0.42705 C 0.11892 0.44231 0.12743 0.4548 0.1349 0.46705 C 0.1717 0.5267 0.21198 0.53641 0.26667 0.53896 C 0.28316 0.53757 0.29983 0.53965 0.31597 0.5348 C 0.44774 0.49549 0.5941 0.33849 0.64444 0.1711 C 0.66371 0.10728 0.66389 0.08647 0.67153 0.02312 C 0.66892 -0.0148 0.66944 -0.05341 0.66354 -0.09087 C 0.66128 -0.10497 0.65399 -0.117 0.64774 -0.12902 C 0.62483 -0.17295 0.60121 -0.17966 0.56354 -0.19029 C 0.5276 -0.1896 0.49132 -0.19376 0.45556 -0.18821 C 0.43646 -0.1852 0.32031 -0.1385 0.30486 -0.1311 C 0.18073 -0.0726 0.0592 0.02243 0.00486 0.18821 C -0.00504 0.25942 -0.01042 0.35722 0.05399 0.38474 C 0.06163 0.38797 0.06979 0.38751 0.07778 0.3889 C 0.1059 0.38612 0.13437 0.38797 0.16198 0.38058 C 0.18785 0.37364 0.26701 0.32092 0.28576 0.30659 C 0.44358 0.18497 0.56875 -0.02104 0.61441 -0.25573 C 0.61788 -0.30359 0.62535 -0.34127 0.60486 -0.38266 C 0.59549 -0.40162 0.58472 -0.42058 0.56823 -0.42914 C 0.56076 -0.43307 0.55243 -0.43353 0.54444 -0.43561 C 0.51962 -0.43492 0.49462 -0.43746 0.46996 -0.4333 C 0.44479 -0.42914 0.3776 -0.3963 0.35712 -0.38474 C 0.23871 -0.31792 0.14236 -0.21896 0.10642 -0.05087 C 0.10538 -0.01688 0.10226 0.02358 0.10955 0.05711 C 0.11215 0.0689 0.11858 0.07861 0.12378 0.08878 C 0.16181 0.16138 0.19965 0.16948 0.26198 0.17757 C 0.29583 0.17202 0.33021 0.17017 0.36354 0.16069 C 0.45226 0.13526 0.56771 0.02821 0.61753 -0.07399 C 0.6375 -0.11492 0.64236 -0.13873 0.65399 -0.18174 C 0.65226 -0.22798 0.65955 -0.30289 0.61267 -0.31492 C 0.60486 -0.31723 0.59687 -0.31653 0.58889 -0.31723 C 0.52066 -0.31099 0.46042 -0.26266 0.4033 -0.21573 C 0.28854 -0.12139 0.19201 -0.02151 0.15243 0.1563 C 0.15608 0.18728 0.15729 0.21919 0.16354 0.24948 C 0.17344 0.2978 0.21944 0.31352 0.25087 0.31907 C 0.26667 0.3163 0.28299 0.31653 0.29844 0.31075 C 0.30625 0.30797 0.3125 0.30011 0.3191 0.29387 C 0.35226 0.26196 0.36979 0.22034 0.38108 0.16901 C 0.38628 0.09503 0.37882 0.01364 0.32378 -0.02544 C 0.30625 -0.03792 0.27847 -0.03931 0.26042 -0.04231 C 0.23125 -0.04023 0.20191 -0.04162 0.17309 -0.03607 C 0.11319 -0.02474 0.03715 0.01965 0 0.0867 C -0.00677 0.09873 -0.01059 0.11329 -0.0158 0.1267 C -0.01684 0.14497 -0.01944 0.16162 -0.01424 0.17965 C 0.01111 0.26821 0.11806 0.29387 0.17621 0.30867 C 0.24184 0.30312 0.30799 0.30358 0.37309 0.29179 C 0.48507 0.27167 0.58177 0.17664 0.65885 0.07399 C 0.66441 0.05896 0.68646 0.00763 0.68733 -0.01688 C 0.68802 -0.03885 0.68681 -0.06127 0.68264 -0.08255 C 0.67674 -0.11237 0.65521 -0.14266 0.63819 -0.1607 C 0.57448 -0.2289 0.49635 -0.23029 0.4191 -0.23468 C 0.23976 -0.21804 0.10295 -0.20301 -0.06337 -0.11006 C -0.11962 -0.07862 -0.16997 -0.04509 -0.21406 0.01063 C -0.21736 0.02127 -0.22222 0.03121 -0.22379 0.04231 C -0.23403 0.11537 -0.15035 0.13988 -0.1158 0.15006 C -0.09913 0.15491 -0.08194 0.15722 -0.0651 0.16069 C -0.01476 0.1593 0.03559 0.16069 0.08576 0.1563 C 0.22014 0.14451 0.35104 0.08208 0.47465 0.0148 C 0.58385 -0.04463 0.69444 -0.11584 0.7651 -0.24532 C 0.76667 -0.25295 0.76996 -0.26035 0.76996 -0.26844 C 0.76996 -0.28278 0.7691 -0.29757 0.7651 -0.31075 C 0.75278 -0.35214 0.70746 -0.35538 0.68108 -0.35931 C 0.66476 -0.36185 0.64826 -0.3637 0.63177 -0.36578 C 0.52656 -0.36463 0.44983 -0.36023 0.35087 -0.3489 C 0.34132 -0.34613 0.33177 -0.34312 0.32222 -0.34058 C 0.3033 -0.33503 0.30069 -0.33827 0.31753 -0.33226 C 0.33924 -0.33549 0.36128 -0.33642 0.38264 -0.34243 C 0.41458 -0.35122 0.44687 -0.36301 0.47934 -0.36786 C 0.48646 -0.37041 0.4941 -0.37411 0.50156 -0.37411 C 0.50312 -0.37411 0.49844 -0.37272 0.49687 -0.37203 C 0.49531 -0.36994 0.49219 -0.36879 0.49219 -0.36578 C 0.49219 -0.35214 0.50174 -0.35422 0.50799 -0.35307 C 0.56979 -0.35792 0.62812 -0.36648 0.68889 -0.38058 C 0.73455 -0.39122 0.77951 -0.40347 0.82552 -0.41226 C 0.83507 -0.41411 0.84427 -0.42081 0.85399 -0.42081 C 0.85729 -0.42081 0.84774 -0.41757 0.84444 -0.41642 C 0.83333 -0.41226 0.8224 -0.4074 0.81111 -0.4037 C 0.7875 -0.39607 0.76371 -0.38914 0.73976 -0.38266 C 0.72604 -0.37896 0.71215 -0.37781 0.69844 -0.37411 C 0.66615 -0.36509 0.63368 -0.35468 0.60156 -0.34451 C 0.59948 -0.34312 0.59531 -0.34336 0.59531 -0.34058 C 0.59531 -0.33757 0.59948 -0.33804 0.60156 -0.33827 C 0.60851 -0.33873 0.61545 -0.34058 0.62222 -0.34243 C 0.6625 -0.3533 0.7026 -0.36509 0.74288 -0.37642 C 0.82795 -0.40047 0.91215 -0.43838 0.99844 -0.45249 C 1.01476 -0.45942 1.00503 -0.45503 0.96823 -0.44393 C 0.94323 -0.4363 0.91892 -0.42497 0.89375 -0.4185 C 0.69913 -0.36856 0.80069 -0.39353 0.58889 -0.34451 C 0.55729 -0.33711 0.52552 -0.33272 0.49375 -0.32763 C 0.45191 -0.32093 0.36823 -0.30867 0.36823 -0.30867 C 0.36198 -0.30659 0.35521 -0.3059 0.34931 -0.30243 C 0.34774 -0.30151 0.35226 -0.29989 0.35399 -0.30012 C 0.36198 -0.30127 0.36979 -0.30451 0.37778 -0.30659 C 0.41545 -0.31607 0.43889 -0.31954 0.47934 -0.33411 C 0.57708 -0.36925 0.67378 -0.40879 0.77153 -0.44393 C 0.81424 -0.45919 0.85608 -0.47492 0.9 -0.48208 C 0.87587 -0.45942 0.79236 -0.43653 0.78108 -0.4333 C 0.72951 -0.4185 0.67882 -0.39815 0.62708 -0.38474 C 0.57292 -0.37064 0.51806 -0.36093 0.46354 -0.3489 C 0.43976 -0.34382 0.41597 -0.33804 0.39219 -0.33226 C 0.37361 -0.3274 0.35503 -0.32278 0.33663 -0.31723 C 0.33125 -0.31561 0.3151 -0.31075 0.32066 -0.31075 C 0.3375 -0.31075 0.38073 -0.33249 0.39045 -0.33619 C 0.41042 -0.34382 0.4309 -0.3496 0.45087 -0.35723 C 0.56684 -0.40162 0.68264 -0.44463 0.79844 -0.49041 C 0.81354 -0.49642 0.89878 -0.52324 0.92552 -0.52856 C 0.94549 -0.53249 0.98576 -0.53688 0.98576 -0.53688 C 0.9526 -0.50567 0.90625 -0.49203 0.86996 -0.47561 C 0.74306 -0.41781 0.60937 -0.37942 0.47934 -0.33619 C 0.42917 -0.31954 0.3724 -0.31052 0.32552 -0.27908 C 0.35278 -0.26081 0.33594 -0.27006 0.4033 -0.29179 C 0.48246 -0.31746 0.55972 -0.35145 0.63819 -0.38058 C 0.66163 -0.38914 0.68455 -0.40023 0.70799 -0.4081 C 0.71996 -0.41203 0.73246 -0.41272 0.74444 -0.41642 C 0.7599 -0.42104 0.79045 -0.4333 0.79045 -0.4333 C 0.77396 -0.44139 0.78802 -0.43584 0.74931 -0.42289 C 0.68976 -0.40301 0.62969 -0.38451 0.56996 -0.36578 C 0.43021 -0.32208 0.28958 -0.28833 0.15243 -0.23052 C 0.09566 -0.20648 0.03941 -0.18058 -0.01267 -0.14174 C -0.01632 -0.13619 -0.02292 -0.13226 -0.02379 -0.12486 C -0.02431 -0.12 -0.01927 -0.1163 -0.0158 -0.11422 C -0.00191 -0.10544 0.01962 -0.10659 0.03333 -0.10567 C 0.24618 -0.11468 0.46094 -0.14983 0.66823 -0.21781 C 0.68611 -0.23307 0.61007 -0.21827 0.60799 -0.21781 C 0.5441 -0.20578 0.48246 -0.18336 0.4191 -0.16694 C 0.23299 -0.11885 0.48559 -0.19792 0.24931 -0.1163 C 0.17726 -0.09133 0.10434 -0.06983 0.04288 -0.01064 C 0.03142 0.01664 0.04462 0.02589 0.0651 0.03375 C 0.10642 0.04971 0.15746 0.0541 0.2 0.05503 C 0.36094 0.05826 0.5217 0.0578 0.68264 0.05919 C 0.49236 0.09757 0.30608 0.15861 0.1191 0.2178 C 0.02257 0.24832 -0.09132 0.27861 -0.17431 0.35514 C -0.17604 0.3593 -0.17899 0.36323 -0.17934 0.36786 C -0.18125 0.39329 -0.13004 0.39052 -0.12691 0.39098 C -0.07969 0.38959 0.03785 0.3889 0.09375 0.37826 C 0.16962 0.36393 0.24496 0.34404 0.32066 0.32763 C 0.35451 0.32023 0.38871 0.31607 0.42222 0.30659 C 0.48194 0.28971 0.54288 0.27815 0.60156 0.25572 C 0.62917 0.24508 0.6842 0.22404 0.6842 0.22404 C 0.68733 0.22127 0.69201 0.22011 0.69375 0.21549 C 0.69462 0.21318 0.6908 0.21133 0.68889 0.21133 C 0.65174 0.21341 0.61476 0.21734 0.57778 0.22196 C 0.48264 0.23352 0.38976 0.25965 0.29531 0.28115 C 0.20069 0.30289 0.02031 0.37503 -0.04601 0.39953 C -0.09167 0.41641 -0.15156 0.44277 -0.18872 0.48624 C -0.18993 0.48971 -0.19236 0.49295 -0.19184 0.49664 C -0.1908 0.51006 -0.1566 0.51098 -0.15208 0.51144 C 0.04844 0.49641 0.25052 0.46936 0.44132 0.38058 C 0.44705 0.3748 0.4599 0.37017 0.45712 0.36138 C 0.45208 0.34566 0.44045 0.34636 0.43021 0.34243 C 0.39045 0.3274 0.41181 0.33202 0.36198 0.32555 C 0.26319 0.31283 0.26996 0.31815 0.12708 0.31491 C 0.02708 0.3156 -0.07292 0.31699 -0.17292 0.31699 C -0.22431 0.31699 -0.27552 0.31792 -0.32691 0.31491 C -0.33038 0.31468 -0.32066 0.31052 -0.31736 0.30867 C -0.3099 0.30427 -0.3026 0.29965 -0.29514 0.29595 C -0.2816 0.28925 -0.26754 0.2837 -0.25399 0.27699 C -0.21458 0.25757 -0.1757 0.23745 -0.13646 0.2178 C -0.08177 0.19029 -0.02344 0.1778 0.03177 0.1519 C 0.15347 0.09549 0.27708 0.04555 0.39687 -0.01688 C 0.3908 -0.04185 0.39618 -0.02705 0.35087 -0.01896 C 0.3217 -0.01388 0.29271 -0.00601 0.26354 0 C 0.15312 0.02312 0.04201 0.04254 -0.06667 0.07815 C -0.09184 0.10058 -0.0783 0.08717 0.0033 0.06982 C 0.02135 0.06589 0.03941 0.0615 0.05712 0.05503 C 0.20052 0.00347 0.34184 -0.05757 0.4842 -0.11422 C 0.51858 -0.12786 0.55347 -0.13873 0.58733 -0.15445 C 0.59792 -0.15931 0.63021 -0.17156 0.6191 -0.16925 C 0.57135 -0.15931 0.52847 -0.13295 0.48264 -0.11422 C 0.47639 -0.11168 0.28246 -0.03838 0.24132 -0.01896 C 0.18785 0.00647 0.13437 0.03121 0.08108 0.05711 C 0.06024 0.06728 0.03976 0.07792 0.0191 0.08878 C 0.01267 0.09202 0 0.09942 0 0.09942 C -0.01684 0.12185 0.02083 0.10867 0.02552 0.10774 C 0.03871 0.10451 0.05226 0.10219 0.0651 0.09711 C 0.11163 0.07838 0.15729 0.05618 0.2033 0.03584 C 0.36649 -0.03653 0.3908 -0.05388 0.54774 -0.13966 C 0.58507 -0.16 0.65799 -0.19977 0.69219 -0.25156 C 0.69479 -0.26937 0.68767 -0.27029 0.67465 -0.277 C 0.64496 -0.29203 0.61233 -0.29087 0.58108 -0.29388 C 0.41476 -0.28902 0.40347 -0.29341 0.27465 -0.27908 C 0.12274 -0.2622 -0.0276 -0.22705 -0.17934 -0.20717 C -0.18247 -0.20578 -0.19184 -0.20509 -0.18872 -0.20301 C -0.18316 -0.19931 -0.12274 -0.23237 -0.12222 -0.2326 C -0.10486 -0.24023 -0.08698 -0.24555 -0.06979 -0.25364 C -0.04948 -0.26312 -0.03004 -0.27607 -0.00955 -0.28532 C 0.09462 -0.33226 0.20104 -0.37318 0.30642 -0.41434 C 0.33472 -0.42544 0.37917 -0.43977 0.41111 -0.4481 C 0.42066 -0.45064 0.44913 -0.45757 0.43976 -0.45457 C 0.26076 -0.39653 0.07847 -0.3644 -0.10156 -0.31283 C -0.13177 -0.30428 -0.16215 -0.29873 -0.19184 -0.28763 C -0.16649 -0.27862 -0.11233 -0.30752 -0.09045 -0.31492 C -0.02135 -0.33873 0.04722 -0.36139 0.11597 -0.38682 C 0.12309 -0.38937 0.25469 -0.43538 0.29531 -0.45041 C 0.3092 -0.45549 0.32465 -0.45642 0.33663 -0.46729 C 0.33924 -0.4696 0.33021 -0.4659 0.32708 -0.4652 C 0.2908 -0.44671 0.25399 -0.43885 0.21597 -0.42914 C 0.17361 -0.41827 0.1316 -0.4044 0.08889 -0.39538 C -0.00208 -0.37619 -0.09167 -0.36301 -0.17934 -0.32555 C -0.18854 -0.32162 -0.1599 -0.32902 -0.1507 -0.33226 C -0.13993 -0.33549 -0.12969 -0.34104 -0.11892 -0.34451 C -0.0809 -0.35653 -0.04271 -0.36717 -0.00469 -0.3785 C 0.1309 -0.4185 -0.0158 -0.37318 0.18733 -0.43977 C 0.20312 -0.44486 0.21892 -0.45087 0.2349 -0.45457 C 0.24705 -0.45734 0.25937 -0.45942 0.27153 -0.46289 C 0.27656 -0.46428 0.29323 -0.47353 0.30156 -0.47353 C 0.30312 -0.47353 0.29844 -0.47214 0.29687 -0.47145 C 0.29427 -0.47006 0.29167 -0.46821 0.28889 -0.46729 C 0.27621 -0.4622 0.26354 -0.45734 0.25087 -0.45249 C 0.21424 -0.43815 0.14184 -0.42035 0.11597 -0.41434 C 0.02014 -0.39168 -0.07622 -0.37064 -0.17292 -0.35538 C -0.1882 -0.35052 -0.20347 -0.34497 -0.21875 -0.34058 C -0.22604 -0.33804 -0.23385 -0.33711 -0.24097 -0.33411 C -0.2434 -0.33318 -0.24983 -0.33041 -0.24757 -0.32971 C -0.2434 -0.32833 -0.23906 -0.33133 -0.2349 -0.33226 C -0.15625 -0.3644 -0.0783 -0.39492 0.00156 -0.42081 C 0.03021 -0.43006 0.05868 -0.4407 0.08733 -0.45041 C 0.09583 -0.45318 0.10451 -0.45457 0.11267 -0.45873 C 0.11701 -0.46081 0.12118 -0.46312 0.12552 -0.4652 C 0.12708 -0.4659 0.13177 -0.46775 0.13021 -0.46729 C 0.02483 -0.43515 -0.07969 -0.40139 -0.18403 -0.3637 C -0.20278 -0.357 -0.22153 -0.34983 -0.23958 -0.34058 C -0.26076 -0.32925 -0.30139 -0.30243 -0.30139 -0.30243 C -0.30504 -0.29619 -0.3125 -0.28879 -0.30625 -0.27908 C -0.30399 -0.27561 -0.29983 -0.2763 -0.29653 -0.27492 C -0.14688 -0.28532 0.00120999999999999 -0.33041 0.15087 -0.33619 C 0.18246 -0.34104 0.21597 -0.35052 0.24774 -0.34451 C 0.23524 -0.32301 0.21632 -0.31515 0.19844 -0.30243 C 0.16267 -0.27677 0.12812 -0.24856 0.09375 -0.21989 C 0.05851 -0.19052 0.0191 -0.16948 0 -0.11838 C -0.00642 -0.04879 0.05087 -0.04902 0.08889 -0.04648 C 0.16128 -0.05249 0.23715 -0.05526 0.30799 -0.08047 C 0.34444 -0.09341 0.38003 -0.11006 0.41597 -0.12486 C 0.44635 -0.13734 0.48455 -0.1563 0.50955 -0.18405 C 0.51059 -0.18682 0.51337 -0.18937 0.51267 -0.19237 C 0.51111 -0.2 0.50017 -0.20023 0.49687 -0.20093 C 0.35712 -0.19099 0.21875 -0.16416 0.08264 -0.12047 C 0.00971999999999999 -0.09711 -0.06701 -0.07029 -0.12847 -0.01064 C -0.12951 -0.00648 -0.13142 -0.00231 -0.13177 0.00208 C -0.13316 0.01803 -0.09861 0.01873 -0.0967 0.01896 C 0.0349 0.00347 0.16771 -0.01364 0.29687 -0.05295 C 0.35851 -0.07168 0.41962 -0.09388 0.48108 -0.11422 C 0.53628 -0.13249 0.59288 -0.14798 0.64444 -0.18174 C 0.63299 -0.1926 0.63663 -0.19099 0.61111 -0.18405 C 0.55833 -0.16994 0.50642 -0.15122 0.45399 -0.13526 C 0.38455 -0.11399 0.31545 -0.0911 0.24601 -0.06983 C 0.11528 -0.02983 -0.01701 -0.000469999999999998 -0.13802 0.08023 C -0.14271 0.0874 -0.15104 0.09202 -0.15208 0.1015 C -0.15538 0.12878 -0.14045 0.13942 -0.12535 0.14589 C -0.09201 0.16023 -0.0717 0.15769 -0.0349 0.16069 C 0.11892 0.15468 0.20156 0.15514 0.33663 0.1415 C 0.45833 0.12901 0.57969 0.10751 0.70156 0.09942 C 0.67795 0.123 0.64271 0.12693 0.61597 0.13734 C 0.59306 0.14636 0.57066 0.15815 0.54774 0.16693 C 0.48924 0.18913 0.43021 0.20925 0.37153 0.23029 C 0.24392 0.27607 0.11319 0.34312 0.00642 0.44809 C 0.00278 0.45664 -0.00174 0.46451 -0.00469 0.47352 C -0.02222 0.52578 0.04236 0.52485 0.06354 0.52624 C 0.19757 0.51745 0.32049 0.50081 0.45399 0.4756 C 0.53628 0.46011 0.61979 0.44647 0.7 0.41641 C 0.66198 0.41017 0.61111 0.44323 0.57621 0.45664 C 0.55035 0.46659 0.52413 0.47352 0.49844 0.48416 C 0.43351 0.51098 0.36927 0.54034 0.30486 0.56855 C 0.2066 0.61179 0.10816 0.65133 0.02066 0.72717 C 0.01806 0.73341 0.01302 0.73896 0.01267 0.74612 C 0.01128 0.78381 0.04757 0.77849 0.0651 0.78011 C 0.25434 0.76416 0.44792 0.68901 0.61597 0.57295 C 0.62101 0.56555 0.63819 0.54612 0.63663 0.53063 C 0.62847 0.45271 0.5441 0.42358 0.49844 0.40578 C 0.34618 0.34636 0.1875 0.34127 0.03021 0.33179 C -0.10903 0.33734 -0.25191 0.3052 -0.38733 0.34867 C -0.41563 0.35769 -0.38872 0.42659 -0.38403 0.46497 C -0.38229 0.47977 -0.35833 0.48462 -0.35226 0.48624 C -0.30816 0.49803 -0.31094 0.49503 -0.25868 0.49896 C -0.20208 0.4948 -0.14531 0.49295 -0.08889 0.48624 C 0.09427 0.46451 0.2783 0.3926 0.44774 0.30219 C 0.56181 0.24138 0.67587 0.18427 0.72708 0.02543 C 0.7276 0.01549 0.72934 0.00578 0.72865 -0.00416 C 0.72621 -0.04301 0.70399 -0.05526 0.67934 -0.06336 C 0.6566 -0.05919 0.63351 -0.05781 0.61111 -0.05087 C 0.49496 -0.01434 0.37708 0.13688 0.3191 0.27052 C 0.30434 0.30451 0.27778 0.39792 0.26667 0.43537 C 0.25694 0.5119 0.24514 0.60901 0.31753 0.6363 C 0.33194 0.64162 0.34722 0.64046 0.36198 0.64254 C 0.54514 0.62797 0.73576 0.4726 0.83976 0.2726 C 0.87847 0.19815 0.90087 0.11838 0.91753 0.03167 C 0.91823 0.00647 0.92153 -0.05434 0.91597 -0.08047 C 0.90712 -0.12301 0.87951 -0.15422 0.84931 -0.16694 C 0.83594 -0.17272 0.8217 -0.17411 0.80799 -0.17757 C 0.76823 -0.17272 0.72812 -0.17203 0.68889 -0.16278 C 0.65955 -0.15584 0.6316 -0.14104 0.6033 -0.12902 C 0.48542 -0.07862 0.37344 -0.00670999999999999 0.27465 0.09295 C 0.19948 0.16878 0.15226 0.22404 0.12552 0.34451 C 0.12917 0.36717 0.13021 0.39075 0.13663 0.41225 C 0.14844 0.45156 0.19844 0.45271 0.22222 0.45664 C 0.2625 0.44948 0.30312 0.44624 0.34288 0.43537 C 0.39167 0.42196 0.4526 0.38358 0.49531 0.35306 C 0.61458 0.26774 0.7191 0.14774 0.75712 -0.0296 C 0.75451 -0.0763 0.76233 -0.12856 0.72552 -0.15214 C 0.7191 -0.1563 0.71181 -0.15792 0.70486 -0.1607 C 0.67621 -0.15723 0.6474 -0.157 0.6191 -0.15006 C 0.59531 -0.14428 0.57222 -0.13318 0.54931 -0.12255 C 0.35035 -0.02914 0.37049 -0.04 0.18108 0.1015 C 0.09913 0.16277 0.02396 0.22936 -0.02379 0.34034 C -0.02483 0.35029 -0.02691 0.36 -0.02691 0.36994 C -0.02691 0.41664 0.00781 0.41433 0.03333 0.41641 C 0.19427 0.38543 0.32309 0.28162 0.46198 0.17341 C 0.53819 0.11399 0.63142 -0.00856 0.66354 -0.12486 C 0.66146 -0.13757 0.66163 -0.15122 0.65712 -0.16278 C 0.65382 -0.1711 0.62865 -0.1711 0.62708 -0.17133 C 0.54496 -0.15792 0.46371 -0.11468 0.38889 -0.06983 C 0.21632 0.03352 0.02309 0.13942 -0.08889 0.35306 C -0.09201 0.37063 -0.09913 0.38774 -0.09844 0.40578 C -0.09566 0.47399 -0.07917 0.48555 -0.03958 0.5052 C -0.00885 0.50381 0.02205 0.50705 0.05243 0.50104 C 0.08437 0.4948 0.17483 0.4467 0.2 0.43121 C 0.34479 0.34243 0.46597 0.22196 0.53976 0.03167 C 0.54965 -0.02081 0.56337 -0.11376 0.50955 -0.13318 C 0.49931 -0.13688 0.48837 -0.13596 0.47778 -0.13734 C 0.44236 -0.13249 0.40642 -0.13156 0.37153 -0.12255 C 0.34323 -0.11538 0.31632 -0.10081 0.28889 -0.08879 C 0.2467 -0.07029 0.13941 -0.01989 0.10156 0.00624 C 0.03819 0.04994 -0.02222 0.10081 -0.08403 0.14797 C -0.15017 0.19838 -0.21719 0.28347 -0.24271 0.38058 C -0.23958 0.39953 -0.23993 0.42011 -0.23333 0.43745 C -0.22014 0.4726 -0.16024 0.47052 -0.13958 0.47144 C 0.00120999999999999 0.45202 0.13281 0.37965 0.25399 0.28323 C 0.34115 0.21387 0.42361 0.13618 0.44931 0 C 0.44514 -0.02359 0.44809 -0.0481 0.42865 -0.05711 C 0.42257 -0.05989 0.41597 -0.0585 0.40955 -0.05919 C 0.33437 -0.05272 0.26042 0.00254 0.19531 0.04855 C 0.05972 0.14451 -0.06649 0.2615 -0.15208 0.43329 C -0.15938 0.48254 -0.17188 0.54659 -0.12691 0.57295 C -0.11597 0.57942 -0.10365 0.58127 -0.09201 0.58543 C -0.05972 0.58127 -0.02691 0.58196 0.00486 0.57295 C 0.04635 0.56115 0.11858 0.51375 0.15399 0.48624 C 0.30625 0.36855 0.43854 0.19352 0.49531 -0.03168 C 0.49722 -0.05642 0.50365 -0.09619 0.48576 -0.1163 C 0.48229 -0.12023 0.47726 -0.12047 0.47309 -0.12255 C 0.45937 -0.12047 0.44514 -0.1207 0.43177 -0.1163 C 0.33472 -0.08416 0.2474 0.04069 0.2033 0.15422 C 0.20069 0.1711 0.19496 0.18774 0.19531 0.20508 C 0.19601 0.23098 0.20035 0.25664 0.20642 0.28115 C 0.22326 0.35006 0.29531 0.36393 0.33976 0.3741 C 0.37882 0.36994 0.41823 0.36878 0.45712 0.36138 C 0.57726 0.33849 0.72569 0.23283 0.7842 0.0867 C 0.78767 0.05664 0.79132 0.05248 0.77778 0.02104 C 0.77535 0.01526 0.75608 0.01133 0.75399 0.01063 C 0.70121 0.01549 0.65781 0.05179 0.61597 0.09295 C 0.56493 0.14312 0.52049 0.20115 0.49219 0.27699 C 0.48681 0.31468 0.48246 0.35699 0.51111 0.38058 C 0.51632 0.38497 0.52274 0.38612 0.52865 0.3889 C 0.54826 0.38682 0.56806 0.38797 0.58733 0.38266 C 0.61267 0.37549 0.65052 0.34474 0.66996 0.32555 C 0.75052 0.24555 0.80226 0.13988 0.83819 0.01688 C 0.84583 -0.04185 0.8566 -0.10035 0.81441 -0.13734 C 0.79583 -0.13526 0.77691 -0.13734 0.75885 -0.1311 C 0.73542 -0.12278 0.65903 -0.06544 0.64288 -0.05295 C 0.51302 0.04763 0.41667 0.14636 0.33819 0.31283 C 0.33281 0.34682 0.32309 0.38474 0.33021 0.42058 C 0.34115 0.47537 0.37708 0.49942 0.41597 0.50312 C 0.43611 0.49757 0.45677 0.49456 0.47621 0.48624 C 0.55434 0.45271 0.59375 0.34612 0.6191 0.25156 C 0.62639 0.18127 0.63212 0.15977 0.6191 0.07815 C 0.61632 0.06034 0.60729 0.04508 0.6 0.02959 C 0.55955 -0.05619 0.50139 -0.06058 0.43177 -0.06775 C 0.30573 -0.05665 0.19062 -0.01526 0.07153 0.04023 C -0.00608 0.0763 -0.0684 0.11468 -0.13177 0.18381 C -0.1375 0.19722 -0.14531 0.20948 -0.14896 0.22404 C -0.15851 0.26011 -0.14254 0.28693 -0.12066 0.30427 C -0.07031 0.34404 -0.02031 0.34289 0.03663 0.34451 C 0.17621 0.33086 0.30955 0.28971 0.43976 0.21988 C 0.54687 0.16208 0.63281 0.10243 0.69687 -0.02752 C 0.70208 -0.05873 0.71267 -0.09411 0.7033 -0.12694 C 0.67465 -0.22752 0.5849 -0.24 0.51753 -0.25156 C 0.44878 -0.24879 0.37969 -0.25064 0.31111 -0.24324 C 0.07031 -0.21711 -0.17292 -0.09411 -0.37934 0.06751 C -0.38195 0.08647 -0.38715 0.1052 -0.38733 0.12462 C -0.38767 0.16138 -0.38854 0.1993 -0.3809 0.23468 C -0.37795 0.24855 -0.36615 0.25641 -0.35712 0.26427 C -0.32379 0.29341 -0.3099 0.28971 -0.26979 0.29803 C -0.22326 0.29387 -0.17622 0.29387 -0.13004 0.28532 C -0.00364999999999999 0.26196 0.12448 0.17595 0.23177 0.08878 C 0.32812 0.01063 0.42656 -0.08347 0.4651 -0.23052 C 0.46615 -0.25295 0.46892 -0.28162 0.44931 -0.29388 C 0.44444 -0.29688 0.43871 -0.29526 0.43333 -0.29596 C 0.39583 -0.29226 0.36111 -0.26382 0.33021 -0.23677 C 0.22604 -0.14567 0.11337 -0.04625 0.04774 0.09942 C 0.03663 0.12393 0.02969 0.15144 0.02066 0.17757 C 0.01684 0.21202 0.00677 0.27167 0.01441 0.30867 C 0.04062 0.43607 0.16354 0.44555 0.24132 0.45017 C 0.40816 0.42173 0.56927 0.33919 0.67778 0.15861 C 0.71753 0.09225 0.71927 0.06728 0.73976 -0.00856 C 0.74115 -0.03723 0.74687 -0.09018 0.73819 -0.12047 C 0.70868 -0.22359 0.63785 -0.23746 0.56667 -0.24948 C 0.50746 -0.24532 0.44792 -0.24463 0.38889 -0.23677 C 0.27396 -0.22151 0.15556 -0.17388 0.04774 -0.12047 C -0.06563 -0.06428 -0.17292 0.003 -0.2507 0.12878 C -0.25642 0.16092 -0.26493 0.1852 -0.25868 0.2178 C -0.23854 0.32208 -0.14358 0.3267 -0.07934 0.33618 C 0.10417 0.32439 0.32378 0.21341 0.44444 0.02104 C 0.45885 -0.00185 0.46996 -0.02821 0.48264 -0.05295 C 0.49792 -0.11445 0.51996 -0.19723 0.47309 -0.2474 C 0.46163 -0.25966 0.44878 -0.27029 0.4349 -0.277 C 0.42031 -0.28393 0.40417 -0.28416 0.38889 -0.28763 C 0.3375 -0.28116 0.28559 -0.28139 0.2349 -0.26844 C 0.19288 -0.25781 0.06476 -0.18243 0.03177 -0.1607 C -0.08247 -0.08555 -0.20347 0.00601 -0.29844 0.12046 C -0.32656 0.15422 -0.34913 0.19514 -0.37448 0.2326 C -0.37882 0.26497 -0.38629 0.29688 -0.38733 0.32971 C -0.38906 0.38404 -0.38872 0.43884 -0.38247 0.49248 C -0.38004 0.51283 -0.37066 0.53063 -0.36181 0.54751 C -0.32483 0.61849 -0.27379 0.63098 -0.21406 0.64901 C -0.1651 0.64624 -0.11545 0.64948 -0.06667 0.64046 C -0.03819 0.63514 -0.01129 0.61919 0.01597 0.6067 C 0.19844 0.52277 0.33385 0.35491 0.39531 0.10982 C 0.39253 0.05295 0.40156 -0.01526 0.35399 -0.04231 C 0.34288 -0.04856 0.33073 -0.05087 0.3191 -0.05503 C 0.28576 -0.05295 0.25226 -0.05434 0.2191 -0.04856 C 0.10035 -0.02775 -0.025 0.06636 -0.12847 0.12878 C -0.20139 0.17318 -0.28854 0.25156 -0.33802 0.33826 C -0.34913 0.35769 -0.35486 0.38196 -0.36337 0.4037 C -0.36389 0.41988 -0.36684 0.4363 -0.3651 0.45225 C -0.35486 0.54913 -0.26528 0.563 -0.20938 0.57711 C -0.15434 0.57156 -0.09896 0.57202 -0.04444 0.56023 C 0.01198 0.54797 0.09618 0.49896 0.14774 0.46705 C 0.2809 0.38451 0.37951 0.29179 0.44288 0.1119 C 0.44549 0.07884 0.45208 0.03167 0.44444 -0.00208 C 0.42517 -0.08601 0.35694 -0.10729 0.30156 -0.12255 C 0.25035 -0.11769 0.19861 -0.11723 0.14774 -0.10775 C 0.09132 -0.09734 -0.00278 -0.05388 -0.05399 -0.02752 C -0.14792 0.02104 -0.25104 0.07815 -0.33177 0.16069 C -0.35226 0.18173 -0.36875 0.20855 -0.38733 0.2326 C -0.38576 0.29248 -0.38924 0.35306 -0.38247 0.41225 C -0.38056 0.42936 -0.37049 0.44347 -0.36181 0.45664 C -0.32101 0.51838 -0.26997 0.52555 -0.21267 0.53896 C -0.16024 0.53341 -0.10729 0.53387 -0.05556 0.52208 C -0.02326 0.51468 0.00746 0.49734 0.03819 0.48185 C 0.15191 0.42497 0.27778 0.33988 0.35885 0.21549 C 0.39028 0.16717 0.41285 0.10219 0.4349 0.04647 C 0.43976 0.02034 0.44844 -0.00486 0.44931 -0.03168 C 0.45069 -0.07191 0.44774 -0.11283 0.44132 -0.15214 C 0.43854 -0.16879 0.42969 -0.18266 0.42222 -0.19653 C 0.39687 -0.24416 0.36736 -0.25341 0.32708 -0.26844 C 0.29115 -0.26636 0.25486 -0.26729 0.2191 -0.2622 C 0.16389 -0.25457 0.12465 -0.23561 0.07309 -0.20925 C -0.01806 -0.16255 -0.10174 -0.10937 -0.16823 -0.01272 C -0.17292 0.00138 -0.18264 0.0141 -0.18247 0.02959 C -0.18038 0.15514 -0.06267 0.14936 0.00156 0.1563 C 0.1849 0.14797 0.36719 0.08208 0.53177 -0.02752 C 0.59531 -0.06983 0.67187 -0.12971 0.70486 -0.21781 C 0.69948 -0.24231 0.7026 -0.25642 0.6842 -0.26428 C 0.67865 -0.26659 0.67257 -0.26567 0.66667 -0.26636 C 0.59722 -0.26151 0.53316 -0.2252 0.47153 -0.18405 C 0.37865 -0.12208 0.28542 -0.04047 0.22708 0.07584 C 0.22448 0.08809 0.22014 0.09942 0.2191 0.1119 C 0.21424 0.17156 0.27361 0.17318 0.30156 0.17757 C 0.41771 0.16832 0.53663 0.11306 0.63021 0.01896 C 0.65955 -0.01041 0.68871 -0.05318 0.71441 -0.08879 C 0.72014 -0.10497 0.72743 -0.12047 0.73177 -0.13734 C 0.74184 -0.17711 0.73177 -0.22151 0.70156 -0.23677 C 0.69288 -0.24116 0.68368 -0.24255 0.67465 -0.24532 C 0.64236 -0.24324 0.6099 -0.24463 0.57778 -0.23885 C 0.44896 -0.21573 0.32187 -0.10405 0.23333 0.01896 C 0.22917 0.03167 0.22344 0.0437 0.22066 0.05711 C 0.19983 0.15884 0.3066 0.15861 0.35243 0.16069 C 0.45243 0.14335 0.5375 0.11399 0.59531 -0.00416 C 0.59844 -0.01757 0.60278 -0.03052 0.60486 -0.0444 C 0.60642 -0.0548 0.60712 -0.06544 0.60642 -0.07607 C 0.60069 -0.15561 0.55677 -0.16324 0.50642 -0.16925 C 0.4217 -0.16463 0.34097 -0.1207 0.26667 -0.06775 C 0.19028 -0.01341 0.11267 0.04578 0.07465 0.15422 C 0.07569 0.1704 0.07465 0.18728 0.07778 0.203 C 0.08177 0.22335 0.10399 0.22936 0.11597 0.2326 C 0.13229 0.22844 0.14896 0.22589 0.1651 0.21988 C 0.24271 0.19098 0.31441 0.11006 0.33819 0.00624 C 0.33316 -0.03862 0.33663 -0.03145 0.3033 -0.0148 C 0.25156 0.04231 0.21059 0.10751 0.19375 0.19445 C 0.19635 0.21202 0.19618 0.23098 0.20156 0.2474 C 0.20903 0.27029 0.24722 0.2756 0.26198 0.27699 C 0.28941 0.27052 0.31753 0.26797 0.34444 0.2578 C 0.3592 0.25225 0.37222 0.24 0.38576 0.23029 C 0.41267 0.2111 0.46146 0.17595 0.4842 0.14797 C 0.50521 0.12208 0.52465 0.07653 0.53976 0.04439 C 0.54288 0.02751 0.54913 0.0111 0.54931 -0.00648 C 0.54965 -0.03283 0.54774 -0.05966 0.54132 -0.08463 C 0.5184 -0.1748 0.42483 -0.17156 0.36996 -0.17549 C 0.23559 -0.16185 0.12049 -0.11052 -0.00781 -0.05295 C -0.06649 -0.02659 -0.11736 0.00948 -0.16181 0.06543 C -0.16597 0.07745 -0.17344 0.08832 -0.17431 0.1015 C -0.18177 0.18959 -0.08542 0.18034 -0.04757 0.18173 C 0.10208 0.16994 0.24062 0.12485 0.37153 0.02312 C 0.42274 -0.01665 0.47292 -0.06081 0.5 -0.13318 C 0.49844 -0.14659 0.49896 -0.1607 0.49531 -0.17341 C 0.48802 -0.19862 0.45781 -0.19746 0.44288 -0.19885 C 0.41493 -0.19607 0.38663 -0.1963 0.35885 -0.19029 C 0.25521 -0.1674 0.12361 -0.06682 0.07309 0.05919 C 0.0724 0.0689 0.06979 0.09225 0.07309 0.10358 C 0.0849 0.14381 0.1224 0.14821 0.14931 0.1519 C 0.18108 0.15075 0.21285 0.1519 0.24444 0.14797 C 0.32795 0.13711 0.41094 0.0867 0.4842 0.03584 C 0.53351 0.00162 0.57344 -0.03653 0.6033 -0.09942 C 0.60434 -0.10567 0.60712 -0.11191 0.60642 -0.11838 C 0.6033 -0.14705 0.59618 -0.14729 0.57934 -0.15006 C 0.51198 -0.13364 0.45052 -0.09665 0.39219 -0.04856 C 0.34896 -0.01272 0.3026 0.0178 0.26354 0.06127 C 0.15365 0.18312 0.03212 0.33341 0 0.52855 C 0.00677 0.56624 0.00226 0.57248 0.03021 0.57711 C 0.1033 0.56231 0.17708 0.48254 0.22708 0.42058 C 0.36406 0.25063 0.47691 0.03214 0.52552 -0.21133 C 0.52604 -0.21919 0.52969 -0.24671 0.52378 -0.25573 C 0.52205 -0.2585 0.51858 -0.25434 0.51597 -0.25364 C 0.43819 -0.14497 0.37274 -0.01688 0.30799 0.10543 C 0.23733 0.23907 0.16163 0.37618 0.12708 0.5348 C 0.1276 0.54612 0.12569 0.55792 0.12865 0.56855 C 0.12986 0.57295 0.13455 0.57526 0.13819 0.57503 C 0.14965 0.57387 0.16042 0.56786 0.17153 0.56439 C 0.35347 0.42104 0.4724 0.1889 0.58108 -0.04648 C 0.63056 -0.15353 0.64931 -0.21596 0.69375 -0.33827 C 0.70069 -0.35769 0.70677 -0.37757 0.71267 -0.39746 C 0.7151 -0.40578 0.71719 -0.41434 0.7191 -0.42289 C 0.72049 -0.42914 0.72101 -0.43561 0.72222 -0.44185 C 0.72257 -0.44393 0.72535 -0.4481 0.72378 -0.4481 C 0.71684 -0.4481 0.71562 -0.4333 0.71267 -0.42497 C 0.70035 -0.39122 0.68056 -0.33596 0.66996 -0.30243 C 0.65312 -0.24902 0.63733 -0.19515 0.62066 -0.14174 C 0.61198 -0.11399 0.60312 -0.08648 0.59375 -0.05919 C 0.58142 -0.02359 0.56719 0.01063 0.55556 0.04647 C 0.51476 0.17248 0.47101 0.30011 0.45087 0.43537 C 0.45816 0.47144 0.46233 0.46381 0.48733 0.42497 C 0.51684 0.37896 0.54826 0.33526 0.57621 0.2874 C 0.64271 0.17364 0.69757 0.05595 0.75243 -0.06775 C 0.77135 -0.11052 0.78976 -0.15029 0.8 -0.19885 C 0.79531 -0.22336 0.78646 -0.1711 0.78576 -0.16925 C 0.77118 -0.1274 0.7566 -0.08578 0.74444 -0.04231 C 0.71892 0.04878 0.69983 0.13734 0.68576 0.2326 C 0.68802 0.26728 0.67986 0.29641 0.70486 0.27699 C 0.75417 0.1926 0.79323 0.10243 0.81753 0 C 0.82326 -0.05272 0.8349 -0.10151 0.83819 -0.15445 C 0.83767 -0.16139 0.83906 -0.16925 0.83663 -0.17549 C 0.83455 -0.18081 0.83142 -0.17549 0.82708 -0.15653 C 0.82292 -0.13896 0.81962 -0.12116 0.81597 -0.10359 C 0.80903 -0.07006 0.80434 -0.03584 0.79844 -0.00208 C 0.77309 0.14427 0.75642 0.2941 0.74931 0.44393 C 0.7467 0.49826 0.74288 0.6067 0.74288 0.6067 C 0.74444 0.64416 0.73698 0.73873 0.76198 0.78011 C 0.79115 0.75399 0.80816 0.68855 0.81597 0.64901 C 0.84271 0.51514 0.85903 0.38867 0.86823 0.25156 C 0.86962 0.22959 0.87187 0.20786 0.87309 0.18589 C 0.87569 0.13734 0.87934 0.04023 0.87934 0.04023 C 0.87986 0.00855 0.88229 -0.02336 0.88108 -0.05503 C 0.8809 -0.05919 0.87726 -0.04833 0.87621 -0.0444 C 0.87344 -0.0333 0.87205 -0.02197 0.86996 -0.01064 C 0.8651 0.07098 0.84878 0.15098 0.84444 0.2326 C 0.83819 0.34659 0.84201 0.2904 0.83333 0.40162 C 0.83021 0.49688 0.82483 0.59167 0.82222 0.68693 C 0.82187 0.70243 0.82292 0.65595 0.82378 0.64046 C 0.83472 0.43722 0.82222 0.71584 0.83333 0.48185 C 0.84167 0.30543 0.86163 0.13133 0.87465 -0.0444 C 0.8908 -0.26174 0.86406 0.00114999999999998 0.89219 -0.25364 C 0.8934 -0.26428 0.89427 -0.27468 0.89531 -0.28532 C 0.89583 -0.28948 0.89826 -0.30197 0.89687 -0.29804 C 0.87812 -0.24278 0.8691 -0.1452 0.86198 -0.08671 C 0.85451 -0.02544 0.84826 0.03584 0.84132 0.09711 C 0.83038 0.1926 0.82448 0.28601 0.82066 0.38266 C 0.82118 0.40578 0.81302 0.5563 0.84288 0.59607 C 0.85417 0.5556 0.85538 0.51422 0.85885 0.47144 C 0.85781 0.3778 0.85868 0.28393 0.85556 0.19029 C 0.85434 0.15491 0.84826 0.12 0.84601 0.08462 C 0.82483 -0.23677 0.86354 0.18636 0.81753 -0.27052 C 0.81094 -0.33665 0.80816 -0.40763 0.79219 -0.47145 C 0.78733 -0.42405 0.78368 -0.37757 0.78108 -0.32971 C 0.78056 -0.3059 0.78056 -0.28185 0.77934 -0.25804 C 0.77587 -0.19029 0.76667 -0.05503 0.76667 -0.05503 C 0.76319 0.08092 0.76181 0.21711 0.75712 0.35306 C 0.75816 0.39098 0.75885 0.42913 0.76042 0.46705 C 0.76059 0.46936 0.76111 0.4756 0.76198 0.47352 C 0.77431 0.44439 0.77517 0.39514 0.77778 0.36347 C 0.79045 0.21271 0.77257 0.39792 0.79219 0.203 C 0.79427 0.10335 0.80191 0.00439000000000001 0.80486 -0.09526 C 0.80434 -0.1163 0.80608 -0.13781 0.8033 -0.15862 C 0.8026 -0.16393 0.79931 -0.14914 0.79844 -0.14382 C 0.7967 -0.13411 0.7967 -0.12393 0.79531 -0.11422 C 0.78889 -0.06775 0.78611 -0.06544 0.77778 -0.01272 C 0.76076 0.09387 0.74965 0.2037 0.7349 0.31075 C 0.7316 0.33526 0.72951 0.36 0.72708 0.38474 C 0.72587 0.39676 0.72222 0.43237 0.72378 0.42058 C 0.72535 0.40855 0.72708 0.39676 0.72865 0.38474 C 0.74115 0.18312 0.73351 -0.02127 0.71441 -0.22197 C 0.70937 -0.27561 0.7026 -0.32902 0.69687 -0.38266 C 0.69635 -0.38729 0.69549 -0.44093 0.6842 -0.44601 C 0.68003 -0.39307 0.67656 -0.34058 0.67153 -0.28763 C 0.66267 -0.09364 0.64479 0.09965 0.6349 0.29387 C 0.63646 0.3519 0.62257 0.50774 0.66354 0.57295 C 0.68628 0.5556 0.68837 0.51584 0.69375 0.48416 C 0.71128 0.38011 0.7191 0.27699 0.72708 0.1711 C 0.72604 0.05271 0.72552 -0.06567 0.72378 -0.18405 C 0.72326 -0.21688 0.72049 -0.2948 0.71597 -0.33226 C 0.71424 -0.34705 0.70799 -0.37642 0.70799 -0.37642 C 0.69878 -0.35954 0.70486 -0.37341 0.7 -0.34058 C 0.69496 -0.30567 0.68941 -0.27122 0.6842 -0.23677 C 0.66545 -0.11399 0.67205 -0.20116 0.65712 -0.06336 C 0.6526 -0.02151 0.64583 0.08208 0.64288 0.12462 C 0.64306 0.12948 0.62483 0.30081 0.66667 0.33826 C 0.7026 0.32208 0.7125 0.24693 0.72222 0.20508 C 0.75069 0.08208 0.73108 0.1674 0.75087 0.04023 C 0.76198 -0.03122 0.77222 -0.09873 0.77778 -0.17133 C 0.77726 -0.19677 0.77795 -0.2222 0.77621 -0.2474 C 0.77587 -0.2511 0.77413 -0.24023 0.77309 -0.23677 C 0.77135 -0.23052 0.76962 -0.22428 0.76823 -0.21781 C 0.7658 -0.20671 0.76371 -0.19538 0.76198 -0.18405 C 0.7559 -0.14544 0.74861 -0.10682 0.74444 -0.06775 C 0.73611 0.00855 0.72465 0.08393 0.7191 0.16069 C 0.71493 0.21688 0.70799 0.32971 0.70799 0.32971 C 0.70833 0.35352 0.70243 0.41803 0.71753 0.44809 C 0.74496 0.41156 0.74444 0.30566 0.74774 0.25156 C 0.75 0.2148 0.75191 0.17826 0.75399 0.1415 C 0.75556 -0.07214 0.75729 -0.1385 0.75243 -0.3637 C 0.75087 -0.43399 0.75417 -0.41966 0.74601 -0.45041 C 0.73802 -0.40185 0.73698 -0.34544 0.73333 -0.29804 C 0.72656 -0.20856 0.72205 -0.11954 0.7191 -0.0296 C 0.71962 0.07052 0.71927 0.1704 0.72066 0.27052 C 0.72101 0.29295 0.72344 0.3119 0.7349 0.32763 C 0.74618 0.31792 0.74566 0.30196 0.74774 0.28532 C 0.75087 0.21318 0.75417 0.13826 0.74132 0.06751 C 0.7349 0.08092 0.73906 0.07006 0.73663 0.09711 C 0.72951 0.17826 0.73733 0.06913 0.73021 0.17549 C 0.7316 0.28624 0.73073 0.39029 0.75556 0.49664 C 0.76562 0.53988 0.77257 0.58358 0.80642 0.60023 C 0.82257 0.59676 0.83125 0.5711 0.83663 0.55167 C 0.84913 0.50705 0.8533 0.46751 0.86042 0.42058 C 0.87292 0.23399 0.86858 0.04717 0.84132 -0.13734 C 0.82222 -0.26613 0.81892 -0.29434 0.79219 -0.3889 C 0.78646 -0.40925 0.78229 -0.43376 0.76667 -0.44393 C 0.75851 -0.42775 0.75816 -0.41226 0.75556 -0.3933 C 0.75087 -0.35954 0.74132 -0.29179 0.74132 -0.29179 C 0.72917 -0.09364 0.72361 0.11098 0.77153 0.30219 C 0.78108 0.10867 0.78733 -0.08416 0.81597 -0.27492 C 0.82031 -0.33457 0.82187 -0.39954 0.83663 -0.45665 C 0.84549 -0.32463 0.84149 -0.19145 0.84601 -0.05919 C 0.84705 0.04416 0.83819 0.17133 0.86354 0.2726 C 0.87101 0.24901 0.8717 0.22612 0.87309 0.20069 C 0.87187 0.12855 0.87847 0.02034 0.86354 -0.05919 C 0.8625 -0.05364 0.86128 -0.0481 0.86042 -0.04231 C 0.85764 -0.02405 0.85243 0.01271 0.85243 0.01271 C 0.84913 0.10127 0.83733 0.19029 0.82378 0.27699 C 0.82274 0.3052 0.82135 0.33318 0.8191 0.36138 C 0.81476 0.16185 0.81354 -0.03746 0.80642 -0.23677 C 0.80434 -0.17203 0.80208 -0.10705 0.8 -0.04231 C 0.79896 -0.00786 0.79687 0.06127 0.79687 0.06127 C 0.79705 0.07491 0.79861 0.33664 0.80486 0.43121 C 0.80625 0.45133 0.80799 0.48832 0.81753 0.50728 C 0.8349 0.32832 0.84236 0.14797 0.85399 -0.03168 C 0.85451 -0.06474 0.85469 -0.09804 0.85556 -0.1311 C 0.85573 -0.13966 0.8566 -0.16509 0.85712 -0.15653 C 0.85868 -0.12694 0.85833 -0.09734 0.85885 -0.06775 C 0.85746 0.08023 0.86163 0.22867 0.85243 0.37618 C 0.84878 0.43422 0.83819 0.50821 0.83819 0.57063 C 0.83819 0.57341 0.83924 0.56508 0.83976 0.56231 C 0.84132 0.55306 0.84323 0.54404 0.84444 0.5348 C 0.84601 0.523 0.8467 0.51098 0.84774 0.49896 C 0.85156 0.45318 0.85885 0.36138 0.85885 0.36138 C 0.86215 0.17503 0.85434 -0.00925000000000001 0.84132 -0.19445 C 0.83698 -0.25549 0.83733 -0.32139 0.82378 -0.38058 C 0.81267 -0.1859 0.82031 0.01017 0.81111 0.20508 C 0.81111 0.20624 0.80417 0.28069 0.82378 0.28948 C 0.82708 0.27722 0.83264 0.26612 0.8349 0.25364 C 0.83715 0.24115 0.83681 0.22821 0.83819 0.21549 C 0.84062 0.19283 0.84358 0.17063 0.84601 0.14797 C 0.84896 0.12046 0.85139 0.09295 0.85399 0.06543 C 0.86007 -0.11792 0.86823 -0.30127 0.85087 -0.48416 C 0.85 -0.50705 0.85052 -0.53156 0.84601 -0.55376 C 0.82621 -0.47307 0.81701 -0.38266 0.80486 -0.30012 C 0.78941 -0.19538 0.77743 -0.08994 0.76198 0.0148 C 0.74271 -0.1422 0.76302 -0.3089 0.75087 -0.46937 C 0.74983 -0.51006 0.75087 -0.55838 0.74132 -0.59838 C 0.73038 -0.53156 0.72587 -0.46104 0.7191 -0.3933 C 0.71302 -0.33226 0.70156 -0.20925 0.70156 -0.20925 C 0.69496 -0.07099 0.68316 0.06682 0.67465 0.20508 C 0.67309 0.23052 0.66996 0.28115 0.66996 0.28115 C 0.67066 0.30219 0.66319 0.37364 0.68264 0.39953 C 0.71059 0.34844 0.71615 0.2504 0.72378 0.20069 C 0.73507 0.1274 0.73628 0.10751 0.74444 0.03167 C 0.74583 -0.04185 0.74844 -0.11492 0.75243 -0.18821 C 0.75191 -0.21364 0.75399 -0.23931 0.75087 -0.26428 C 0.75017 -0.26937 0.74601 -0.25619 0.74444 -0.25156 C 0.74115 -0.24139 0.73889 -0.23052 0.73663 -0.21989 C 0.72222 -0.1496 0.70538 -0.08 0.69531 -0.00856 C 0.6724 0.15491 0.65139 0.31884 0.63819 0.48416 C 0.63767 0.50312 0.63663 0.52208 0.63663 0.54104 C 0.63663 0.60347 0.63229 0.61179 0.64132 0.58774 C 0.65972 0.47121 0.68264 0.35514 0.7033 0.23884 C 0.7342 0.06474 0.73698 -0.12671 0.74931 -0.30451 C 0.74983 -0.32555 0.74965 -0.34705 0.75087 -0.36786 C 0.75174 -0.38266 0.75417 -0.39746 0.75556 -0.41226 C 0.75625 -0.42012 0.75868 -0.44324 0.75712 -0.43561 C 0.74427 -0.37272 0.73767 -0.30474 0.72865 -0.24093 C 0.71424 -0.13989 0.69358 -0.04 0.66823 0.05711 C 0.65972 0.08948 0.65017 0.12138 0.64288 0.15422 C 0.63108 0.2074 0.61111 0.31491 0.61111 0.31491 C 0.60972 0.3348 0.60017 0.38705 0.60955 0.40578 C 0.63733 0.38751 0.63333 0.39329 0.65885 0.33179 C 0.67569 0.29086 0.69844 0.25341 0.70955 0.20925 C 0.73003 0.12717 0.74444 0.04901 0.75556 -0.03607 C 0.75903 -0.11723 0.76597 -0.20301 0.73177 -0.27492 C 0.72309 -0.29295 0.71562 -0.30705 0.7 -0.31492 C 0.69201 -0.31885 0.68316 -0.31931 0.67465 -0.32139 C 0.60208 -0.3052 0.56771 -0.28347 0.50799 -0.22197 C 0.42153 -0.13318 0.3276 -0.03237 0.26042 0.08462 C 0.22899 0.13942 0.20642 0.1963 0.18108 0.25572 C 0.17205 0.31329 0.16441 0.33133 0.17778 0.39306 C 0.18108 0.40809 0.20295 0.41942 0.21111 0.42497 C 0.23437 0.42358 0.25799 0.42566 0.28108 0.42058 C 0.39809 0.39514 0.55625 0.25919 0.64288 0.1563 C 0.67014 0.12393 0.74444 0.02243 0.76667 -0.02127 C 0.79705 -0.08093 0.81267 -0.1452 0.83177 -0.21133 C 0.83385 -0.23677 0.83924 -0.26197 0.83819 -0.28763 C 0.83646 -0.33041 0.83351 -0.37364 0.82378 -0.41434 C 0.81927 -0.43307 0.80764 -0.4474 0.79687 -0.46081 C 0.74826 -0.52116 0.68819 -0.53041 0.62552 -0.54336 C 0.55781 -0.54197 0.48976 -0.54544 0.42222 -0.53919 C 0.38108 -0.53549 0.34062 -0.5237 0.3 -0.51376 C 0.08993 -0.46197 0.07604 -0.46474 -0.08733 -0.3933 C -0.16441 -0.35954 -0.23889 -0.32393 -0.30764 -0.26636 C -0.31042 -0.26151 -0.31528 -0.25757 -0.3158 -0.25156 C -0.31684 -0.23191 -0.30122 -0.23561 -0.29358 -0.23468 C -0.18733 -0.25457 -0.09688 -0.29873 0.00642 -0.34243 C 0.10694 -0.38497 0.20712 -0.42821 0.30799 -0.46937 C 0.35781 -0.48971 0.4059 -0.51792 0.45556 -0.53919 C 0.47361 -0.54682 0.49149 -0.55445 0.50955 -0.56208 C 0.51146 -0.56278 0.51632 -0.56532 0.51441 -0.56625 C 0.50556 -0.57041 0.49601 -0.56208 0.48733 -0.55792 C 0.46128 -0.54544 0.43542 -0.53133 0.40955 -0.51792 C 0.35955 -0.49203 0.30781 -0.47168 0.25712 -0.4481 C 0.05035 -0.35214 0.28108 -0.45249 0.06042 -0.36994 C -0.00712 -0.34474 -0.07396 -0.31607 -0.14115 -0.28971 C -0.18733 -0.27168 -0.22431 -0.26035 -0.26667 -0.2326 C -0.25399 -0.21573 -0.18576 -0.24648 -0.17292 -0.25156 C -0.06181 -0.29619 0.06059 -0.33619 0.15885 -0.42289 C 0.1599 -0.42636 0.1625 -0.4296 0.16198 -0.4333 C 0.15937 -0.44948 0.13993 -0.44694 0.13177 -0.4481 C 0.09462 -0.44648 0.07535 -0.44763 0.03976 -0.43977 C 0.0217 -0.43584 0.00382 -0.4289 -0.01424 -0.42497 C -0.07813 -0.41087 -0.14236 -0.40023 -0.20625 -0.38682 C -0.22326 -0.38336 -0.24045 -0.3822 -0.25712 -0.37642 C -0.27135 -0.37156 -0.31389 -0.35561 -0.3 -0.36162 C -0.26372 -0.37734 -0.22743 -0.40047 -0.19184 -0.4185 C -0.13142 -0.44948 -0.07031 -0.47769 -0.00781 -0.50104 C 0.000350000000000001 -0.50405 -0.0224 -0.48902 -0.03004 -0.48416 C -0.04427 -0.47492 -0.05868 -0.4659 -0.07292 -0.45665 C -0.07951 -0.45249 -0.14983 -0.41873 -0.17135 -0.4081 C -0.18073 -0.40324 -0.1908 -0.39954 -0.2 -0.3933 C -0.20625 -0.38914 -0.21875 -0.38058 -0.21875 -0.38058 C -0.20903 -0.36694 -0.18854 -0.38197 -0.17622 -0.38682 C -0.1276 -0.40578 -0.08177 -0.4333 -0.03646 -0.46289 C -0.02205 -0.48324 -0.05365 -0.46937 -0.05399 -0.46937 C -0.09931 -0.44717 -0.14879 -0.43746 -0.19045 -0.4037 C -0.19375 -0.39006 -0.18125 -0.40047 -0.17622 -0.4037 C -0.16493 -0.41087 -0.15399 -0.41942 -0.14288 -0.42705 C -0.12083 -0.44231 -0.09826 -0.45619 -0.07622 -0.47145 C -0.06094 -0.48185 -0.04375 -0.49272 -0.03177 -0.5096 C -0.04236 -0.51653 -0.05191 -0.50613 -0.06181 -0.49896 C -0.07135 -0.49203 -0.08142 -0.48601 -0.09045 -0.47769 C -0.09566 -0.47283 -0.10069 -0.46729 -0.10625 -0.46289 C -0.11129 -0.45896 -0.11736 -0.45688 -0.12222 -0.45249 C -0.12691 -0.44833 -0.13038 -0.44208 -0.1349 -0.43769 C -0.13889 -0.43376 -0.1434 -0.43052 -0.14757 -0.42705 C -0.14896 -0.42428 -0.15035 -0.42127 -0.15208 -0.4185 C -0.1533 -0.41688 -0.15538 -0.41642 -0.15538 -0.41434 C -0.15538 -0.41226 -0.1533 -0.41156 -0.15208 -0.41018 C -0.13264 -0.41896 -0.11649 -0.43769 -0.09844 -0.45041 C -0.08629 -0.4733 -0.10781 -0.45549 -0.10955 -0.45457 C -0.12951 -0.44255 -0.15035 -0.42983 -0.17135 -0.42081 C -0.20382 -0.39191 -0.18958 -0.40231 -0.21267 -0.38682 C -0.21406 -0.38405 -0.21545 -0.38127 -0.21736 -0.3785 C -0.21823 -0.37688 -0.22153 -0.37596 -0.22049 -0.37411 C -0.21945 -0.37156 -0.21632 -0.37272 -0.21406 -0.37203 C -0.16684 -0.39376 -0.12083 -0.42058 -0.07448 -0.44601 C -0.04826 -0.46035 -0.02049 -0.47237 0.00156 -0.49688 C -0.00712 -0.50451 -0.00295 -0.50336 -0.01892 -0.4948 C -0.03924 -0.48393 -0.05955 -0.47307 -0.07934 -0.46081 C -0.10208 -0.44671 -0.12413 -0.43075 -0.14757 -0.4185 C -0.17795 -0.40278 -0.20972 -0.38867 -0.23333 -0.35723 C -0.21163 -0.34798 -0.23403 -0.35607 -0.17934 -0.37642 C -0.12465 -0.39677 -0.07205 -0.42544 -0.01892 -0.45249 C 0.01701 -0.47075 0.01458 -0.47052 0.05243 -0.4948 C 0.05521 -0.49665 0.06267 -0.49804 0.06042 -0.50104 C 0.05781 -0.50451 0.05295 -0.49966 0.04931 -0.49896 C 0.02326 -0.48509 -0.00017 -0.46798 -0.02691 -0.45457 C -0.06163 -0.437 -0.09653 -0.41642 -0.12847 -0.39122 C -0.13056 -0.38775 -0.13403 -0.38497 -0.1349 -0.38058 C -0.13542 -0.37804 -0.13368 -0.37457 -0.13177 -0.37411 C -0.12813 -0.37295 -0.12431 -0.37573 -0.12066 -0.37642 C -0.06563 -0.40162 -0.01302 -0.43237 0.03976 -0.4652 C 0.06493 -0.4807 0.0901 -0.49619 0.11441 -0.51376 C 0.12708 -0.52301 0.15243 -0.54127 0.15243 -0.54127 C 0.16806 -0.57596 0.11441 -0.54659 0.10642 -0.54336 C 0.05556 -0.52208 0.01146 -0.49919 -0.03646 -0.47145 C -0.06788 -0.45318 -0.09583 -0.44162 -0.12222 -0.41226 C -0.125 -0.40116 -0.12569 -0.4044 -0.11111 -0.4081 C -0.09201 -0.41272 -0.10278 -0.41203 -0.0809 -0.42289 C -0.04965 -0.43838 -0.01892 -0.45734 0.01267 -0.47145 C 0.0191 -0.47422 0.02569 -0.4763 0.03177 -0.48 C 0.03993 -0.48486 0.05556 -0.49688 0.05556 -0.49688 C 0.04184 -0.50151 0.03125 -0.48879 0.0191 -0.48208 C 0.01181 -0.47815 0.00417 -0.47561 -0.00313 -0.47145 C -0.01285 -0.46567 -0.02205 -0.45804 -0.03177 -0.45249 C -0.1033 -0.41179 -0.08247 -0.43145 -0.13177 -0.3933 C -0.1434 -0.38428 -0.15573 -0.37457 -0.1632 -0.35931 C -0.16267 -0.35653 -0.16354 -0.35283 -0.16181 -0.35099 C -0.15955 -0.3489 -0.1566 -0.3489 -0.15399 -0.3489 C -0.14757 -0.3496 -0.10087 -0.35954 -0.09358 -0.36162 C -0.03142 -0.37919 -0.07934 -0.36763 -0.01736 -0.39122 C -0.00434 -0.39607 0.00937 -0.39792 0.02222 -0.4037 C 0.03333 -0.40856 0.04323 -0.41734 0.05399 -0.42289 C 0.11406 -0.45434 0.08733 -0.43145 0.11267 -0.45457 C 0.08819 -0.46752 0.01667 -0.42289 0.00642 -0.4185 C -0.06788 -0.38613 -0.14931 -0.36347 -0.22049 -0.32139 C -0.2941 -0.27815 -0.26823 -0.29966 -0.30295 -0.26844 C -0.30677 -0.25364 -0.29375 -0.26266 -0.28733 -0.26428 C -0.25399 -0.2726 -0.27622 -0.26266 -0.2349 -0.28116 C -0.19965 -0.29688 -0.16493 -0.31376 -0.13004 -0.32971 C -0.03611 -0.37295 -0.07413 -0.35283 0.05087 -0.42289 C 0.07621 -0.437 0.12743 -0.46012 0.14931 -0.48833 C 0.14427 -0.50914 0.14844 -0.49919 0.11267 -0.48833 C 0.08837 -0.48093 0.06493 -0.4696 0.04132 -0.45873 C -0.06007 -0.41249 -0.18316 -0.36509 -0.26979 -0.27492 C -0.2776 -0.24278 -0.2033 -0.27677 -0.19514 -0.27908 C -0.11979 -0.29919 -0.04583 -0.3244 0.02708 -0.35723 C 0.05382 -0.36925 0.08003 -0.38382 0.10642 -0.39746 C 0.11285 -0.4007 0.1191 -0.40463 0.12552 -0.4081 C 0.1283 -0.40971 0.1309 -0.41203 0.13333 -0.41434 C 0.13455 -0.41549 0.13819 -0.4185 0.13663 -0.4185 C 0.12604 -0.41919 0.11545 -0.41711 0.10486 -0.41642 C 0.03576 -0.39283 -0.03455 -0.37457 -0.10313 -0.3489 C -0.1651 -0.32555 -0.22656 -0.30035 -0.28889 -0.277 C -0.29149 -0.27422 -0.29583 -0.27283 -0.29653 -0.26844 C -0.29722 -0.26497 -0.29445 -0.26012 -0.29201 -0.26012 C -0.28108 -0.26012 -0.27066 -0.26474 -0.26024 -0.26844 C -0.23767 -0.27653 -0.2158 -0.28648 -0.19358 -0.29596 C -0.13368 -0.32162 -0.07674 -0.35307 -0.01736 -0.38058 C -0.00677 -0.38544 0.00434 -0.3889 0.01441 -0.39538 C 0.02396 -0.40162 0.04132 -0.4185 0.04132 -0.4185 C 0.04288 -0.42127 0.04601 -0.42359 0.04601 -0.42705 C 0.04601 -0.4296 0.04323 -0.43122 0.04132 -0.43122 C 0.03073 -0.43122 0.02014 -0.42844 0.00955 -0.42705 C -0.03316 -0.41503 -0.07049 -0.39445 -0.10955 -0.36578 C -0.13299 -0.3489 -0.1849 -0.32093 -0.20295 -0.28324 C -0.20208 -0.28116 -0.20191 -0.277 -0.2 -0.277 C -0.19219 -0.27723 -0.12674 -0.29041 -0.1158 -0.29388 C -0.03594 -0.31885 0.04253 -0.3496 0.12066 -0.38266 C 0.17674 -0.40648 0.12934 -0.38104 0.16823 -0.4037 C 0.16927 -0.4044 0.16615 -0.40231 0.1651 -0.40162 C 0.15295 -0.39353 0.13941 -0.39006 0.12708 -0.38266 C 0.11753 -0.37711 0.10816 -0.37087 0.09844 -0.36578 C 0.08542 -0.35885 0.0717 -0.35399 0.05885 -0.34705 C 0.0316 -0.33156 0.00486 -0.31422 -0.02222 -0.29804 C -0.0467 -0.28324 -0.0684 -0.27653 -0.08889 -0.25364 C -0.09358 -0.22844 -0.0474 -0.24879 -0.04444 -0.24948 C -0.02188 -0.25411 0.01441 -0.26567 0.0349 -0.27283 C 0.15573 -0.31584 0.27187 -0.37156 0.38889 -0.42914 C 0.39323 -0.44717 0.36736 -0.43445 0.36198 -0.4333 C 0.32135 -0.42451 0.28281 -0.4081 0.24288 -0.39538 C 0.14792 -0.36509 0.05 -0.34266 -0.04115 -0.29388 C -0.04323 -0.29041 -0.04722 -0.28786 -0.04757 -0.28324 C -0.04879 -0.26659 -0.03681 -0.2696 -0.03004 -0.26844 C 0.06597 -0.27769 0.15903 -0.30451 0.25399 -0.32555 C 0.32847 -0.3422 0.4033 -0.35584 0.47778 -0.37203 C 0.52205 -0.38174 0.56667 -0.39422 0.61111 -0.40162 C 0.49236 -0.35885 0.37153 -0.32416 0.25399 -0.27492 C 0.19826 -0.25156 0.13889 -0.22729 0.08889 -0.18613 C 0.08437 -0.16139 0.12535 -0.17966 0.13333 -0.18174 C 0.1658 -0.19029 0.19861 -0.19677 0.23021 -0.20925 C 0.33472 -0.25018 0.44705 -0.28208 0.54774 -0.34058 C 0.53924 -0.34775 0.54392 -0.3459 0.52865 -0.34058 C 0.40851 -0.29688 0.5316 -0.34151 0.42865 -0.29804 C 0.3184 -0.25133 0.20573 -0.20255 0.09375 -0.16278 C 0.01979 -0.13665 -0.06198 -0.11399 -0.12535 -0.05295 C -0.12865 -0.03468 -0.12309 -0.03792 -0.10955 -0.03376 C 0.10764 -0.06081 0.31927 -0.12763 0.53177 -0.19237 C 0.60087 -0.21341 0.66927 -0.23931 0.73663 -0.26844 C 0.77743 -0.28601 0.81806 -0.30382 0.85885 -0.32139 C 0.87153 -0.32717 0.89375 -0.34705 0.89375 -0.34705 C 0.88837 -0.3681 0.73177 -0.33434 0.70486 -0.32763 C 0.5526 -0.28971 0.39097 -0.22937 0.24601 -0.15445 C 0.22274 -0.14243 0.19896 -0.13226 0.17621 -0.11838 C 0.15069 -0.10266 0.10156 -0.06567 0.10156 -0.06567 C 0.08385 -0.03677 0.10156 -0.04532 0.13021 -0.05295 C 0.28507 -0.09388 0.1901 -0.06798 0.30955 -0.11422 C 0.42934 -0.16047 0.54722 -0.20601 0.65885 -0.27908 C 0.64358 -0.28717 0.62257 -0.2733 0.60799 -0.26636 C 0.56615 -0.24648 0.52448 -0.22544 0.48264 -0.20509 C 0.29062 -0.11191 0.07934 -0.02937 -0.07778 0.1519 C -0.08038 0.16508 -0.08576 0.18058 -0.0809 0.19445 C -0.07135 0.22173 -0.02813 0.22081 -0.01111 0.22404 C 0.09878 0.21433 0.19531 0.20254 0.30156 0.16485 C 0.34965 0.14774 0.39896 0.13456 0.44444 0.10774 C 0.4842 0.08416 0.55069 0.06127 0.57621 0.00832 C 0.57309 -0.0044 0.56285 -0.00278 0.55399 -0.00416 C 0.45625 0.00254 0.37257 0.01757 0.27934 0.05919 C 0.24288 0.07537 0.19774 0.09341 0.16996 0.1311 C 0.17847 0.15352 0.20521 0.13757 0.2191 0.13526 C 0.31302 0.10196 0.42257 0.05364 0.4842 -0.05295 C 0.48524 -0.0585 0.48698 -0.06405 0.48733 -0.06983 C 0.48871 -0.09526 0.46354 -0.09364 0.45087 -0.09526 C 0.39097 -0.08971 0.33524 -0.06081 0.28108 -0.02752 C 0.19427 0.02566 0.11458 0.0911 0.06042 0.19653 C 0.05885 0.20439 0.05521 0.21179 0.05556 0.21988 C 0.05764 0.26173 0.06806 0.26659 0.09375 0.2726 C 0.11337 0.26844 0.13316 0.26612 0.15243 0.25988 C 0.26979 0.2215 0.37552 0.10404 0.43819 -0.0296 C 0.45052 -0.09295 0.46163 -0.14127 0.42552 -0.19445 C 0.42118 -0.2007 0.41684 -0.2074 0.41111 -0.21133 C 0.40017 -0.21896 0.38837 -0.22474 0.37621 -0.22844 C 0.36476 -0.23191 0.35295 -0.23122 0.34132 -0.2326 C 0.29896 -0.23052 0.2566 -0.23145 0.21441 -0.22613 C 0.08073 -0.20925 -0.06146 -0.13203 -0.15712 -0.00416 C -0.18038 0.02705 -0.19462 0.0719 -0.20938 0.10982 C -0.21545 0.16647 -0.21962 0.17826 -0.20625 0.2474 C -0.19271 0.31699 -0.13837 0.38196 -0.08733 0.39953 C -0.06823 0.40624 -0.04809 0.4067 -0.02847 0.41017 C 0.01649 0.4074 0.06181 0.40901 0.10642 0.40162 C 0.18576 0.38844 0.28056 0.3267 0.34931 0.27699 C 0.4441 0.20855 0.51962 0.14173 0.56042 0.00624 C 0.56615 -0.05203 0.55764 -0.11122 0.50799 -0.12694 C 0.49444 -0.1311 0.48038 -0.1311 0.46667 -0.13318 C 0.42431 -0.1311 0.38177 -0.13457 0.33976 -0.12694 C 0.30764 -0.12116 0.27708 -0.1052 0.24601 -0.09295 C 0.12726 -0.04601 0.00243 0.03745 -0.06979 0.17757 C -0.08646 0.20971 -0.0908 0.24231 -0.09844 0.27907 C -0.09688 0.29734 -0.0974 0.3163 -0.09358 0.33387 C -0.08629 0.36717 -0.06406 0.37133 -0.04288 0.37826 C -0.02326 0.3748 -0.00243 0.37734 0.01597 0.36786 C 0.11528 0.31722 0.20746 0.22058 0.2651 0.1015 C 0.28854 0.05318 0.30191 0.000230000000000001 0.31753 -0.05295 C 0.3283 -0.13018 0.35017 -0.277 0.28889 -0.32971 C 0.25903 -0.35538 0.24931 -0.35145 0.21597 -0.35538 C 0.17569 -0.3496 0.13507 -0.34867 0.09531 -0.33827 C 0.01076 -0.31677 -0.07396 -0.25873 -0.14601 -0.19885 C -0.25521 -0.10798 -0.33785 -0.01642 -0.38733 0.14381 C -0.38681 0.17757 -0.38837 0.21156 -0.38559 0.24508 C -0.38021 0.30936 -0.31615 0.35769 -0.27448 0.36994 C -0.2599 0.3741 -0.24479 0.3741 -0.22986 0.37618 C -0.07413 0.363 0.06371 0.29387 0.15712 0.12231 C 0.16319 0.09826 0.17865 0.04971 0.16042 0.02543 C 0.15469 0.0178 0.14201 0.01364 0.1349 0.01063 C 0.08073 0.01572 0.03246 0.04994 -0.01267 0.08878 C -0.10868 0.17156 -0.25278 0.29318 -0.28889 0.44601 C -0.29028 0.48994 -0.29774 0.55214 -0.25399 0.56023 C -0.225 0.55399 -0.21181 0.52763 -0.19653 0.49456 C -0.18021 0.45826 -0.16493 0.42589 -0.15712 0.38474 C -0.16129 0.36693 -0.16684 0.39584 -0.16823 0.39953 C -0.17066 0.40601 -0.17379 0.41179 -0.17622 0.41849 C -0.18906 0.45711 -0.19601 0.50196 -0.20156 0.54335 C -0.20104 0.55167 -0.20208 0.56069 -0.2 0.56855 C -0.19931 0.57063 -0.19601 0.56809 -0.19514 0.56647 C -0.18733 0.55491 -0.17622 0.52693 -0.17135 0.51375 C -0.15712 0.47537 -0.1467 0.43884 -0.1349 0.39953 C -0.13056 0.38474 -0.12604 0.37017 -0.12222 0.35514 C -0.11667 0.33341 -0.11372 0.33156 -0.12222 0.34243 C -0.12656 0.3778 -0.11944 0.32717 -0.13004 0.37202 C -0.13177 0.37965 -0.13194 0.38774 -0.13333 0.39537 C -0.13455 0.40185 -0.13646 0.40809 -0.13802 0.41433 C -0.14028 0.43214 -0.15382 0.48994 -0.13802 0.49664 C -0.12847 0.48393 -0.13715 0.4978 -0.13177 0.48185 C -0.13004 0.47676 -0.12708 0.47237 -0.12535 0.46705 C -0.12153 0.45526 -0.11997 0.44347 -0.11736 0.43121 C -0.11649 0.42682 -0.1151 0.42289 -0.11424 0.41849 C -0.11354 0.41433 -0.10955 0.40717 -0.11267 0.40578 C -0.1158 0.40439 -0.11684 0.41295 -0.11892 0.41641 C -0.12465 0.44971 -0.1276 0.48393 -0.13004 0.51792 C -0.12951 0.53133 -0.13212 0.54566 -0.12847 0.55815 C -0.12656 0.56439 -0.12535 0.54543 -0.12379 0.53896 C -0.12083 0.5267 -0.11736 0.50104 -0.11736 0.50104 C -0.11528 0.47237 -0.10486 0.4289 -0.12066 0.40786 C -0.13542 0.46867 -0.1474 0.53086 -0.15538 0.59399 C -0.15608 0.60601 -0.15712 0.64185 -0.15712 0.62982 C -0.15712 0.61572 -0.15538 0.60185 -0.15538 0.58774 C -0.15538 0.53271 -0.1566 0.47769 -0.15712 0.42266 C -0.16458 0.5267 -0.1651 0.50913 -0.15851 0.65526 C -0.15816 0.66427 -0.15764 0.70451 -0.14444 0.71029 C -0.13264 0.68948 -0.1283 0.66104 -0.12222 0.6363 C -0.11649 0.57295 -0.11441 0.50913 -0.10781 0.44601 C -0.10833 0.42913 -0.10642 0.41179 -0.10955 0.39537 C -0.11059 0.38959 -0.11285 0.40647 -0.11424 0.41225 C -0.11754 0.42589 -0.11962 0.44069 -0.12222 0.45456 C -0.13108 0.49965 -0.14097 0.54335 -0.14444 0.58982 C -0.14392 0.59607 -0.14601 0.61364 -0.14288 0.60878 C -0.13715 0.59977 -0.13802 0.58612 -0.1349 0.57503 C -0.13281 0.56717 -0.13056 0.55953 -0.12847 0.55167 C -0.12535 0.52347 -0.1224 0.49549 -0.12066 0.46705 C -0.12118 0.44809 -0.12049 0.4289 -0.12222 0.41017 C -0.1224 0.40763 -0.12465 0.4141 -0.12535 0.41641 C -0.12674 0.42196 -0.1276 0.42774 -0.12847 0.43329 C -0.12969 0.44046 -0.13073 0.4474 -0.13177 0.45456 C -0.13559 0.52023 -0.13958 0.64647 -0.0809 0.67653 C -0.07344 0.67445 -0.06545 0.67468 -0.05868 0.67006 C -0.05313 0.66636 -0.04149 0.63907 -0.03958 0.63422 C -0.02674 0.60323 -0.02153 0.57133 -0.0158 0.53688 C -0.01319 0.47792 -0.00347 0.39815 -0.03333 0.34867 C -0.05573 0.3556 -0.0533 0.36 -0.0651 0.38474 C -0.0849 0.42612 -0.10243 0.46913 -0.11424 0.51584 C -0.11736 0.54312 -0.12882 0.59745 -0.10156 0.60462 C -0.08212 0.58705 -0.07813 0.5667 -0.07292 0.53688 C -0.07049 0.50196 -0.06944 0.46566 -0.08403 0.43537 C -0.10382 0.44994 -0.10417 0.45734 -0.11111 0.48624 C -0.12205 0.53179 -0.12604 0.58034 -0.13004 0.62774 C -0.1276 0.66913 -0.13976 0.70451 -0.11267 0.71861 C -0.08715 0.71306 -0.07917 0.67144 -0.06823 0.64462 C -0.05938 0.59445 -0.05538 0.51514 -0.1 0.49456 C -0.10521 0.49595 -0.11094 0.49572 -0.1158 0.49896 C -0.12552 0.50543 -0.12569 0.5274 -0.12691 0.53896 C -0.11545 0.59352 -0.07535 0.60092 -0.03802 0.6067 C -0.00573 0.60393 0.01441 0.60393 0.04288 0.58982 C 0.07031 0.55329 0.01701 0.52508 -0.00469 0.51792 C -0.01719 0.51375 -0.03004 0.51144 -0.04288 0.50936 C -0.05764 0.50705 -0.07257 0.50612 -0.08733 0.5052 C -0.10313 0.50404 -0.1191 0.50381 -0.1349 0.50312 C -0.16771 0.50451 -0.20052 0.5052 -0.23333 0.50728 C -0.2349 0.50728 -0.23958 0.50867 -0.23802 0.50936 C -0.23403 0.51144 -0.22934 0.51075 -0.22517 0.51144 C -0.06997 0.50011 0.08941 0.44717 0.24132 0.4037 C 0.29392 0.38867 0.34566 0.36925 0.39844 0.35514 C 0.41701 0.35029 0.43576 0.34659 0.45399 0.34034 C 0.4691 0.33526 0.49844 0.32138 0.49844 0.32138 C 0.48507 0.31468 0.40174 0.34335 0.39687 0.34451 C 0.24392 0.37965 0.23003 0.37456 0.07621 0.42705 C 0.05764 0.43329 0.03889 0.43861 0.02066 0.44601 C 0.01146 0.44971 0.0026 0.45572 -0.00625 0.46081 C -0.00955 0.46266 -0.01927 0.46774 -0.0158 0.46705 C 0.05712 0.45456 0.12587 0.42543 0.19687 0.40162 C 0.31424 0.36208 0.43021 0.31884 0.54774 0.27907 C 0.58871 0.2652 0.63038 0.25433 0.67153 0.24092 C 0.68524 0.23653 0.69948 0.23445 0.71267 0.22821 C 0.7151 0.22705 0.70746 0.22959 0.70486 0.23029 C 0.64913 0.27075 0.5849 0.29456 0.52552 0.32347 C 0.43733 0.36624 0.34757 0.40855 0.26354 0.46497 C 0.21319 0.49873 0.16562 0.53711 0.12708 0.5919 C 0.12552 0.59745 0.12257 0.60277 0.12222 0.60878 C 0.12101 0.63098 0.1566 0.63075 0.16354 0.63214 C 0.22795 0.62728 0.29913 0.62451 0.36354 0.61086 C 0.43941 0.59491 0.58924 0.54196 0.64444 0.52416 C 0.7026 0.50543 0.76094 0.48786 0.8191 0.46936 C 0.85642 0.45757 0.92118 0.44 0.96354 0.41225 C 0.91875 0.40578 0.84375 0.43907 0.80156 0.45225 C 0.70712 0.48185 0.61389 0.52277 0.52222 0.56439 C 0.49427 0.57711 0.46667 0.59075 0.43976 0.6067 C 0.40851 0.6252 0.34774 0.66797 0.34774 0.66797 C 0.34271 0.6763 0.33264 0.68601 0.35399 0.68485 C 0.39201 0.68254 0.44288 0.66774 0.47934 0.65526 C 0.51094 0.64439 0.66233 0.59306 0.71597 0.56439 C 0.76528 0.53803 0.84601 0.49896 0.88889 0.44185 C 0.8842 0.42219 0.84184 0.43537 0.83976 0.43537 C 0.75365 0.45549 0.67569 0.48393 0.59687 0.53896 C 0.56736 0.55953 0.53264 0.57803 0.51111 0.61295 C 0.52257 0.63537 0.51424 0.62335 0.55885 0.61086 C 0.59618 0.60046 0.66719 0.57387 0.70156 0.55584 C 0.73924 0.53618 0.71684 0.5489 0.76354 0.51792 C 0.76562 0.51653 0.76996 0.51375 0.76996 0.51375 C 0.77101 0.51167 0.77431 0.50936 0.77309 0.50728 C 0.77031 0.50219 0.76198 0.50612 0.75885 0.50728 C 0.73837 0.52115 0.76163 0.50451 0.7349 0.52855 C 0.71371 0.54774 0.69444 0.56555 0.67621 0.58982 C 0.67413 0.59537 0.67257 0.60138 0.66996 0.6067 C 0.66875 0.60925 0.66545 0.60994 0.6651 0.61295 C 0.66476 0.61664 0.66719 0.62011 0.66823 0.62358 C 0.69635 0.61942 0.67986 0.62474 0.7191 0.5919 C 0.75903 0.55861 0.79028 0.51283 0.82552 0.47144 C 0.84201 0.45202 0.84809 0.44138 0.86042 0.41849 C 0.86371 0.41225 0.86684 0.40601 0.86996 0.39953 C 0.8717 0.39607 0.87552 0.39283 0.87465 0.3889 C 0.87413 0.38612 0.87031 0.39029 0.86823 0.39098 C 0.84705 0.43237 0.83246 0.4793 0.81111 0.52 C 0.8 0.54104 0.78906 0.56254 0.77778 0.58335 C 0.7724 0.59306 0.76337 0.6074 0.75712 0.61734 C 0.75521 0.62034 0.75382 0.62566 0.75087 0.62566 C 0.74826 0.62566 0.75399 0.62011 0.75556 0.61734 C 0.77344 0.58774 0.75191 0.62358 0.77621 0.58982 C 0.79045 0.56994 0.80382 0.5489 0.81753 0.52855 C 0.83403 0.50427 0.8559 0.4837 0.8651 0.45225 C 0.86458 0.45017 0.8651 0.44601 0.86354 0.44601 C 0.84809 0.44601 0.82014 0.46543 0.80955 0.47144 C 0.80191 0.47584 0.79601 0.48462 0.78889 0.4904 C 0.78073 0.49711 0.7717 0.50243 0.76354 0.50936 C 0.74427 0.52578 0.72552 0.54335 0.70642 0.56023 C 0.6967 0.56878 0.67934 0.58982 0.67934 0.58982 C 0.67517 0.60069 0.67014 0.60971 0.69219 0.58982 C 0.71615 0.56832 0.73767 0.54173 0.76042 0.51792 C 0.79687 0.47977 0.84983 0.41086 0.87778 0.36138 C 0.89323 0.3341 0.90694 0.31167 0.91441 0.27907 C 0.91337 0.26844 0.91406 0.25734 0.91111 0.2474 C 0.90295 0.21896 0.85937 0.21688 0.84288 0.21549 C 0.8191 0.21757 0.79514 0.21711 0.77153 0.22196 C 0.70417 0.23607 0.64201 0.27352 0.57621 0.29387 C 0.58542 0.28092 0.56979 0.30196 0.59375 0.27907 C 0.61007 0.26358 0.62552 0.24647 0.64132 0.23029 C 0.66979 0.20115 0.70486 0.1852 0.7349 0.15861 C 0.75087 0.14451 0.76615 0.12948 0.78264 0.1163 C 0.83351 0.0756 0.8908 0.04254 0.93021 -0.01896 C 0.925 -0.05434 0.88177 -0.03237 0.86354 -0.03168 C 0.75243 -0.00948 0.64132 0.01341 0.53021 0.03584 C 0.50937 0.03052 0.54062 0.01873 0.54601 0.0148 C 0.5625 0.00231 0.57882 -0.01087 0.59531 -0.02336 C 0.63021 -0.04948 0.6651 -0.07515 0.7 -0.10151 C 0.71996 -0.11653 0.73611 -0.12833 0.75243 -0.15006 C 0.7467 -0.18174 0.68542 -0.1607 0.68264 -0.1607 C 0.51944 -0.14012 0.36094 -0.08879 0.20156 -0.04023 C 0.11806 -0.0148 0.03472 0.00971 -0.04757 0.04231 C -0.07135 0.06289 -0.03594 0.04786 -0.03004 0.04647 C -0.02222 0.04462 -0.01406 0.04462 -0.00625 0.04231 C 0.02344 0.03399 0.05295 0.02404 0.08264 0.0148 C 0.12153 0.00277 0.15972 -0.01226 0.19844 -0.02544 C 0.21597 -0.03145 0.26007 -0.0444 0.27934 -0.05295 C 0.28698 -0.05642 0.2941 -0.06174 0.30156 -0.06567 C 0.30625 -0.06821 0.31111 -0.06983 0.31597 -0.07191 C 0.30521 -0.07885 0.28924 -0.07052 0.27778 -0.06775 C 0.23264 -0.05642 0.18663 -0.04301 0.14132 -0.03376 C 0.09861 -0.02497 0.05503 -0.02405 0.01267 -0.01272 C -0.03629 0.000229999999999999 -0.08212 0.00901 -0.13177 0.01271 C -0.13594 0.01341 -0.14879 0.0148 -0.14444 0.0148 C -0.13594 0.0148 -0.12743 0.01433 -0.11892 0.01271 C -0.10347 0.00994 -0.08837 0.00485 -0.07292 0.00208 C -0.00747 -0.00994 0.05816 -0.02174 0.12378 -0.03168 C 0.15174 -0.0407 0.15625 -0.04278 0.18264 -0.04856 C 0.18733 -0.04948 0.19219 -0.04994 0.19687 -0.05087 C 0.19948 -0.05133 0.20729 -0.05434 0.20486 -0.05295 C 0.17483 -0.03653 0.14097 -0.02983 0.10955 -0.02127 C 0.09358 -0.01688 0.07795 -0.01087 0.06198 -0.00648 C 0.02448 0.00393 -0.01319 0.01318 -0.05069 0.02312 C -0.12118 0.04162 -0.19427 0.05017 -0.26181 0.0867 C -0.26337 0.08948 -0.27413 0.10243 -0.26024 0.10358 C -0.24219 0.10497 -0.22431 0.10081 -0.20625 0.09942 C -0.16458 0.08878 -0.12222 0.08231 -0.0809 0.06982 C -0.04948 0.06011 -0.01858 0.04717 0.01267 0.03584 C 0.05937 0.01896 0.11042 0.00832 0.15399 -0.02127 C 0.15295 -0.02405 0.15312 -0.02914 0.15087 -0.0296 C 0.125 -0.03376 0.09444 -0.02336 0.06823 -0.02127 C -0.02101 -0.00601 0.01875 -0.00971 -0.05069 -0.00648 C -0.08576 -0.00139 -0.12049 0.00601 -0.15538 0.01063 C -0.15955 0.01202 -0.16372 0.01433 -0.16823 0.0148 C -0.17153 0.01503 -0.1776 0.01711 -0.1776 0.01271 C -0.1776 0.00485 -0.16372 0.00323 -0.16024 0.00208 C -0.14097 -0.00486 -0.12135 -0.0081 -0.10156 -0.01064 C -0.15573 0.00763 -0.06597 -0.02174 -0.17135 0.00624 C -0.23906 0.02427 -0.30695 0.03815 -0.37448 0.05711 C -0.37882 0.06335 -0.38663 0.06751 -0.38733 0.07584 C -0.39306 0.15375 -0.35521 0.12023 -0.31111 0.1163 C -0.14392 0.06358 0.02257 0.00924999999999999 0.18576 -0.06336 C 0.21458 -0.07607 0.24323 -0.08925 0.27153 -0.10359 C 0.27483 -0.1052 0.37153 -0.14174 0.4 -0.17966 C 0.3816 -0.18567 0.38785 -0.18474 0.35243 -0.17757 C 0.29479 -0.16601 0.23906 -0.14127 0.18264 -0.12255 C 0.07101 -0.08532 -0.05382 -0.06174 -0.1507 0.02751 C -0.1526 0.03375 -0.15799 0.03977 -0.15712 0.04647 C -0.15434 0.06589 -0.13542 0.06243 -0.12691 0.06335 C 0.02847 0.03445 0.17361 -0.01804 0.32552 -0.07191 C 0.38941 -0.09457 0.47986 -0.13341 0.54288 -0.18405 C 0.54444 -0.18682 0.54948 -0.1896 0.54774 -0.19237 C 0.54288 -0.2 0.5191 -0.19468 0.51597 -0.19445 C 0.44253 -0.17041 0.48246 -0.18474 0.35399 -0.12486 C 0.21979 -0.0622 0.08785 0.00901 -0.03802 0.09711 C -0.10208 0.14196 -0.20347 0.20832 -0.24445 0.29387 C -0.24271 0.30219 -0.24427 0.31283 -0.23958 0.31907 C -0.23212 0.32878 -0.19635 0.31953 -0.19358 0.31907 C -0.00625000000000001 0.25873 0.16788 0.1489 0.33976 0.03584 C 0.3684 0.01688 0.45417 -0.04185 0.4842 -0.09295 C 0.48472 -0.09711 0.48611 -0.10151 0.48576 -0.10567 C 0.48455 -0.12116 0.46111 -0.11977 0.45556 -0.12047 C 0.28802 -0.11538 0.11892 -0.0548 -0.03958 0.01688 C -0.08924 0.0393 -0.18403 0.08046 -0.22379 0.13318 C -0.21042 0.14612 -0.18177 0.12901 -0.16962 0.12231 C -0.13073 0.10058 -0.09254 0.0763 -0.05399 0.05271 C 0.01337 0.01156 0.11858 -0.05364 0.16996 -0.10151 C 0.23646 -0.16347 0.31007 -0.21388 0.35087 -0.31075 C 0.35035 -0.32 0.35191 -0.32971 0.34931 -0.33827 C 0.34653 -0.34729 0.32986 -0.34983 0.32552 -0.35099 C 0.24792 -0.34428 0.17326 -0.32555 0.09844 -0.29388 C 0.01858 -0.26035 -0.05781 -0.23653 -0.13004 -0.18174 C -0.15521 -0.14243 -0.09462 -0.17226 -0.08559 -0.17549 C -0.03559 -0.1933 -0.04271 -0.197 0.00799 -0.22844 C 0.02847 -0.24116 0.04965 -0.25156 0.06996 -0.26428 C 0.11042 -0.28948 0.15035 -0.3163 0.19045 -0.34243 C 0.20851 -0.35399 0.22396 -0.37156 0.24132 -0.38474 C 0.27951 -0.41388 0.32274 -0.43677 0.35399 -0.48 C 0.34844 -0.5022 0.35365 -0.4881 0.31441 -0.48 C 0.28021 -0.47307 0.29757 -0.47353 0.25885 -0.46081 C 0.18767 -0.43746 0.11684 -0.41341 0.04601 -0.3889 C 0.01753 -0.37919 -0.01181 -0.37388 -0.03958 -0.36162 C -0.04913 -0.35746 -0.07674 -0.34174 -0.06823 -0.3489 C -0.03125 -0.38012 0.00955 -0.40116 0.04774 -0.42914 C 0.07656 -0.45041 0.05052 -0.43584 0.06996 -0.44601 C 0.05937 -0.45318 0.01441 -0.43931 0.00156 -0.43561 C -0.01285 -0.43145 -0.02674 -0.42474 -0.04115 -0.42081 C -0.08576 -0.40833 -0.12865 -0.40093 -0.17135 -0.3785 C -0.1724 -0.37642 -0.17483 -0.37457 -0.17431 -0.37203 C -0.17379 -0.36717 -0.16372 -0.36671 -0.15851 -0.36578 C -0.13854 -0.37156 -0.11858 -0.37249 -0.09844 -0.3785 C -0.01476 -0.4037 0.07014 -0.42174 0.15556 -0.4333 C 0.18941 -0.44324 0.21493 -0.44625 0.24931 -0.44393 C 0.23507 -0.41688 0.19844 -0.40833 0.17934 -0.39954 C 0.16406 -0.3926 0.14965 -0.38289 0.1349 -0.37411 C 0.12691 -0.36948 0.11927 -0.36347 0.11111 -0.35931 C 0.08646 -0.34705 0.09687 -0.35376 0.07934 -0.34058 C 0.07431 -0.32 0.1026 -0.33249 0.12066 -0.33827 C 0.14844 -0.34705 0.17569 -0.35792 0.2033 -0.36786 C 0.28264 -0.3963 0.36944 -0.44925 0.44774 -0.48833 C 0.4651 -0.49711 0.48264 -0.5052 0.5 -0.51376 C 0.52483 -0.52578 0.54861 -0.54081 0.57309 -0.55376 C 0.57726 -0.55607 0.58576 -0.56023 0.58576 -0.56023 C 0.57135 -0.56948 0.50625 -0.54752 0.49531 -0.54544 C 0.34792 -0.51746 0.20017 -0.48833 0.05243 -0.46289 C 0.03819 -0.45804 0.02378 -0.45318 0.00955 -0.4481 C 0.00903 -0.44786 0.01059 -0.44786 0.01111 -0.4481 C 0.02066 -0.45156 0.03003 -0.45642 0.03976 -0.45873 C 0.05243 -0.46151 0.06528 -0.46382 0.07778 -0.46729 C 0.09323 -0.47168 0.10833 -0.47838 0.12378 -0.48208 C 0.20451 -0.50151 0.28628 -0.51931 0.36823 -0.52208 C 0.40955 -0.52532 0.45573 -0.53087 0.49687 -0.5244 C 0.49931 -0.52393 0.49583 -0.51723 0.49375 -0.51584 C 0.48472 -0.51029 0.47465 -0.50867 0.4651 -0.5052 C 0.43594 -0.49434 0.44045 -0.49688 0.40799 -0.49249 C 0.39375 -0.48763 0.37951 -0.48162 0.3651 -0.47769 C 0.34045 -0.47099 0.31458 -0.47052 0.29045 -0.46081 C 0.2526 -0.44555 0.26979 -0.45041 0.23976 -0.44393 C 0.23663 -0.44185 0.22726 -0.44023 0.23021 -0.43769 C 0.2342 -0.43422 0.23976 -0.43838 0.24444 -0.43977 C 0.26215 -0.44532 0.27899 -0.45434 0.29687 -0.45873 C 0.32917 -0.46659 0.36146 -0.47399 0.39375 -0.48208 C 0.45573 -0.49757 0.51632 -0.51052 0.57934 -0.51792 C 0.59045 -0.51723 0.60191 -0.51931 0.61267 -0.51584 C 0.61562 -0.51492 0.60764 -0.51099 0.60486 -0.5096 C 0.59288 -0.50382 0.58038 -0.49966 0.56823 -0.4948 C 0.53611 -0.48185 0.5026 -0.47677 0.46996 -0.46729 C 0.43663 -0.44717 0.44184 -0.46289 0.43663 -0.44185 C 0.47031 -0.42682 0.51753 -0.45179 0.55087 -0.46081 C 0.71094 -0.50428 0.61736 -0.47746 0.73976 -0.5052 C 0.79722 -0.51815 0.85139 -0.53203 0.90955 -0.5348 C 0.9191 -0.53688 0.92847 -0.54081 0.93819 -0.54127 C 0.94358 -0.54151 0.95208 -0.54359 0.95399 -0.53688 C 0.95556 -0.53133 0.94566 -0.53203 0.94132 -0.53064 C 0.87396 -0.5089 0.90538 -0.52185 0.83976 -0.5052 C 0.77118 -0.48786 0.70191 -0.46659 0.63663 -0.4333 C 0.63559 -0.43122 0.63142 -0.42752 0.63333 -0.42705 C 0.63993 -0.4252 0.65503 -0.44 0.65885 -0.44185 C 0.66545 -0.44509 0.67257 -0.44532 0.67934 -0.4481 C 0.71996 -0.46474 0.76163 -0.48324 0.8033 -0.4948 C 0.81337 -0.49757 0.82344 -0.50012 0.83333 -0.50312 C 0.83976 -0.50497 0.84601 -0.50729 0.85243 -0.5096 C 0.85608 -0.51099 0.86736 -0.51445 0.86354 -0.51376 C 0.83767 -0.50844 0.81337 -0.49619 0.78733 -0.49041 C 0.70625 -0.47237 0.6217 -0.44856 0.54601 -0.4037 C 0.53559 -0.38312 0.57066 -0.39677 0.57465 -0.39746 C 0.61007 -0.4044 0.64531 -0.41133 0.68108 -0.41642 C 0.75104 -0.43677 0.82187 -0.46104 0.89375 -0.46729 C 0.82344 -0.42289 0.74062 -0.41942 0.6651 -0.39538 C 0.64653 -0.38937 0.62795 -0.38359 0.60955 -0.37642 C 0.59132 -0.36948 0.55556 -0.35307 0.55556 -0.35307 C 0.53767 -0.32879 0.55729 -0.33711 0.56823 -0.34058 C 0.59097 -0.34729 0.59392 -0.34705 0.61753 -0.35723 C 0.67587 -0.38312 0.73316 -0.41064 0.79045 -0.43977 C 0.81128 -0.45041 0.82986 -0.45896 0.84931 -0.47353 C 0.82517 -0.48416 0.78767 -0.46243 0.7651 -0.45249 C 0.68038 -0.41549 0.58785 -0.37688 0.5191 -0.29804 C 0.5125 -0.28047 0.51788 -0.28139 0.53021 -0.27908 C 0.60417 -0.2911 0.67882 -0.30636 0.75087 -0.33226 C 0.79132 -0.34636 0.83125 -0.36301 0.87153 -0.3785 C 0.88854 -0.38497 0.92222 -0.39954 0.92222 -0.39954 C 0.93698 -0.41434 0.91424 -0.40717 0.90799 -0.40601 C 0.87344 -0.39954 0.83871 -0.38682 0.80486 -0.37642 C 0.71806 -0.34937 0.73368 -0.35214 0.62066 -0.30451 C 0.57517 -0.28532 0.56892 -0.27677 0.54444 -0.24948 C 0.54496 -0.24601 0.54392 -0.24116 0.54601 -0.23885 C 0.54844 -0.23607 0.55226 -0.23653 0.55556 -0.23677 C 0.56944 -0.23792 0.58316 -0.24116 0.59687 -0.24324 C 0.65538 -0.26243 0.71302 -0.27931 0.77153 -0.30012 C 0.79948 -0.31006 0.83056 -0.31815 0.85556 -0.33827 C 0.84062 -0.35307 0.80833 -0.33919 0.79045 -0.33619 C 0.73177 -0.32625 0.77448 -0.33434 0.70799 -0.31492 C 0.6625 -0.30174 0.61753 -0.29018 0.57621 -0.26012 C 0.57604 -0.25989 0.56424 -0.24509 0.56667 -0.23885 C 0.56771 -0.23607 0.57101 -0.23607 0.57309 -0.23468 C 0.6066 -0.237 0.63576 -0.237 0.66823 -0.24532 C 0.80434 -0.28 0.69913 -0.25827 0.76042 -0.27052 C 0.76667 -0.2733 0.77309 -0.27584 0.77934 -0.27908 C 0.78108 -0.28 0.7849 -0.2807 0.7842 -0.28324 C 0.78351 -0.28601 0.77986 -0.28463 0.77778 -0.28532 C 0.73056 -0.26775 0.6842 -0.25573 0.63976 -0.22613 C 0.60486 -0.20278 0.61337 -0.21226 0.59687 -0.19029 C 0.59097 -0.16694 0.62674 -0.18266 0.65399 -0.18821 C 0.73681 -0.20532 0.81788 -0.22798 0.89844 -0.25804 C 0.90104 -0.26012 0.90712 -0.26035 0.90642 -0.26428 C 0.90556 -0.26844 0.90017 -0.26636 0.89687 -0.26636 C 0.88524 -0.26636 0.87361 -0.26497 0.86198 -0.26428 C 0.81476 -0.25411 0.73003 -0.23445 0.69375 -0.18613 C 0.69531 -0.18266 0.69583 -0.17757 0.69844 -0.17549 C 0.70156 -0.17295 0.70573 -0.17318 0.70955 -0.17341 C 0.72812 -0.17411 0.74653 -0.17619 0.7651 -0.17757 C 0.82135 -0.18752 0.87604 -0.20324 0.93021 -0.22613 C 0.94097 -0.23075 0.95174 -0.23515 0.96198 -0.24093 C 0.97292 -0.24717 0.99375 -0.2622 0.99375 -0.2622 C 0.99479 -0.26497 0.99722 -0.26752 0.99687 -0.27052 C 0.99566 -0.28139 0.96875 -0.28093 0.96667 -0.28116 C 0.85365 -0.27908 0.74271 -0.26821 0.63021 -0.25573 C 0.61632 -0.25919 0.61927 -0.25573 0.62708 -0.2622 C 0.63194 -0.26613 0.63646 -0.27122 0.64132 -0.27492 C 0.65642 -0.28671 0.67205 -0.29734 0.68733 -0.30867 C 0.74219 -0.34914 0.8059 -0.37573 0.85087 -0.43561 C 0.85139 -0.43838 0.8533 -0.44139 0.85243 -0.44393 C 0.85174 -0.44601 0.84931 -0.44601 0.84774 -0.44601 C 0.83385 -0.44532 0.82014 -0.44324 0.80642 -0.44185 C 0.70729 -0.41526 0.60694 -0.39099 0.50642 -0.37642 C 0.47951 -0.36786 0.4526 -0.35885 0.42552 -0.35099 C 0.38542 -0.33942 0.33246 -0.33596 0.29687 -0.30451 C 0.32083 -0.29688 0.38576 -0.32393 0.40955 -0.32763 C 0.51128 -0.34497 0.61267 -0.36324 0.71441 -0.38058 C 0.7474 -0.38613 0.78646 -0.39954 0.82066 -0.39954 C 0.82396 -0.39954 0.81424 -0.39862 0.81111 -0.39746 C 0.79774 -0.39237 0.78472 -0.38613 0.77153 -0.38058 C 0.75764 -0.3748 0.66979 -0.33873 0.66354 -0.33619 C 0.54965 -0.28948 0.43264 -0.25804 0.31753 -0.21781 C 0.29288 -0.20925 0.26875 -0.19862 0.24444 -0.18821 C 0.22101 -0.17827 0.17465 -0.15653 0.17465 -0.15653 C 0.16493 -0.14289 0.16788 -0.1489 0.20156 -0.15653 C 0.23246 -0.16347 0.26319 -0.17041 0.29375 -0.17966 C 0.39184 -0.20902 0.48889 -0.23677 0.58733 -0.2622 C 0.62517 -0.27191 0.66146 -0.28509 0.7 -0.28971 C 0.70556 -0.29203 0.74375 -0.30798 0.67934 -0.28763 C 0.6474 -0.27746 0.61562 -0.26636 0.5842 -0.25364 C 0.55139 -0.24023 0.51892 -0.22567 0.48576 -0.21364 C 0.4309 -0.19353 0.21493 -0.11977 0.13021 -0.09087 C -0.00989999999999999 -0.04324 -0.12726 -0.00463 -0.25868 0.08023 C -0.26285 0.0867 -0.2691 0.09133 -0.27135 0.09942 C -0.27882 0.12624 -0.2349 0.12208 -0.2316 0.12231 C -0.06476 0.10335 -0.15747 0.11676 0.04601 0.07815 C 0.10851 0.06636 0.29062 0.000920000000000001 0.33177 -0.01272 C 0.38385 -0.03006 0.43611 -0.04393 0.48576 -0.07191 C 0.44184 -0.08625 0.27257 -0.03746 0.26667 -0.03607 C 0.15642 -0.01133 0.04809 0.01086 -0.06024 0.04855 C -0.12969 0.07237 -0.21684 0.09664 -0.26979 0.16693 C -0.27066 0.17595 -0.27552 0.19075 -0.26024 0.19029 C -0.21181 0.18844 -0.14306 0.17271 -0.09358 0.15861 C 0.0684 0.1119 0.22448 0.06127 0.3842 0.00416 C 0.41267 -0.00601 0.44167 -0.01411 0.46996 -0.02544 C 0.48576 -0.03168 0.50156 -0.03838 0.51753 -0.0444 C 0.53021 -0.04902 0.54288 -0.05272 0.55556 -0.05711 C 0.56094 -0.05896 0.56632 -0.06081 0.57153 -0.06336 C 0.57378 -0.06451 0.58003 -0.06705 0.57778 -0.06775 C 0.57309 -0.06914 0.56823 -0.06636 0.56354 -0.06567 C 0.45521 -0.0333 0.34965 0.00647 0.24444 0.05271 C 0.18142 0.08046 0.09462 0.09641 0.05087 0.1711 C 0.05503 0.17896 0.05764 0.1889 0.06354 0.19445 C 0.07726 0.20693 0.11684 0.20462 0.12708 0.20508 C 0.25035 0.19861 0.36996 0.18104 0.49045 0.14381 C 0.56823 0.11977 0.6474 0.10058 0.72222 0.06335 C 0.75833 0.04532 0.75417 0.04809 0.77309 0.02751 C 0.76476 0.01295 0.7691 0.01618 0.74774 0.01688 C 0.71493 0.01803 0.68212 0.02104 0.64931 0.02312 C 0.44462 0.05133 0.24062 0.09526 0.04132 0.16485 C -0.03715 0.19214 -0.13038 0.21595 -0.19045 0.29595 C -0.18733 0.3015 -0.18542 0.30936 -0.18073 0.31283 C -0.17483 0.31745 -0.16736 0.31884 -0.16024 0.31907 C -0.12899 0.31953 -0.09792 0.3163 -0.06667 0.31491 C 0.01996 0.30451 0.10642 0.29271 0.19219 0.2726 C 0.25469 0.25803 0.31701 0.24162 0.37934 0.22612 C 0.55677 0.18196 0.39288 0.22474 0.50955 0.19029 C 0.52066 0.18705 0.53177 0.18497 0.54288 0.18173 C 0.5467 0.18058 0.55781 0.17757 0.55399 0.17757 C 0.52569 0.17757 0.43524 0.20717 0.4349 0.20717 C 0.3066 0.24323 0.16545 0.29988 0.04774 0.38058 C 0.03108 0.39214 0.01632 0.40809 0 0.42058 C 0.00052 0.42612 -0.00069 0.4326 0.00156 0.43745 C 0.00312 0.44069 0.00677 0.44115 0.00955 0.44185 C 0.0158 0.44323 0.02222 0.44323 0.02865 0.44393 C 0.13507 0.43722 0.23663 0.41063 0.34132 0.38474 C 0.50642 0.34381 0.35208 0.39422 0.58889 0.31075 C 0.62049 0.29965 0.65521 0.28832 0.68576 0.27052 C 0.63299 0.26058 0.48576 0.31329 0.46354 0.31907 C 0.38681 0.33919 0.31215 0.37063 0.23663 0.39745 C 0.10226 0.44508 -0.04306 0.49063 -0.16181 0.5919 C -0.16372 0.59676 -0.16736 0.60115 -0.16823 0.6067 C -0.16997 0.61873 -0.14983 0.62127 -0.14896 0.6215 C -0.09549 0.61849 -0.03559 0.61641 0.01753 0.60878 C 0.16076 0.58844 0.30104 0.54104 0.44132 0.49896 C 0.49913 0.48162 0.55556 0.45688 0.61267 0.43537 C 0.64288 0.42404 0.66927 0.41618 0.69375 0.3889 C 0.69271 0.38543 0.69253 0.38081 0.69045 0.37826 C 0.67969 0.36578 0.62812 0.36832 0.6191 0.36786 C 0.46354 0.37017 0.31753 0.3919 0.16198 0.41433 C 0.07795 0.42659 -0.01024 0.44115 -0.08889 0.48416 C -0.0934 0.50243 -0.01649 0.47815 -0.01424 0.47769 C 0.03246 0.46636 0.07934 0.45664 0.12552 0.44185 C 0.2408 0.40462 0.36007 0.3711 0.47465 0.32763 C 0.69219 0.24485 0.45642 0.33734 0.59531 0.27699 C 0.60833 0.27144 0.6217 0.26751 0.6349 0.26219 C 0.63924 0.26034 0.64358 0.25803 0.64774 0.25572 C 0.64983 0.25456 0.65625 0.25133 0.65399 0.25156 C 0.64549 0.25248 0.63715 0.25572 0.62865 0.2578 C 0.5941 0.28162 0.55677 0.30451 0.52552 0.33618 C 0.51875 0.34312 0.51302 0.3519 0.50642 0.3593 C 0.50243 0.36393 0.49792 0.36786 0.49375 0.37202 C 0.49201 0.37595 0.48264 0.39006 0.48889 0.39745 C 0.49184 0.40092 0.49635 0.40023 0.5 0.40162 C 0.68871 0.38659 0.88351 0.25919 1.05399 0.15422 C 1.05712 0.15006 1.0625 0.14728 1.06354 0.1415 C 1.06406 0.13849 1.05955 0.13757 1.05712 0.13734 C 1.05295 0.13688 1.04861 0.13849 1.04444 0.13942 C 0.97708 0.17896 0.91007 0.21873 0.85087 0.27907 C 0.82604 0.30451 0.79653 0.32323 0.77621 0.35514 C 0.76719 0.36925 0.74931 0.39745 0.74931 0.39745 C 0.74826 0.40162 0.74601 0.40578 0.74601 0.41017 C 0.74601 0.42451 0.76753 0.39815 0.76996 0.39537 C 0.78941 0.37295 0.80469 0.34797 0.82066 0.32138 C 0.82187 0.3163 0.82569 0.30589 0.81441 0.31907 C 0.81024 0.32393 0.77882 0.3667 0.76996 0.37826 C 0.73212 0.42682 0.68559 0.46612 0.65399 0.52208 C 0.66927 0.52601 0.69878 0.49526 0.70955 0.48624 C 0.74358 0.4578 0.77726 0.42844 0.81111 0.39953 C 0.85069 0.36578 0.88628 0.32393 0.92552 0.28948 C 0.97274 0.24786 1.03125 0.2074 1.06823 0.14589 C 1.06615 0.13433 1.06753 0.12948 1.05243 0.1415 C 1.03628 0.15445 1.0217 0.1711 1.00642 0.18589 C 0.99323 0.19861 0.97708 0.20532 0.96354 0.2178 C 0.79479 0.37271 0.91597 0.26659 0.80642 0.38058 C 0.74635 0.443 0.68021 0.49965 0.62552 0.57063 C 0.62378 0.57271 0.63003 0.56855 0.63177 0.56647 C 0.64653 0.54867 0.66042 0.52971 0.67465 0.51144 C 0.70903 0.46728 0.74826 0.42427 0.77153 0.36786 C 0.77604 0.35699 0.75365 0.37572 0.74601 0.38266 C 0.72396 0.40254 0.70399 0.42659 0.68264 0.44809 C 0.62465 0.50682 0.56615 0.56508 0.50799 0.62358 C 0.46962 0.66219 0.42743 0.69387 0.38733 0.72925 C 0.37465 0.74034 0.36267 0.75306 0.34931 0.763 C 0.34444 0.76647 0.32986 0.77641 0.3349 0.77364 C 0.38281 0.74844 0.42413 0.70659 0.46823 0.67214 C 0.56146 0.59907 0.65556 0.52809 0.74774 0.45225 C 0.76927 0.43445 0.79097 0.41688 0.81267 0.39953 C 0.82795 0.38728 0.84358 0.37572 0.85885 0.36347 C 0.87066 0.35399 0.88212 0.34381 0.89375 0.33387 C 0.90104 0.32763 0.92257 0.30867 0.91441 0.31283 C 0.85017 0.34543 0.89132 0.32185 0.79531 0.39537 C 0.7026 0.46636 0.60816 0.53387 0.51597 0.6067 C 0.44479 0.66289 0.46649 0.64832 0.40486 0.69549 C 0.39201 0.7052 0.38056 0.71884 0.36667 0.72508 C 0.36441 0.72601 0.36979 0.72069 0.37153 0.71861 C 0.37674 0.71283 0.38177 0.70682 0.38733 0.70173 C 0.39601 0.6941 0.40556 0.68809 0.41441 0.68069 C 0.43993 0.65919 0.4651 0.63676 0.49045 0.61503 C 0.56944 0.54728 0.52639 0.58751 0.62066 0.49664 C 0.63142 0.48624 0.64306 0.47745 0.65243 0.46497 C 0.66354 0.45017 0.67465 0.43537 0.68576 0.42058 C 0.68785 0.4178 0.69219 0.41225 0.69219 0.41225 C 0.69635 0.39491 0.69514 0.40601 0.66996 0.41641 C 0.59514 0.44763 0.72101 0.39167 0.61267 0.44393 C 0.54861 0.47468 0.57187 0.46173 0.50486 0.48416 C 0.46128 0.49873 0.41944 0.51514 0.37465 0.52208 C 0.33976 0.53364 0.38819 0.49641 0.39045 0.49456 C 0.42135 0.46821 0.45295 0.44393 0.4842 0.41849 C 0.57413 0.34497 0.55556 0.35884 0.66823 0.2578 C 0.70885 0.2215 0.75104 0.17618 0.76996 0.11422 C 0.76892 0.10844 0.7684 0.10219 0.76667 0.09711 C 0.75955 0.07491 0.74236 0.07769 0.72708 0.07584 C 0.5434 0.08763 0.32361 0.2326 0.15885 0.32138 C 0.07552 0.36624 -0.01545 0.40393 -0.08559 0.48185 C -0.09635 0.50982 -0.06632 0.49433 -0.05226 0.49248 C 0.03594 0.45341 0.11371 0.40393 0.19844 0.34867 C 0.27465 0.29896 0.34948 0.24647 0.4191 0.18173 C 0.4625 0.14127 0.52587 0.08809 0.54132 0.0148 C 0.53924 0.00994 0.53906 0.00138 0.5349 0 C 0.51493 -0.00694 0.45417 0.03838 0.44774 0.04231 C 0.40729 0.06659 0.37135 0.10243 0.33333 0.13318 C 0.23038 0.21549 0.26875 0.18543 0.13177 0.31075 C 0.04479 0.39029 0.08281 0.35352 -0.02066 0.45873 C -0.02083 0.45896 -0.04149 0.47838 -0.04288 0.48624 C -0.04323 0.48855 -0.03958 0.48485 -0.03802 0.48416 C -0.01198 0.44901 -0.04063 0.48532 0.0033 0.44185 C 0.06615 0.37965 0.1375 0.31607 0.19219 0.243 C 0.21701 0.20971 0.28559 0.12462 0.31441 0.0719 C 0.32812 0.0467 0.35243 -0.00648 0.35243 -0.00648 C 0.35573 -0.02127 0.36424 -0.04093 0.34774 -0.04648 C 0.3217 -0.03815 0.30451 -0.01966 0.28108 -0.00208 C 0.23733 0.03098 0.19323 0.06266 0.14931 0.09503 C 0.12639 0.1119 -0.0592 0.23329 -0.11111 0.26844 C -0.16094 0.30219 -0.21181 0.33387 -0.26181 0.36786 C -0.28715 0.38497 -0.31163 0.40439 -0.33646 0.42266 C -0.33924 0.42474 -0.34653 0.43214 -0.34445 0.42913 C -0.32083 0.39445 -0.32361 0.40624 -0.29514 0.37826 C -0.22882 0.31329 -0.1651 0.24462 -0.10156 0.17549 C -0.08524 0.15769 -0.06719 0.14219 -0.05226 0.12231 C -0.02743 0.08948 -0.00122 0.05803 0.02222 0.02312 C 0.0349 0.00416 0.05 -0.01249 0.06042 -0.03376 C 0.0625 -0.03792 0.06962 -0.04347 0.06667 -0.04648 C 0.06302 -0.05018 0.05816 -0.04231 0.05399 -0.04023 C -0.02743 0.05757 -0.125 0.1348 -0.21875 0.20925 C -0.27882 0.25688 -0.33698 0.29526 -0.38733 0.3593 C -0.38681 0.37549 -0.38854 0.39214 -0.38559 0.40786 C -0.3849 0.41133 -0.38125 0.40393 -0.37934 0.40162 C -0.37396 0.39537 -0.3691 0.38844 -0.36337 0.38266 C -0.35313 0.37225 -0.34184 0.3637 -0.33177 0.35306 C -0.31806 0.33849 -0.30556 0.32162 -0.29201 0.30659 C -0.2191 0.22659 -0.1474 0.1452 -0.07448 0.06543 C -0.04566 0.03375 -0.01962 -0.00255 0.00486 -0.04023 C 0.01181 -0.05087 0.0184 -0.06151 0.02552 -0.07191 C 0.03767 -0.08971 0.04444 -0.09133 0.03333 -0.08671 C -0.06892 0.0578 -0.19653 0.16069 -0.3125 0.28323 C -0.31806 0.29873 -0.31597 0.28994 -0.30955 0.28323 C -0.30434 0.27792 -0.29861 0.27399 -0.29358 0.26844 C -0.25556 0.22659 -0.21684 0.18636 -0.17934 0.14381 C -0.16215 0.12439 -0.14705 0.10196 -0.13004 0.08208 C -0.07882 0.02289 -0.02656 -0.03492 0.02552 -0.09295 C 0.04132 -0.11052 0.08264 -0.16185 0.10486 -0.17133 C 0.04462 -0.06243 -0.0316 0.02728 -0.10313 0.12231 C -0.12691 0.15422 -0.14792 0.18936 -0.17135 0.22196 C -0.17934 0.23352 -0.18733 0.24555 -0.19514 0.2578 C -0.20208 0.2689 -0.22465 0.30034 -0.2158 0.29179 C -0.18941 0.26659 -0.11007 0.1452 -0.0967 0.1267 C -0.03247 0.03792 0.02743 -0.05573 0.08889 -0.14798 C 0.12639 -0.2044 0.16354 -0.26081 0.19531 -0.32347 C 0.21163 -0.35561 0.22448 -0.39468 0.23819 -0.42914 C 0.22865 -0.44116 0.23611 -0.43445 0.2191 -0.40601 C 0.20799 -0.38752 0.18576 -0.35307 0.17621 -0.33827 C 0.15104 -0.29896 0.12118 -0.26497 0.09375 -0.22844 C 0.02726 -0.13989 -0.05764 -0.06682 -0.13333 0.00832 C -0.15573 0.03052 -0.18351 0.04948 -0.2 0.08023 C -0.19566 0.09826 -0.19965 0.08832 -0.17135 0.07815 C -0.12361 0.06081 -0.14792 0.0689 -0.09358 0.03167 C -0.03663 -0.0074 -0.02552 -0.00856 0.03177 -0.05503 C 0.09306 -0.10474 0.15295 -0.15838 0.21267 -0.21133 C 0.23785 -0.23376 0.26146 -0.25919 0.28576 -0.28324 C 0.29635 -0.29364 0.30816 -0.30243 0.31753 -0.31492 C 0.3191 -0.31723 0.31319 -0.31376 0.31111 -0.31283 C 0.26788 -0.2844 0.30955 -0.31307 0.22552 -0.23677 C 0.18299 -0.19815 0.13958 -0.16093 0.09687 -0.12255 C 0.00885 -0.04324 -0.09549 0.01387 -0.1776 0.10543 C -0.18299 0.1267 -0.14844 0.10011 -0.14757 0.09942 C -0.12569 0.0837 -0.10417 0.06682 -0.08247 0.05063 C -0.04774 0.02474 -0.0158 -0.00717 0.01753 -0.03607 C 0.03507 -0.05133 0.04844 -0.07399 0.0651 -0.09087 C 0.07917 -0.10497 0.09635 -0.11353 0.10955 -0.12902 C 0.14965 -0.17573 0.20608 -0.24717 0.22378 -0.31931 C 0.22448 -0.32717 0.22743 -0.34613 0.22378 -0.35538 C 0.21493 -0.37688 0.19392 -0.38266 0.17778 -0.38474 C 0.09028 -0.38081 0.00226 -0.3422 -0.07448 -0.28532 C -0.11441 -0.25573 -0.17101 -0.2259 -0.19653 -0.16925 C -0.19566 -0.16578 -0.19635 -0.15885 -0.19358 -0.15862 C -0.17066 -0.157 -0.13698 -0.17966 -0.11736 -0.19237 C -0.10538 -0.20023 -0.04063 -0.24416 -0.02066 -0.26012 C 0.02743 -0.2985 0.07344 -0.34058 0.12378 -0.37411 C 0.11146 -0.32486 0.07708 -0.29781 0.04931 -0.26636 C 0.03819 -0.25364 0.02917 -0.23792 0.01753 -0.22613 C 0.00365 -0.21179 -0.0125 -0.20162 -0.02691 -0.18821 C -0.04063 -0.17549 -0.05365 -0.16185 -0.06667 -0.14798 C -0.08976 -0.12324 -0.12743 -0.09203 -0.14444 -0.05295 C -0.11441 -0.04648 -0.01979 -0.12833 -0.0158 -0.1311 C 0.05677 -0.18289 0.12483 -0.24255 0.19375 -0.30243 C 0.28021 -0.37734 0.20573 -0.30613 0.31597 -0.4185 C 0.325 -0.42775 0.33385 -0.43677 0.34288 -0.44601 C 0.34757 -0.45087 0.35243 -0.45573 0.35712 -0.46081 C 0.36042 -0.46428 0.36667 -0.47145 0.36667 -0.47145 C 0.37101 -0.48902 0.35365 -0.46405 0.35243 -0.46289 C 0.33837 -0.45041 0.32378 -0.43908 0.30955 -0.42705 C 0.28368 -0.40532 0.25642 -0.38682 0.23021 -0.36578 C 0.17049 -0.31815 0.11285 -0.27792 0.04931 -0.23885 C 0.02951 -0.22682 0.01024 -0.21295 -0.00955 -0.20093 C -0.03368 -0.18636 -0.05885 -0.17457 -0.08247 -0.15862 C -0.08663 -0.15584 -0.09115 -0.1533 -0.09514 -0.15006 C -0.09635 -0.14914 -0.1 -0.14544 -0.09844 -0.1459 C -0.02257 -0.16694 0.04635 -0.22151 0.11753 -0.26012 C 0.16562 -0.28625 0.21371 -0.3126 0.26198 -0.33827 C 0.32951 -0.37411 0.40035 -0.40463 0.46042 -0.46081 C 0.43976 -0.46474 0.42951 -0.45041 0.40955 -0.44185 C 0.3967 -0.4363 0.38299 -0.43422 0.36996 -0.42914 C 0.34965 -0.42127 0.32951 -0.41272 0.30955 -0.4037 C 0.21302 -0.35954 0.11562 -0.31653 0.02552 -0.25156 C -0.00052 -0.23283 -0.07431 -0.18428 -0.10469 -0.14382 C -0.10955 -0.11075 -0.0717 -0.12902 -0.05712 -0.1311 C -0.01389 -0.13734 0.00347 -0.14266 0.04774 -0.15862 C 0.17066 -0.20278 0.28889 -0.25087 0.40955 -0.30451 C 0.44496 -0.32047 0.4901 -0.33133 0.52222 -0.35931 C 0.50885 -0.37179 0.51892 -0.36463 0.48576 -0.35723 C 0.46146 -0.35214 0.41771 -0.34081 0.39687 -0.33411 C 0.28229 -0.29734 0.16875 -0.25734 0.05712 -0.20717 C 0.03993 -0.19954 0.02222 -0.19376 0.00486 -0.18613 C -0.01736 -0.17642 -0.03785 -0.16047 -0.06024 -0.15214 C -0.06146 -0.15168 -0.05816 -0.15399 -0.05712 -0.15445 C -0.04497 -0.1607 -0.03333 -0.16948 -0.02066 -0.17341 C 0.00365 -0.18104 0.02795 -0.18914 0.05243 -0.19653 C 0.08802 -0.2074 0.12326 -0.21989 0.15885 -0.23052 C 0.22847 -0.2511 0.30191 -0.27168 0.37309 -0.28324 C 0.37726 -0.28532 0.3816 -0.28763 0.38576 -0.28971 C 0.38733 -0.29041 0.39184 -0.29064 0.39045 -0.29179 C 0.38785 -0.29411 0.3842 -0.29318 0.38108 -0.29388 C 0.24601 -0.2548 0.11094 -0.2037 -0.02691 -0.18613 C -0.05712 -0.17757 -0.08733 -0.16971 -0.11736 -0.1607 C -0.15712 -0.14867 -0.19653 -0.13526 -0.23629 -0.12255 C -0.2533 -0.11723 -0.20208 -0.12948 -0.18542 -0.13526 C -0.13229 -0.15399 -0.07986 -0.17619 -0.02691 -0.19653 C 0.0901 -0.24139 0.20746 -0.28601 0.32378 -0.33411 C 0.40035 -0.36578 0.47587 -0.40208 0.55243 -0.4333 C 0.60278 -0.45388 0.65295 -0.47422 0.7033 -0.4948 C 0.7184 -0.50104 0.76198 -0.52486 0.74774 -0.51584 C 0.6342 -0.44324 0.53177 -0.34636 0.42708 -0.25364 C 0.33646 -0.17341 0.42292 -0.25873 0.30955 -0.1459 C 0.2934 -0.12994 0.28681 -0.12162 0.27309 -0.10567 C 0.2691 -0.10104 0.26545 -0.09596 0.26198 -0.09087 C 0.26076 -0.08902 0.25746 -0.08278 0.25885 -0.08463 C 0.26076 -0.08717 0.26198 -0.09018 0.26354 -0.09295 C 0.26892 -0.11492 0.2651 -0.10104 0.27621 -0.1311 C 0.27726 -0.13388 0.27934 -0.13966 0.27934 -0.13966 C 0.27882 -0.14798 0.28056 -0.15723 0.27778 -0.16486 C 0.27621 -0.16879 0.26823 -0.16925 0.26823 -0.16925 C 0.18924 -0.13619 0.10712 -0.03214 0.05712 0.05271 C 0.04062 0.08069 0.02326 0.11098 0.00955 0.1415 C 0.00677 0.14774 0.00417 0.15422 0.00156 0.16069 C -0.00017 0.16485 -0.00625 0.17549 -0.00313 0.17341 C 0.00104 0.17086 0.00226 0.16347 0.00486 0.15861 C 0.00642 0.15144 0.00746 0.14427 0.00955 0.13734 C 0.01215 0.12855 0.01684 0.12092 0.0191 0.1119 C 0.02431 0.09063 0.02604 0.06821 0.03021 0.04647 C 0.03281 -0.00671 0.03854 -0.0659 0.00799 -0.10567 C 0.0033 -0.10497 -0.00191 -0.10613 -0.00625 -0.10359 C -0.00972 -0.10151 -0.01163 -0.09665 -0.01424 -0.09295 C -0.0283 -0.0726 -0.03385 -0.04694 -0.03958 -0.02127 C -0.03785 -0.000230000000000001 -0.04722 0.04948 -0.02379 0.03792 C -0.01632 0.02821 -0.01615 0.02959 -0.01111 0.0148 C -0.0059 -0.00047 0.0033 -0.03168 0.0033 -0.03168 C 0.00851 -0.07815 0.00799 -0.12786 -0.00156 -0.17341 C -0.00417 -0.1859 -0.00747 -0.19838 -0.01267 -0.20925 C -0.0151 -0.21434 -0.02222 -0.22197 -0.02222 -0.22197 C -0.04288 -0.21642 -0.05208 -0.18035 -0.06181 -0.15862 C -0.06528 -0.15075 -0.06944 -0.14336 -0.07292 -0.13526 C -0.08004 -0.11862 -0.08663 -0.10151 -0.09358 -0.08463 C -0.12517 -0.0074 -0.0809 -0.09827 -0.11111 -0.03815 C -0.11979 0.00162 -0.11528 -0.01364 -0.12222 0.00832 C -0.11997 -0.03746 -0.11771 -0.08301 -0.1158 -0.12902 C -0.11875 -0.20463 -0.12101 -0.2696 -0.13004 -0.34243 C -0.13594 -0.32116 -0.13368 -0.29711 -0.13646 -0.27492 C -0.13906 -0.25295 -0.14097 -0.23052 -0.14601 -0.20925 C -0.15799 -0.15931 -0.16545 -0.10937 -0.16962 -0.05711 C -0.16927 -0.05087 -0.17101 -0.04301 -0.16823 -0.03815 C -0.16649 -0.03538 -0.16458 -0.04347 -0.1632 -0.04648 C -0.15573 -0.06474 -0.14983 -0.09249 -0.14601 -0.11214 C -0.13663 -0.15838 -0.13559 -0.20694 -0.12847 -0.25364 C -0.12708 -0.28625 -0.12413 -0.31885 -0.12066 -0.35099 C -0.11476 -0.2652 -0.11962 -0.17781 -0.13004 -0.09295 C -0.13108 -0.07468 -0.12135 -0.0289 -0.13333 -0.03815 C -0.14722 -0.04879 -0.13681 -0.08093 -0.14115 -0.10151 C -0.15434 -0.16578 -0.13629 -0.08324 -0.15399 -0.14798 C -0.16094 -0.17434 -0.1651 -0.20116 -0.18073 -0.22197 C -0.18316 -0.20231 -0.18438 -0.18266 -0.18542 -0.16278 C -0.18455 -0.15006 -0.18524 -0.13711 -0.18247 -0.12486 C -0.18177 -0.12208 -0.17795 -0.12116 -0.17622 -0.12255 C -0.17205 -0.12509 -0.16927 -0.13041 -0.16649 -0.13526 C -0.16406 -0.13942 -0.15625 -0.16486 -0.15538 -0.16694 C -0.15295 -0.18474 -0.14844 -0.20208 -0.14601 -0.21989 C -0.13837 -0.27607 -0.14323 -0.33503 -0.1349 -0.39122 C -0.13212 -0.36509 -0.13872 -0.33711 -0.14115 -0.31075 C -0.14444 -0.27422 -0.14844 -0.23769 -0.1507 -0.20093 C -0.14879 -0.15538 -0.1526 -0.13156 -0.11736 -0.11838 C -0.1026 -0.12185 -0.08264 -0.12463 -0.06823 -0.13318 C -0.01129 -0.16694 0.03976 -0.22497 0.08889 -0.27492 C 0.10365 -0.28994 0.15903 -0.36717 0.16354 -0.37411 C 0.16823 -0.38127 0.17326 -0.38798 0.17778 -0.39538 C 0.18108 -0.4007 0.19115 -0.41734 0.18733 -0.41226 C 0.15243 -0.36578 0.11788 -0.31885 0.08264 -0.27283 C 0.04271 -0.22081 -0.00729 -0.16971 -0.02691 -0.09734 C -0.03056 -0.06729 -0.02153 -0.07931 -0.00313 -0.08879 C 0.0092 -0.10359 0.02309 -0.11561 0.0349 -0.1311 C 0.11215 -0.23214 0.18472 -0.35214 0.21597 -0.49249 C 0.21545 -0.49457 0.2158 -0.50035 0.21441 -0.49896 C 0.20764 -0.49226 0.19601 -0.45526 0.19219 -0.44601 C 0.1816 -0.42035 0.16979 -0.39538 0.15885 -0.36994 C 0.14375 -0.33434 0.12569 -0.30035 0.11441 -0.2622 C 0.09167 -0.18567 0.10469 -0.22151 0.07621 -0.15445 C 0.06892 -0.11954 0.05799 -0.08463 0.05556 -0.04856 C 0.0566 -0.04162 0.05556 -0.0333 0.05885 -0.02752 C 0.06024 -0.02497 0.06354 -0.02937 0.0651 -0.03168 C 0.07517 -0.04578 0.08472 -0.06081 0.09375 -0.07607 C 0.11389 -0.10983 0.13576 -0.14174 0.15399 -0.17757 C 0.20712 -0.28231 0.26094 -0.38544 0.31597 -0.48833 C 0.35278 -0.557 0.36858 -0.63677 0.4 -0.70821 C 0.39566 -0.72555 0.38368 -0.68694 0.38264 -0.68486 C 0.34062 -0.61041 0.35104 -0.63954 0.31753 -0.56856 C 0.27101 -0.47052 0.23437 -0.3859 0.2191 -0.27052 C 0.21736 -0.2222 0.21198 -0.17133 0.25712 -0.15653 C 0.26389 -0.15422 0.27083 -0.15515 0.27778 -0.15445 C 0.30156 -0.15931 0.32587 -0.16139 0.34931 -0.16925 C 0.37726 -0.17873 0.43993 -0.21711 0.4651 -0.23468 C 0.53715 -0.28463 0.60469 -0.34382 0.64931 -0.43561 C 0.65156 -0.45226 0.65573 -0.47561 0.64288 -0.48833 C 0.63924 -0.49203 0.63437 -0.49272 0.63021 -0.4948 C 0.55139 -0.49018 0.51858 -0.45596 0.43819 -0.40162 C 0.27743 -0.29295 0.11406 -0.1459 0.02222 0.06543 C 0.01962 0.08994 0.01302 0.11884 0.02222 0.14381 C 0.04514 0.20485 0.13906 0.20208 0.17934 0.20508 C 0.29844 0.19491 0.37656 0.18636 0.48889 0.14589 C 0.51806 0.13526 0.58073 0.11121 0.61111 0.09295 C 0.62604 0.08393 0.65399 0.06127 0.65399 0.06127 C 0.6566 0.05248 0.66302 0.04092 0.64601 0.04023 C 0.61163 0.03907 0.57726 0.04439 0.54288 0.04647 C 0.43073 0.06982 0.32465 0.10774 0.21441 0.14589 C 0.18628 0.15537 0.06649 0.2067 0.01441 0.23676 C -0.00434 0.24763 -0.00243 0.24647 -0.01267 0.25988 C -0.00799 0.27953 0.09358 0.23491 0.10486 0.23029 C 0.26181 0.16647 0.41979 0.10173 0.56354 -0.00648 C 0.59931 -0.0333 0.64566 -0.05341 0.66996 -0.10151 C 0.66042 -0.12648 0.62639 -0.10752 0.61267 -0.10567 C 0.49687 -0.05596 0.37517 0.01341 0.27153 0.09942 C 0.21684 0.14474 0.1599 0.18797 0.1191 0.25572 C 0.11476 0.27953 0.13455 0.26844 0.14444 0.26636 C 0.30486 0.18427 0.4533 0.06982 0.6 -0.04856 C 0.63819 -0.07931 0.67014 -0.10752 0.70642 -0.14174 C 0.71719 -0.15191 0.72778 -0.16278 0.73819 -0.17341 C 0.74358 -0.17896 0.75399 -0.19029 0.75399 -0.19029 C 0.77118 -0.23515 0.70972 -0.19445 0.7 -0.18613 C 0.67083 -0.1607 0.64288 -0.13272 0.61441 -0.10567 C 0.53594 -0.03145 0.46233 0.0437 0.38733 0.12462 C 0.35052 0.16416 0.30781 0.20624 0.2842 0.26219 C 0.29115 0.28069 0.28663 0.2756 0.31441 0.25988 C 0.33333 0.24925 0.35139 0.23607 0.36996 0.22404 C 0.45399 0.16994 0.53576 0.09988 0.61597 0.03584 C 0.74948 -0.07099 0.57674 0.05896 0.75885 -0.07399 C 0.77795 -0.0881 0.79392 -0.10058 0.81441 -0.11006 C 0.80052 -0.08278 0.78733 -0.04994 0.77465 -0.02336 C 0.75312 0.02196 0.71406 0.08717 0.68733 0.13318 C 0.67257 0.15838 0.65642 0.18358 0.64774 0.21341 C 0.6434 0.22821 0.6349 0.2578 0.6349 0.2578 C 0.63594 0.26335 0.63437 0.27167 0.63819 0.27468 C 0.65035 0.28416 0.67951 0.25202 0.68733 0.243 C 0.72795 0.19584 0.76823 0.14705 0.78889 0.07815 C 0.79618 0.0541 0.80017 0.03098 0.80486 0.00624 C 0.80382 -0.00648 0.80312 -0.01919 0.80156 -0.03168 C 0.80104 -0.03607 0.80087 -0.04116 0.79844 -0.0444 C 0.79653 -0.04694 0.79306 -0.04578 0.79045 -0.04648 C 0.73871 -0.03399 0.7092 0.03167 0.67621 0.08023 C 0.61858 0.16532 0.55937 0.2504 0.5349 0.36347 C 0.53698 0.37757 0.53628 0.39306 0.54132 0.40578 C 0.54306 0.41017 0.54878 0.40925 0.55243 0.40786 C 0.5625 0.40416 0.5724 0.39861 0.58108 0.39098 C 0.62847 0.34913 0.67222 0.29873 0.69844 0.23029 C 0.70729 0.2074 0.71528 0.18381 0.72378 0.16069 C 0.72795 0.14936 0.73177 0.12462 0.73177 0.12462 C 0.73125 0.12231 0.73177 0.11792 0.73021 0.11838 C 0.7276 0.1193 0.72691 0.12393 0.72552 0.1267 C 0.71771 0.14196 0.71111 0.15861 0.70486 0.17549 C 0.67569 0.25433 0.64983 0.32601 0.63177 0.41017 C 0.62986 0.4548 0.61875 0.49919 0.65556 0.51792 C 0.66458 0.51445 0.67413 0.51283 0.68264 0.50728 C 0.71667 0.48555 0.73542 0.42335 0.75243 0.38266 C 0.76424 0.3237 0.77292 0.26982 0.77778 0.20925 C 0.77726 0.19006 0.78003 0.07329 0.76823 0.03584 C 0.76562 0.02751 0.76024 0.02081 0.75712 0.01271 C 0.73108 0.03375 0.74427 0.01826 0.72378 0.06751 C 0.69601 0.1341 0.69358 0.21433 0.68576 0.2874 C 0.6842 0.33526 0.67396 0.40948 0.71267 0.43537 C 0.71632 0.43329 0.72083 0.4326 0.72378 0.42913 C 0.72951 0.42243 0.73351 0.40115 0.7349 0.39306 C 0.74028 0.36 0.74201 0.32532 0.74444 0.29179 C 0.7434 0.25271 0.74583 0.14659 0.73333 0.09503 C 0.72413 0.21271 0.72708 0.32994 0.73021 0.44809 C 0.73073 0.46474 0.7316 0.50219 0.74132 0.51584 C 0.75503 0.45988 0.74687 0.39745 0.74444 0.34034 C 0.73993 0.23352 0.7283 0.12763 0.72222 0.02104 C 0.72274 0.00763 0.71927 -0.00717 0.72378 -0.01896 C 0.72691 -0.02729 0.72569 -0.000699999999999999 0.72708 0.00832 C 0.7283 0.01618 0.73056 0.02381 0.73177 0.03167 C 0.73854 0.07329 0.74358 0.11468 0.75087 0.1563 C 0.7625 0.22289 0.77292 0.29156 0.78733 0.35722 C 0.80278 0.42797 0.825 0.49179 0.83177 0.56439 C 0.82778 0.58659 0.82292 0.54705 0.82222 0.54335 C 0.81979 0.53086 0.81788 0.51792 0.81597 0.5052 C 0.80174 0.40948 0.80538 0.43953 0.79844 0.36138 C 0.79601 0.29595 0.79323 0.23722 0.79844 0.1711 C 0.79948 0.15745 0.80278 0.11422 0.81111 0.09711 C 0.82101 0.17734 0.81007 0.26982 0.80642 0.35306 C 0.80694 0.3778 0.80868 0.40231 0.80799 0.42705 C 0.80781 0.43491 0.8059 0.41156 0.80486 0.4037 C 0.80365 0.39445 0.8026 0.38543 0.80156 0.37618 C 0.7974 0.33965 0.79253 0.30427 0.78576 0.26844 C 0.78316 0.23237 0.77691 0.19861 0.77309 0.16277 C 0.77448 0.21896 0.77882 0.26659 0.78576 0.32138 C 0.79253 0.3748 0.78871 0.38451 0.8 0.44393 C 0.83403 0.62497 0.81389 0.50774 0.84132 0.61086 C 0.85087 0.64647 0.85746 0.67676 0.86996 0.71029 C 0.8717 0.71491 0.86753 0.70058 0.86667 0.69549 C 0.86493 0.68578 0.86337 0.67584 0.86198 0.66589 C 0.85816 0.63907 0.85486 0.61225 0.85087 0.58543 C 0.83611 0.48416 0.82847 0.38312 0.81753 0.28115 C 0.81198 0.16948 0.8 0.0104 0.8191 -0.09087 C 0.81597 -0.05203 0.81371 -0.01341 0.81111 0.02543 C 0.80712 0.18034 0.8059 0.17248 0.80955 0.36138 C 0.8099 0.38058 0.8125 0.40208 0.82066 0.41849 C 0.83576 0.40115 0.84045 0.38566 0.84601 0.3593 C 0.86319 0.27861 0.87865 0.19098 0.88576 0.10774 C 0.89618 -0.01364 0.8849 0.1015 0.89531 0.02312 C 0.89722 0.00925 0.90139 -0.03307 0.9 -0.01896 C 0.89896 -0.00763 0.89792 0.00347 0.89687 0.0148 C 0.89167 0.13271 0.89097 0.25295 0.87934 0.36994 C 0.87812 0.4 0.88003 0.43653 0.87153 0.46497 C 0.86528 0.44901 0.86354 0.42936 0.85885 0.41225 C 0.85417 0.36693 0.84687 0.32208 0.84132 0.27699 C 0.83924 0.23468 0.83767 0.19329 0.83021 0.1519 C 0.82344 0.2615 0.82604 0.19815 0.83021 0.3889 C 0.83056 0.40555 0.83177 0.47144 0.84601 0.47769 C 0.85851 0.41734 0.86111 0.3563 0.86667 0.29387 C 0.8684 0.23098 0.87205 0.16855 0.87465 0.10543 C 0.87083 -0.01526 0.87569 0.03884 0.86354 -0.05711 C 0.86198 -0.06937 0.86042 -0.0837 0.85243 -0.09087 C 0.82674 -0.03006 0.82309 0.04717 0.81111 0.11422 C 0.80538 0.19399 0.79896 0.27352 0.79219 0.35306 C 0.79288 0.39745 0.7908 0.43607 0.79687 0.47769 C 0.80295 0.45364 0.80399 0.42451 0.80642 0.39953 C 0.81198 0.26404 0.81128 0.31838 0.80486 0.1119 C 0.80399 0.08231 0.80208 0.04786 0.79687 0.01896 C 0.77778 0.12162 0.76753 0.22797 0.75243 0.33179 C 0.74514 0.43468 0.75503 0.31722 0.74132 0.42058 C 0.73889 0.43884 0.73924 0.45734 0.73663 0.4756 C 0.73368 0.38289 0.73333 0.28855 0.72378 0.19653 C 0.71823 0.21965 0.71979 0.24485 0.71753 0.26844 C 0.71632 0.28046 0.71424 0.29225 0.71267 0.30427 C 0.7092 0.3963 0.71476 0.29387 0.7033 0.39537 C 0.70278 0.40046 0.70017 0.46543 0.7 0.46936 C 0.70052 0.48485 0.69618 0.50219 0.70156 0.51584 C 0.70608 0.52717 0.70365 0.4904 0.7033 0.47769 C 0.70191 0.4141 0.70121 0.35052 0.69687 0.2874 C 0.6875 0.15306 0.6684 0.01688 0.64444 -0.11422 C 0.62986 -0.19376 0.61181 -0.27376 0.6033 -0.35538 C 0.59427 -0.32393 0.59549 -0.33318 0.59531 -0.28116 C 0.59496 -0.1889 0.59496 -0.09642 0.59687 -0.00416 C 0.59948 0.11815 0.61545 0.24647 0.64132 0.36347 C 0.65399 0.42058 0.66858 0.49248 0.69844 0.53896 C 0.70972 0.52416 0.70816 0.53063 0.70799 0.50312 C 0.70746 0.45248 0.70642 0.40162 0.70486 0.35098 C 0.70121 0.23422 0.69983 0.22312 0.69375 0.12878 C 0.69236 0.07537 0.69045 0.02196 0.68733 -0.03168 C 0.68681 -0.02405 0.68559 -0.01619 0.68576 -0.00856 C 0.68663 0.06543 0.68819 0.13942 0.69045 0.21341 C 0.69184 0.26312 0.69792 0.32786 0.72865 0.36138 C 0.73177 0.36069 0.73628 0.36277 0.73819 0.3593 C 0.74479 0.34751 0.75243 0.31907 0.75243 0.31907 C 0.75885 0.27006 0.76528 0.22566 0.76667 0.17549 C 0.76319 0.07884 0.76441 -0.00625000000000001 0.74774 -0.09734 C 0.74618 -0.08671 0.74444 -0.0763 0.74288 -0.06567 C 0.74132 -0.05503 0.73819 -0.03376 0.73819 -0.03376 C 0.73524 0.04647 0.73229 0.12693 0.72865 0.20717 C 0.73108 0.28231 0.7217 0.48023 0.8 0.51584 C 0.80365 0.51514 0.80799 0.5163 0.81111 0.51375 C 0.82917 0.49896 0.83698 0.45364 0.84288 0.43121 C 0.85121 0.36 0.8559 0.28971 0.85885 0.2178 C 0.85608 0.06011 0.85052 -0.09226 0.82865 -0.2474 C 0.82812 -0.25734 0.82778 -0.26705 0.82708 -0.277 C 0.82674 -0.2807 0.82778 -0.28948 0.82552 -0.28763 C 0.82222 -0.28486 0.82309 -0.27792 0.82222 -0.27283 C 0.82083 -0.26451 0.82014 -0.25596 0.8191 -0.2474 C 0.81667 -0.18914 0.81441 -0.13226 0.80955 -0.07399 C 0.80399 0.08138 0.80139 0.11399 0.81111 0.32555 C 0.81389 0.38451 0.82274 0.44254 0.82865 0.50104 C 0.82934 0.50821 0.84983 0.61063 0.86354 0.61734 C 0.88073 0.55468 0.87066 0.48948 0.86823 0.42266 C 0.8658 0.35584 0.86267 0.34497 0.85399 0.27907 C 0.85243 0.21017 0.84583 0.14219 0.83177 0.07584 C 0.81875 0.09688 0.81892 0.12508 0.81441 0.1519 C 0.81128 0.23745 0.80833 0.32231 0.80642 0.40786 C 0.80781 0.45433 0.81094 0.5052 0.82708 0.54751 C 0.83681 0.48185 0.83142 0.52254 0.8191 0.36578 C 0.80746 0.21757 0.78733 0.07144 0.77309 -0.07607 C 0.76719 -0.13665 0.76146 -0.19746 0.75556 -0.25804 C 0.75347 -0.27977 0.74931 -0.32347 0.74931 -0.32347 C 0.74826 -0.3459 0.74844 -0.36925 0.74444 -0.39122 C 0.73785 -0.32416 0.73819 -0.25827 0.73663 -0.19029 C 0.73403 0.04416 0.73403 0.08693 0.73021 0.29803 C 0.72951 0.33595 0.73854 0.48208 0.71753 0.53896 C 0.69774 0.50682 0.69253 0.45965 0.67934 0.42266 C 0.66667 0.38705 0.65295 0.35214 0.63976 0.31699 C 0.62708 0.28347 0.59965 0.2037 0.56198 0.19653 C 0.5566 0.1993 0.55052 0.20023 0.54601 0.20508 C 0.54219 0.20925 0.54062 0.21618 0.53819 0.22196 C 0.52049 0.26497 0.51858 0.28578 0.5033 0.34451 C 0.49253 0.38612 0.48264 0.47352 0.48264 0.47352 C 0.47882 0.52231 0.46042 0.5993 0.49687 0.63214 C 0.54184 0.61688 0.5592 0.58867 0.58733 0.53896 C 0.6184 0.48393 0.64236 0.4178 0.66042 0.35306 C 0.68611 0.26104 0.64931 0.37225 0.67465 0.29803 C 0.67517 0.29248 0.67621 0.28693 0.67621 0.28115 C 0.67621 0.27884 0.67639 0.27468 0.67465 0.27468 C 0.67222 0.27468 0.67049 0.28717 0.66823 0.29387 C 0.66319 0.3089 0.65764 0.32347 0.65243 0.33826 C 0.64549 0.35792 0.63524 0.37549 0.62865 0.39537 C 0.61371 0.44069 0.59288 0.48162 0.57153 0.52208 C 0.56944 0.52994 0.5651 0.53803 0.57153 0.54543 C 0.57361 0.54774 0.57674 0.54682 0.57934 0.54751 C 0.65503 0.53757 0.72153 0.51491 0.79375 0.48832 C 0.83559 0.47306 0.87552 0.46034 0.91267 0.42913 C 0.91684 0.40901 0.90208 0.4111 0.89045 0.40786 C 0.8566 0.40855 0.82257 0.40508 0.78889 0.41017 C 0.65139 0.43075 0.51858 0.49433 0.38733 0.54751 C 0.38681 0.54959 0.3842 0.55375 0.38576 0.55375 C 0.40694 0.55491 0.42812 0.54913 0.44931 0.54751 C 0.50174 0.53711 0.55399 0.52971 0.60642 0.52 C 0.62448 0.51653 0.64236 0.5119 0.66042 0.50936 C 0.6651 0.50867 0.66996 0.50821 0.67465 0.50728 C 0.67726 0.50682 0.68264 0.5015 0.68264 0.5052 C 0.68264 0.50821 0.6717 0.51006 0.6651 0.51144 C 0.6309 0.53433 0.59097 0.5415 0.55399 0.55375 C 0.54219 0.55769 0.53073 0.56393 0.5191 0.56855 C 0.51753 0.56994 0.5125 0.57295 0.51441 0.57295 C 0.53472 0.57295 0.55729 0.55838 0.57621 0.55167 C 0.60156 0.54266 0.62743 0.53688 0.65243 0.52624 C 0.66562 0.52069 0.67882 0.51468 0.69219 0.50936 C 0.7151 0.50034 0.73472 0.49526 0.75556 0.47977 C 0.7474 0.46335 0.7533 0.47144 0.72378 0.4756 C 0.65 0.48624 0.58142 0.51098 0.50955 0.53688 C 0.48767 0.54474 0.46562 0.55144 0.44444 0.56231 C 0.4375 0.56578 0.42378 0.57295 0.42378 0.57295 C 0.44184 0.57688 0.4776 0.55815 0.49531 0.55167 C 0.5158 0.54427 0.59566 0.51745 0.61753 0.5052 C 0.62969 0.49849 0.64045 0.48786 0.65243 0.48185 C 0.63819 0.4726 0.6184 0.48231 0.6033 0.48624 C 0.56771 0.49549 0.53455 0.50797 0.5 0.52208 C 0.45017 0.54219 0.48125 0.52624 0.44288 0.54543 C 0.4375 0.54797 0.43229 0.55075 0.42708 0.55375 C 0.42378 0.5556 0.41597 0.55584 0.41753 0.56023 C 0.4191 0.56462 0.425 0.55884 0.42865 0.55815 C 0.44271 0.5519 0.4559 0.54289 0.46996 0.53688 C 0.50625 0.52115 0.54323 0.50751 0.57934 0.4904 C 0.60226 0.47953 0.62535 0.46913 0.64774 0.45664 C 0.65399 0.45318 0.66059 0.45017 0.66667 0.44601 C 0.6717 0.44254 0.68108 0.43329 0.68108 0.43329 C 0.66233 0.4252 0.67483 0.42959 0.63177 0.43745 C 0.59132 0.44485 0.55017 0.46844 0.51267 0.4904 C 0.49236 0.50243 0.47205 0.51468 0.45243 0.52855 C 0.44653 0.53271 0.44062 0.53664 0.4349 0.54104 C 0.4316 0.54358 0.42882 0.54705 0.42552 0.54959 C 0.42396 0.55075 0.41892 0.55214 0.42066 0.55167 C 0.50035 0.53179 0.57969 0.50358 0.65712 0.47144 C 0.68316 0.46058 0.70885 0.44855 0.7349 0.43745 C 0.74931 0.43121 0.76181 0.41919 0.77621 0.41433 C 0.76163 0.40462 0.77274 0.40971 0.74288 0.41849 C 0.68524 0.43514 0.63021 0.45641 0.57309 0.47769 C 0.53663 0.49133 0.50208 0.5126 0.46667 0.53063 C 0.45486 0.53664 0.4434 0.54312 0.43177 0.54959 C 0.42535 0.55306 0.41267 0.56023 0.41267 0.56023 C 0.40903 0.56439 0.40365 0.56717 0.40156 0.57295 C 0.40104 0.5741 0.39514 0.58243 0.4191 0.57295 C 0.42552 0.5704 0.43177 0.5667 0.43819 0.56439 C 0.53299 0.53133 0.38281 0.59121 0.51267 0.5348 C 0.60174 0.49618 0.69184 0.45688 0.77621 0.40162 C 0.75486 0.39815 0.73507 0.41295 0.71441 0.42058 C 0.69861 0.42659 0.68212 0.42959 0.66667 0.43745 C 0.60087 0.47075 0.50903 0.52878 0.44444 0.56855 C 0.41736 0.5852 0.39809 0.59792 0.37934 0.62774 C 0.38038 0.63052 0.38056 0.63468 0.38264 0.6363 C 0.38594 0.63861 0.38993 0.63861 0.39375 0.63838 C 0.41337 0.63722 0.43281 0.63422 0.45243 0.63214 C 0.53437 0.60832 0.61597 0.57664 0.69687 0.54751 C 0.78958 0.51399 0.72413 0.53595 0.80486 0.50312 C 0.82569 0.49456 0.84184 0.49017 0.86042 0.4756 C 0.83715 0.46543 0.8 0.48162 0.77621 0.48624 C 0.74184 0.50104 0.70642 0.51237 0.67309 0.53063 C 0.65503 0.54058 0.63733 0.55121 0.6191 0.56023 C 0.57934 0.57988 0.55746 0.58867 0.52222 0.61734 C 0.53299 0.62427 0.55087 0.61688 0.56198 0.61295 C 0.62517 0.59029 0.6967 0.56855 0.74931 0.51375 C 0.74062 0.49664 0.74687 0.50474 0.71597 0.51144 C 0.67847 0.51953 0.64844 0.54728 0.61441 0.56647 C 0.61337 0.56786 0.61059 0.56878 0.61111 0.57063 C 0.61163 0.57271 0.61424 0.57364 0.61597 0.57295 C 0.62049 0.57133 0.62413 0.56647 0.62865 0.56439 C 0.6342 0.56162 0.64045 0.56092 0.64601 0.55815 C 0.66163 0.55029 0.67743 0.54312 0.69219 0.53271 C 0.72552 0.5089 0.76545 0.48763 0.78733 0.44393 C 0.78316 0.42127 0.7658 0.43653 0.74931 0.43977 C 0.73976 0.44532 0.72917 0.45063 0.72066 0.45873 C 0.71389 0.4652 0.70156 0.47977 0.70156 0.47977 C 0.69861 0.48948 0.69479 0.49526 0.7033 0.5052 C 0.70573 0.50797 0.70955 0.50659 0.71267 0.50728 C 0.73003 0.50381 0.77274 0.49803 0.79045 0.48624 C 0.83437 0.45711 0.78385 0.4911 0.81753 0.46705 C 0.82066 0.46474 0.82396 0.46312 0.82708 0.46081 C 0.82934 0.45896 0.83594 0.45456 0.83333 0.45456 C 0.8283 0.45456 0.82378 0.45873 0.8191 0.46081 C 0.80556 0.47884 0.78854 0.4867 0.77465 0.5052 C 0.76996 0.51144 0.76042 0.52416 0.76042 0.52416 C 0.76198 0.52832 0.76163 0.53572 0.7651 0.53688 C 0.7724 0.53919 0.78003 0.53433 0.78733 0.53271 C 0.80312 0.52901 0.81806 0.52185 0.83333 0.51584 C 0.83767 0.51399 0.84201 0.51214 0.84601 0.50936 C 0.8526 0.50497 0.8651 0.49456 0.8651 0.49456 C 0.87344 0.47792 0.87222 0.48393 0.83819 0.4904 C 0.83316 0.49133 0.82865 0.49503 0.82378 0.49664 C 0.77674 0.51167 0.83194 0.49017 0.78733 0.50728 C 0.77674 0.51144 0.75556 0.52 0.75556 0.52 C 0.74531 0.5304 0.74774 0.5267 0.76198 0.52 C 0.76667 0.51792 0.7717 0.51653 0.77621 0.51375 C 0.79028 0.50543 0.80382 0.49549 0.81753 0.48624 C 0.8217 0.48347 0.82604 0.48046 0.83021 0.47769 C 0.83333 0.4756 0.83976 0.47144 0.83976 0.47144 C 0.8408 0.46936 0.8434 0.46751 0.84288 0.46497 C 0.84253 0.46289 0.83976 0.46289 0.83819 0.46289 C 0.83385 0.46289 0.82969 0.46427 0.82552 0.46497 C 0.80746 0.47121 0.78785 0.48046 0.77465 0.49896 C 0.78542 0.50381 0.8 0.49063 0.80955 0.48416 C 0.81233 0.48231 0.8151 0.48023 0.81753 0.47769 C 0.81927 0.47584 0.82326 0.47399 0.82222 0.47144 C 0.82118 0.4689 0.81806 0.4726 0.81597 0.47352 C 0.80868 0.47722 0.80729 0.48046 0.8 0.48624 C 0.79167 0.49271 0.78316 0.49896 0.77465 0.5052 C 0.77361 0.50589 0.76094 0.51722 0.75885 0.52 C 0.75746 0.52185 0.75365 0.52555 0.75556 0.52624 C 0.75885 0.5274 0.76215 0.52416 0.7651 0.52208 C 0.77969 0.51237 0.78993 0.49618 0.80486 0.48832 C 0.80677 0.48323 0.81927 0.46173 0.80799 0.48185 C 0.80382 0.5052 0.80538 0.49318 0.8033 0.51792 C 0.80278 0.51237 0.80156 0.49526 0.80156 0.50104 C 0.80156 0.51237 0.80139 0.5237 0.8033 0.5348 C 0.80417 0.53965 0.80434 0.52485 0.80486 0.52 C 0.80538 0.51653 0.8059 0.51283 0.80642 0.50936 C 0.81128 0.5193 0.81632 0.52971 0.8191 0.54104 C 0.8276 0.53549 0.82743 0.53364 0.83021 0.52208 C 0.83073 0.52624 0.83177 0.53919 0.83177 0.5348 C 0.83177 0.52786 0.83125 0.52069 0.83021 0.51375 C 0.82882 0.50404 0.82795 0.50427 0.82378 0.49896 C 0.82274 0.50173 0.82187 0.50451 0.82066 0.50728 C 0.81979 0.50959 0.8191 0.51514 0.81753 0.51375 C 0.81528 0.51167 0.81649 0.50659 0.81597 0.50312 C 0.81441 0.49341 0.81354 0.48971 0.80955 0.47977 C 0.79392 0.44092 0.7776 0.41734 0.74444 0.40578 C 0.73333 0.40855 0.72187 0.40948 0.71111 0.41433 C 0.70712 0.41618 0.70434 0.42081 0.70156 0.42497 C 0.68385 0.4511 0.67708 0.46451 0.66996 0.49664 C 0.67153 0.53526 0.6691 0.55121 0.69844 0.56231 C 0.70955 0.56023 0.72083 0.5593 0.73177 0.55584 C 0.79184 0.53641 0.84115 0.46243 0.85885 0.38682 C 0.85781 0.36994 0.85764 0.35283 0.85556 0.33618 C 0.84965 0.29017 0.8158 0.27584 0.78576 0.2726 C 0.73524 0.27722 0.68854 0.30543 0.66996 0.37202 C 0.67205 0.38335 0.67205 0.3956 0.67621 0.40578 C 0.67778 0.40971 0.68246 0.41063 0.68576 0.41017 C 0.69601 0.40901 0.7059 0.40439 0.71597 0.40162 C 0.74115 0.38289 0.76111 0.35907 0.77778 0.32763 C 0.78073 0.31468 0.78767 0.29757 0.77465 0.29179 C 0.7342 0.2978 0.69844 0.33664 0.66354 0.3593 C 0.63542 0.37757 0.60746 0.39607 0.57934 0.41433 C 0.56736 0.42219 0.55746 0.43468 0.54601 0.44393 C 0.52778 0.45873 0.5066 0.46774 0.49045 0.48624 C 0.4776 0.50104 0.48368 0.49595 0.47309 0.50312 C 0.48177 0.4793 0.46806 0.51584 0.4842 0.47977 C 0.48906 0.46913 0.4934 0.45295 0.49687 0.44185 C 0.50104 0.41086 0.50469 0.38427 0.49531 0.35306 C 0.4901 0.33572 0.47014 0.32786 0.45885 0.32347 C 0.4434 0.32485 0.42778 0.32393 0.41267 0.32763 C 0.39479 0.33202 0.33073 0.36786 0.32066 0.3741 C 0.24496 0.42196 0.18733 0.45965 0.1191 0.51584 C 0.05816 0.56624 0.00104 0.61595 -0.03333 0.70173 C -0.03438 0.71167 -0.03646 0.72138 -0.03646 0.73133 C -0.03646 0.77017 -0.00764 0.77549 0.01441 0.78011 C 0.03611 0.77526 0.05816 0.77271 0.07934 0.76532 C 0.14653 0.74196 0.23681 0.65572 0.27153 0.57503 C 0.27726 0.56185 0.28003 0.54682 0.2842 0.53271 C 0.28576 0.52 0.28854 0.50751 0.28889 0.49456 C 0.2901 0.4467 0.25729 0.40508 0.22552 0.39098 C 0.21059 0.38427 0.19479 0.38243 0.17934 0.37826 C 0.1375 0.37896 0.09566 0.37595 0.05399 0.38058 C -0.02951 0.39006 -0.11441 0.42936 -0.19045 0.47352 C -0.25347 0.51029 -0.31875 0.54982 -0.36823 0.61503 C -0.36979 0.6215 -0.37396 0.62751 -0.37292 0.63422 C -0.37205 0.64 -0.36788 0.64647 -0.36337 0.64693 C -0.3474 0.64878 -0.3316 0.64254 -0.3158 0.64046 C -0.11684 0.56809 0.10538 0.44 0.23021 0.21133 C 0.23281 0.1993 0.23802 0.18797 0.23819 0.17549 C 0.23941 0.11167 0.21996 0.10612 0.18108 0.09942 C 0.07049 0.10659 -0.01042 0.16 -0.10955 0.22404 C -0.12379 0.23329 -0.13733 0.24416 -0.1507 0.25572 C -0.16267 0.26612 -0.18542 0.28948 -0.18542 0.28948 C -0.1849 0.29433 -0.18629 0.30058 -0.18403 0.30427 C -0.18177 0.30751 -0.1776 0.30705 -0.17431 0.30659 C -0.15851 0.30474 -0.14271 0.30081 -0.12691 0.29803 C -0.01892 0.24208 0.09062 0.18982 0.18889 0.10543 C 0.23385 0.06705 0.27674 0.03052 0.30955 -0.02544 C 0.31701 -0.05573 0.29583 -0.0437 0.27934 -0.03815 C 0.26215 -0.03237 0.23767 -0.01966 0.22222 -0.01064 C 0.18021 0.01387 0.11215 0.05318 0.06823 0.0867 C 0.01771 0.12508 -0.02257 0.14451 -0.05069 0.20717 C -0.05122 0.21063 -0.05313 0.21433 -0.05226 0.2178 C -0.04705 0.24069 -0.04271 0.23491 -0.02691 0.23676 C 0.01424 0.22774 0.06024 0.2104 0.09687 0.18381 C 0.12483 0.16347 0.15087 0.13849 0.17778 0.1163 C 0.21007 0.08901 0.25069 0.03445 0.2651 -0.0148 C 0.26406 -0.01688 0.26389 -0.02197 0.26198 -0.02127 C 0.25243 -0.01781 0.2408 0.0178 0.23663 0.02751 C 0.20851 0.09202 0.18906 0.13456 0.17934 0.20925 C 0.18576 0.23861 0.18229 0.24578 0.2033 0.25364 C 0.23455 0.24601 0.27031 0.23699 0.29687 0.21133 C 0.37552 0.13549 0.43316 0.03399 0.45885 -0.09087 C 0.46059 -0.13272 0.4684 -0.19769 0.43333 -0.21989 C 0.42187 -0.22705 0.40746 -0.22705 0.39531 -0.22844 C 0.33177 -0.2222 0.27413 -0.18151 0.22066 -0.13734 C 0.11441 -0.04971 -0.01059 0.04925 -0.06667 0.20508 C -0.07188 0.23907 -0.08524 0.29896 -0.04601 0.30867 C -0.03715 0.31098 -0.02795 0.31006 -0.01892 0.31075 C 0.09514 0.29318 0.18906 0.22543 0.28108 0.13526 C 0.32552 0.09156 0.36875 0.04647 0.39531 -0.01896 C 0.39687 -0.03029 0.40417 -0.05596 0.39219 -0.06127 C 0.36111 -0.04648 0.33941 -0.00902 0.31753 0.02312 C 0.27951 0.07861 0.24028 0.12994 0.2191 0.20069 C 0.225 0.21271 0.23021 0.20069 0.23663 0.19029 C 0.2566 0.15769 0.27101 0.12393 0.28576 0.0867 C 0.28767 0.08208 0.28906 0.07699 0.29045 0.0719 C 0.29236 0.06497 0.29861 0.04462 0.29531 0.05063 C 0.29271 0.05549 0.28993 0.06058 0.28733 0.06543 C 0.28056 0.09641 0.27552 0.12763 0.26823 0.15861 C 0.26701 0.17549 0.26354 0.20647 0.26996 0.21988 C 0.2724 0.22497 0.27847 0.21549 0.28264 0.21341 C 0.29097 0.20231 0.29896 0.19121 0.30486 0.17757 C 0.31042 0.16508 0.32066 0.13942 0.32066 0.13942 C 0.32361 0.12347 0.3276 0.10844 0.33177 0.09295 C 0.33715 0.07306 0.34028 0.07121 0.33021 0.08462 C 0.3276 0.09526 0.32483 0.10543 0.32222 0.1163 C 0.3217 0.11838 0.32326 0.1119 0.32378 0.10982 C 0.32431 0.10774 0.325 0.10543 0.32552 0.10358 C 0.32604 0.09641 0.32708 0.08948 0.32708 0.08208 C 0.32708 0.08023 0.32587 0.07399 0.32552 0.07584 C 0.32517 0.07769 0.3224 0.12069 0.32222 0.12231 C 0.32361 0.15769 0.32066 0.17549 0.33177 0.14589 C 0.33559 0.12 0.33038 0.1519 0.33663 0.12231 C 0.33889 0.11144 0.33924 0.09988 0.34132 0.08878 C 0.3408 0.08023 0.34184 0.07144 0.33976 0.06335 C 0.33924 0.06081 0.3375 0.06751 0.33663 0.06982 C 0.33542 0.07329 0.33437 0.07676 0.33333 0.08023 C 0.32587 0.10705 0.33611 0.07722 0.32222 0.11422 C 0.32101 0.11745 0.32014 0.12115 0.3191 0.12462 C 0.31858 0.1267 0.31667 0.13295 0.31753 0.1311 C 0.32726 0.10959 0.3283 0.08555 0.33021 0.06127 C 0.32969 0.04231 0.33003 0.02312 0.32865 0.00416 C 0.32847 0.00162 0.32743 -0.00208 0.32552 -0.00208 C 0.32326 -0.00208 0.32222 0.00208 0.32066 0.00416 C 0.31215 0.02728 0.3066 0.05318 0.30156 0.07815 C 0.29844 0.09433 0.29219 0.1267 0.29219 0.1267 C 0.2901 0.16 0.2842 0.23029 0.31111 0.24948 C 0.31996 0.25572 0.3316 0.25641 0.34132 0.2578 C 0.39323 0.24878 0.44062 0.2215 0.48264 0.17965 C 0.49132 0.1711 0.49948 0.16115 0.50642 0.15006 C 0.51806 0.13133 0.53819 0.09086 0.53819 0.09086 C 0.54514 0.05271 0.5592 0.02034 0.52865 -0.00856 C 0.52483 -0.01226 0.52014 -0.01411 0.51597 -0.01688 C 0.50156 -0.01619 0.46753 -0.01734 0.45087 -0.00856 C 0.38854 0.02404 0.3408 0.06058 0.30156 0.13318 C 0.29965 0.14381 0.29514 0.1563 0.30156 0.16693 C 0.30365 0.1704 0.30799 0.16971 0.31111 0.1711 C 0.38316 0.16092 0.4974 0.13456 0.55243 0.06127 C 0.55347 0.05849 0.55677 0.05549 0.55556 0.05271 C 0.55417 0.04971 0.55035 0.0504 0.54774 0.05063 C 0.54062 0.0511 0.5158 0.05572 0.50642 0.05919 C 0.48003 0.06867 0.4467 0.08901 0.42708 0.1163 C 0.44132 0.12555 0.43021 0.12092 0.45712 0.10774 C 0.49722 0.08809 0.54653 0.0689 0.57778 0.02751 C 0.58403 0.00115 0.54097 0.01664 0.53819 0.01688 C 0.5184 0.02335 0.4974 0.02913 0.47934 0.04231 C 0.45347 0.06104 0.46615 0.05364 0.44132 0.06543 C 0.43681 0.07052 0.41927 0.08231 0.42865 0.09295 C 0.43038 0.0948 0.43281 0.09433 0.4349 0.09503 C 0.45608 0.08994 0.47604 0.08208 0.49687 0.07584 C 0.51285 0.06636 0.53056 0.05988 0.54601 0.04855 C 0.55104 0.04485 0.56042 0.03584 0.56042 0.03584 C 0.55017 0.02289 0.55746 0.02982 0.52865 0.04023 C 0.50521 0.04878 0.48281 0.06728 0.46198 0.08208 C 0.45451 0.08763 0.44132 0.1015 0.44132 0.1015 C 0.43246 0.11884 0.45312 0.11167 0.45885 0.10982 C 0.49028 0.10011 0.46337 0.10797 0.48889 0.09711 C 0.50729 0.08901 0.53056 0.08508 0.54444 0.06543 C 0.52205 0.05803 0.50104 0.07375 0.48108 0.08462 C 0.47691 0.08693 0.47222 0.08809 0.46823 0.09086 C 0.46319 0.09433 0.45399 0.10358 0.45399 0.10358 C 0.44722 0.11699 0.44792 0.11237 0.47153 0.10358 C 0.49687 0.09387 0.5224 0.083 0.54444 0.06335 C 0.53108 0.03653 0.53924 0.04901 0.4842 0.06751 C 0.43299 0.08462 0.37986 0.09826 0.3349 0.13734 C 0.33073 0.14589 0.32795 0.14751 0.34288 0.14589 C 0.36042 0.14404 0.37691 0.13896 0.39375 0.13318 C 0.43663 0.11792 0.48073 0.10196 0.52066 0.07584 C 0.51111 0.06774 0.50434 0.07884 0.49531 0.08462 C 0.45729 0.1089 0.40087 0.13526 0.37465 0.18173 C 0.37621 0.1852 0.37621 0.19214 0.37934 0.19237 C 0.40486 0.19468 0.43524 0.18058 0.46042 0.17341 C 0.4724 0.1667 0.4849 0.16138 0.49687 0.15422 C 0.50556 0.1489 0.51371 0.14289 0.52222 0.13734 C 0.52396 0.13618 0.52899 0.13295 0.52708 0.13318 C 0.50486 0.13526 0.48715 0.14682 0.46667 0.1563 C 0.44653 0.16555 0.42656 0.1748 0.40642 0.18381 C 0.32031 0.22289 0.40833 0.17896 0.35243 0.21133 C 0.3467 0.21456 0.34045 0.21641 0.3349 0.21988 C 0.33142 0.22196 0.32847 0.2252 0.32552 0.22821 C 0.32431 0.22936 0.32066 0.23237 0.32222 0.2326 C 0.3276 0.23352 0.33281 0.23098 0.33819 0.23029 C 0.36319 0.22011 0.38993 0.21456 0.41441 0.203 C 0.43854 0.19144 0.46198 0.17757 0.48576 0.16485 C 0.49878 0.15792 0.56823 0.12115 0.58264 0.09295 C 0.57847 0.07653 0.54201 0.09063 0.53021 0.09503 C 0.47049 0.11722 0.41042 0.14173 0.35399 0.17549 C 0.3349 0.18705 0.30729 0.19861 0.29219 0.21988 C 0.31597 0.22867 0.35833 0.20208 0.38264 0.19029 C 0.47153 0.14751 0.57066 0.10243 0.65399 0.04023 C 0.66111 0.01063 0.59844 0.05341 0.59531 0.05503 C 0.49705 0.10427 0.60417 0.04185 0.43663 0.1415 C 0.35608 0.18936 0.28455 0.23769 0.20955 0.30011 C 0.19045 0.31607 0.17326 0.32925 0.16198 0.35514 C 0.16302 0.35792 0.16285 0.36323 0.1651 0.36347 C 0.16944 0.3637 0.21146 0.35029 0.21441 0.34867 C 0.24184 0.33387 0.2684 0.3163 0.29531 0.30011 C 0.3651 0.25826 0.44444 0.19815 0.49045 0.11422 C 0.50069 0.09549 0.51441 0.05688 0.52222 0.03584 C 0.52535 0.01826 0.53021 -0.00532 0.53021 -0.02336 C 0.53021 -0.04023 0.52986 -0.05734 0.52708 -0.07399 C 0.51354 -0.157 0.46146 -0.18266 0.4033 -0.18821 C 0.38524 -0.18752 0.36719 -0.18844 0.34931 -0.18613 C 0.32865 -0.18359 0.25694 -0.15122 0.25399 -0.15006 C 0.22535 -0.13827 0.20035 -0.11492 0.18576 -0.08047 C 0.18837 -0.06914 0.18941 -0.05688 0.19375 -0.04648 C 0.21562 0.00578 0.29809 0.0037 0.33333 0.00624 C 0.46615 -0.00185 0.6026 -0.01388 0.72378 -0.09526 C 0.72587 -0.09873 0.73021 -0.10127 0.73021 -0.10567 C 0.73021 -0.1096 0.72639 -0.11214 0.72378 -0.11422 C 0.7092 -0.12601 0.70399 -0.12301 0.68576 -0.12486 C 0.51146 -0.11445 0.3467 -0.06682 0.18264 0.0148 C 0.11094 0.0504 -0.06389 0.12347 -0.12535 0.21988 C -0.1283 0.23399 -0.1349 0.24693 -0.12066 0.25156 C -0.07344 0.2356 -0.07431 0.22589 -0.03177 0.17549 C 0.01858 0.11537 0.05694 0.04555 0.06996 -0.0444 C 0.0684 -0.06266 0.06771 -0.08139 0.0651 -0.09942 C 0.05972 -0.13734 0.03472 -0.16301 0.00799 -0.17133 C -0.0099 -0.1681 -0.02726 -0.16648 -0.03802 -0.14382 C -0.04479 -0.12971 -0.05556 -0.09942 -0.05556 -0.09942 C -0.06094 -0.06983 -0.06528 -0.04093 -0.06823 -0.01064 C -0.06632 0.04508 -0.07031 0.1267 -0.04288 0.17757 C -0.04028 0.18243 -0.03542 0.18451 -0.03177 0.18821 C -0.02917 0.18751 -0.02622 0.18751 -0.02379 0.18589 C -0.0217 0.18451 -0.02083 0.18127 -0.01892 0.17965 C -0.01701 0.1778 -0.01458 0.17711 -0.01267 0.17549 C -0.00556 0.16948 -0.00347 0.16347 0.00486 0.16069 C 0.00955 0.18589 0.00521 0.15977 0.00799 0.2178 C 0.01076 0.27445 0.01302 0.33919 0.04601 0.38058 C 0.05833 0.39584 0.07222 0.40994 0.08889 0.41433 C 0.10746 0.4104 0.09375 0.41017 0.08576 0.40786 C 0.07604 0.40878 0.05365 0.40948 0.04288 0.41433 C 0.01076 0.42844 -0.02743 0.45803 -0.04115 0.50104 C -0.03906 0.51237 -0.03941 0.52485 -0.0349 0.5348 C -0.03247 0.54011 -0.02656 0.54058 -0.02222 0.54335 C -0.00035 0.55699 0.02049 0.55838 0.04444 0.56023 C 0.11181 0.55815 0.17639 0.55745 0.24288 0.55167 C 0.24705 0.55029 0.25139 0.5489 0.25556 0.54751 C 0.25816 0.54682 0.26476 0.54867 0.26354 0.54543 C 0.26181 0.54058 0.25642 0.53988 0.25243 0.53896 C 0.23993 0.53618 0.22708 0.53618 0.21441 0.5348 C 0.16562 0.53688 0.11684 0.53688 0.06823 0.54104 C -0.000869999999999996 0.54705 -0.06927 0.563 -0.13802 0.57295 C -0.18177 0.57942 -0.23021 0.58682 -0.27274 0.60254 C -0.24965 0.61803 -0.26788 0.6074 -0.20938 0.60254 C -0.18403 0.60046 -0.15955 0.5926 -0.1349 0.58543 C -0.12448 0.57641 -0.13802 0.5778 -0.14444 0.57711 C -0.15399 0.57618 -0.1632 0.57572 -0.17292 0.57503 C -0.15486 0.56023 -0.13333 0.55907 -0.11267 0.55375 C -0.08264 0.54612 -0.05243 0.53711 -0.02222 0.53063 C 0.04062 0.51699 -0.02986 0.53526 0.02378 0.52 C 0.02917 0.51838 0.03976 0.50867 0.03976 0.51584 C 0.03976 0.52347 0.02934 0.52208 0.02378 0.52416 C 0.0066 0.53086 -0.01094 0.53641 -0.02847 0.54104 C -0.10747 0.56208 -0.18681 0.58219 -0.26667 0.59607 C -0.27031 0.59745 -0.27899 0.59537 -0.2776 0.60023 C -0.27622 0.60555 -0.26927 0.60347 -0.2651 0.60254 C -0.25851 0.60115 -0.25243 0.5963 -0.24601 0.59399 C -0.22292 0.58566 -0.19913 0.57988 -0.17622 0.57063 C -0.04809 0.51953 -0.11215 0.54774 0.01597 0.48624 C 0.05781 0.46612 0.08333 0.45988 0.11753 0.43121 C 0.11996 0.42451 0.12535 0.41711 0.11267 0.41641 C 0.09201 0.41526 0.07153 0.4178 0.05087 0.41849 C 0.00729 0.42427 -0.03264 0.43445 -0.07448 0.45225 C -0.08524 0.45688 -0.09583 0.4615 -0.10625 0.46705 C -0.1224 0.4756 -0.15399 0.49456 -0.15399 0.49456 C -0.15764 0.49873 -0.16094 0.50335 -0.1651 0.50728 C -0.16684 0.50913 -0.1724 0.50867 -0.17135 0.51144 C -0.16962 0.51537 -0.16493 0.51445 -0.16181 0.51584 C -0.15712 0.51445 -0.15243 0.51237 -0.14757 0.51144 C -0.12865 0.50751 -0.1092 0.50612 -0.09045 0.50104 C -0.04271 0.48786 0.00469 0.47491 0.05243 0.46289 C 0.09132 0.45295 0.1125 0.44393 0.15243 0.42913 C 0.15729 0.42728 0.16181 0.42451 0.16667 0.42266 C 0.16927 0.42173 0.17726 0.42011 0.17465 0.42058 C 0.09496 0.43514 0.01615 0.47029 -0.04913 0.53271 C -0.05069 0.53618 -0.05347 0.53919 -0.05399 0.54335 C -0.05729 0.56601 -0.02361 0.54936 -0.01736 0.54751 C 0.01111 0.53919 0.03871 0.52878 0.06667 0.51792 C 0.08594 0.51029 0.10729 0.50682 0.12378 0.4904 C 0.12118 0.48901 0.11875 0.48624 0.11597 0.48624 C 0.10139 0.48624 0.04514 0.50797 0.04132 0.50936 C -0.02101 0.5311 -0.08438 0.54589 -0.14601 0.57063 C -0.14965 0.57202 -0.13854 0.56948 -0.1349 0.56855 C -0.13108 0.5674 -0.1276 0.56555 -0.12379 0.56439 C -0.11302 0.56092 -0.10278 0.55491 -0.09201 0.55167 C -0.07951 0.54797 -0.06667 0.54636 -0.05399 0.54335 C -0.01476 0.53387 -0.03073 0.53664 -0.00625 0.53271 C -0.00313 0.53133 0.00017 0.52994 0.0033 0.52855 C 0.00538 0.52763 0.01163 0.52601 0.00955 0.52624 C -0.01858 0.52994 -0.04618 0.5348 -0.07448 0.53688 C -0.1158 0.54427 -0.15712 0.54705 -0.19826 0.55375 C -0.18212 0.53803 -0.15104 0.53271 -0.13177 0.52624 C -0.09288 0.51306 -0.05365 0.50959 -0.01424 0.50104 C -0.00191 0.49826 0.0099 0.49295 0.02222 0.4904 C 0.04549 0.48555 0.07014 0.48462 0.09375 0.48185 C 0.04653 0.50312 -0.00486 0.50636 -0.05399 0.51375 C -0.07778 0.51745 -0.10156 0.52277 -0.12535 0.52624 C -0.20903 0.53826 -0.29948 0.53757 -0.37934 0.57919 C -0.34965 0.58474 -0.37188 0.58219 -0.3125 0.56855 C -0.29219 0.56393 -0.27118 0.56254 -0.2507 0.55815 C -0.19705 0.54636 -0.14392 0.53271 -0.09045 0.52 C 0.01944 0.4941 0.13264 0.47075 0.23663 0.41641 C 0.21111 0.39653 0.14774 0.41433 0.14774 0.41433 C 0.03733 0.42913 -0.07014 0.45387 -0.17622 0.49664 C -0.2099 0.51029 -0.25226 0.52393 -0.2809 0.55375 C -0.26372 0.56162 -0.2783 0.55815 -0.25556 0.54959 C -0.19549 0.52717 -0.26962 0.56115 -0.20625 0.5348 C -0.15903 0.51537 -0.11424 0.49225 -0.06823 0.46936 C -0.04931 0.45988 -0.01632 0.44254 -0.00469 0.41849 C -0.01771 0.3926 -0.00694 0.41017 -0.06181 0.41433 C -0.12743 0.41919 -0.20382 0.43006 -0.26181 0.47352 C -0.27483 0.50636 -0.21858 0.47676 -0.21267 0.47352 C -0.18455 0.45757 -0.15712 0.43977 -0.13004 0.42058 C -0.01319 0.33803 -0.03681 0.35745 0.07621 0.26636 C 0.11962 0.23144 0.16076 0.19977 0.18576 0.13942 C 0.18628 0.13595 0.18733 0.13225 0.18733 0.12878 C 0.18733 0.10173 0.18299 0.11514 0.16042 0.12231 C 0.1474 0.13734 0.13177 0.14751 0.1191 0.16277 C 0.09496 0.19167 0.07031 0.21688 0.04601 0.24508 C 0.04045 0.25156 0.0375 0.25664 0.03333 0.26427 C 0.03229 0.26636 0.02847 0.26936 0.03021 0.27052 C 0.03455 0.27329 0.05799 0.26058 0.06198 0.2578 C 0.06632 0.2548 0.07014 0.25017 0.07465 0.2474 C 0.09271 0.23676 0.11441 0.23352 0.12865 0.21341 C 0.12917 0.21133 0.13177 0.20763 0.13021 0.20717 C 0.12187 0.20439 0.10469 0.21364 0.09687 0.2178 C 0.07153 0.23121 0.04601 0.2437 0.02066 0.2578 C 0.01562 0.26058 0.01111 0.26474 0.00642 0.26844 C 0.00156 0.27237 -0.00781 0.28115 -0.00781 0.28115 C -0.01736 0.29942 0.0066 0.27884 0.00955 0.27699 C 0.0217 0.26959 0.03437 0.26427 0.04601 0.25572 C 0.05521 0.24878 0.06371 0.24069 0.07309 0.23468 C 0.07431 0.23306 0.0809 0.22612 0.07153 0.22821 C 0.06996 0.22844 0.05746 0.23861 0.05712 0.23884 C 0.04323 0.24878 0.03194 0.26081 0.02222 0.27699 C 0.01875 0.28878 0.01823 0.29688 0.02552 0.30659 C 0.04965 0.30081 0.07552 0.29641 0.09844 0.28323 C 0.11701 0.27237 0.13941 0.25156 0.15712 0.23676 C 0.16441 0.22381 0.17187 0.22219 0.16198 0.21341 C 0.16059 0.21225 0.15868 0.21202 0.15712 0.21133 C 0.10069 0.21664 0.04705 0.23907 -0.00781 0.25572 C -0.01319 0.25919 -0.0184 0.26289 -0.02379 0.26636 C -0.02743 0.26867 -0.03125 0.27029 -0.0349 0.2726 C -0.03663 0.27375 -0.04132 0.2763 -0.03958 0.27699 C -0.03646 0.27838 -0.03316 0.27537 -0.03004 0.27468 C 0.01649 0.24901 0.06371 0.22589 0.10955 0.19861 C 0.12292 0.19052 0.1375 0.18589 0.15087 0.17757 C 0.15746 0.17341 0.16996 0.16277 0.16996 0.16277 C 0.16493 0.14381 0.12882 0.16162 0.11753 0.16485 C 0.03559 0.18913 -0.04757 0.20647 -0.12691 0.243 C -0.15538 0.25618 -0.13906 0.24508 -0.15851 0.25988 C -0.16215 0.26959 -0.16597 0.27329 -0.1507 0.2726 C -0.12517 0.27144 -0.10382 0.26404 -0.07934 0.25572 C 0.04097 0.2148 -0.10486 0.26358 0.01597 0.21988 C 0.04861 0.20809 0.08299 0.20277 0.11441 0.18589 C 0.13559 0.17456 0.1566 0.16347 0.17778 0.1519 C 0.18681 0.14728 0.2033 0.13318 0.2033 0.13318 C 0.2066 0.11953 0.19844 0.12046 0.19045 0.11838 C 0.1566 0.11884 0.12257 0.11676 0.08889 0.12046 C 0.05608 0.12416 0.02431 0.13803 -0.00781 0.14797 C -0.04653 0.16 -0.05486 0.16185 -0.08733 0.18381 C -0.09809 0.19098 -0.11892 0.20717 -0.11892 0.20717 C -0.12517 0.22959 -0.05382 0.19075 -0.05226 0.19029 C -0.03385 0.18381 -0.01493 0.18058 0.0033 0.17341 C 0.05226 0.15445 0.10052 0.13202 0.14931 0.1119 C 0.21736 0.08347 0.30399 0.0511 0.36667 0.0148 C 0.39583 -0.00208 0.43854 -0.01757 0.46354 -0.05087 C 0.45937 -0.06729 0.43889 -0.05781 0.43021 -0.05711 C 0.32969 -0.03954 0.22309 0.01017 0.13177 0.06751 C 0.1151 0.07792 0.09931 0.09086 0.08264 0.1015 C 0.05365 0.11977 0.03368 0.12693 0.01111 0.1563 C 0.00573 0.17873 0.03715 0.16763 0.05712 0.16069 C 0.10208 0.14497 0.18246 0.10936 0.23021 0.08878 C 0.35017 0.03676 0.46858 -0.02035 0.5842 -0.08671 C 0.61424 -0.10405 0.65069 -0.11399 0.67465 -0.1459 C 0.65764 -0.157 0.66597 -0.1533 0.63021 -0.1459 C 0.61076 -0.14174 0.52726 -0.1133 0.5191 -0.11006 C 0.42396 -0.07307 0.24323 0.00115 0.15243 0.05063 C 0.12656 0.06474 0.1 0.07699 0.07465 0.09295 C 0.04705 0.11029 -0.00625 0.15006 -0.00625 0.15006 C -0.01285 0.17156 0.0059 0.16208 0.01753 0.15861 C 0.05278 0.14751 0.07951 0.13433 0.11441 0.11422 C 0.16875 0.083 0.22413 0.0541 0.27621 0.01688 C 0.39323 -0.06659 0.50573 -0.14798 0.61597 -0.24532 C 0.66458 -0.2881 0.72552 -0.33411 0.75243 -0.40601 C 0.75139 -0.41295 0.75278 -0.42174 0.74931 -0.42705 C 0.74601 -0.43214 0.73993 -0.43353 0.7349 -0.4333 C 0.70208 -0.43145 0.66944 -0.42497 0.63663 -0.42081 C 0.50121 -0.37989 0.36806 -0.32139 0.24288 -0.24093 C 0.19653 -0.2111 0.17066 -0.19099 0.12865 -0.15445 C 0.11337 -0.14127 0.10017 -0.12948 0.09219 -0.10775 C 0.09427 -0.10497 0.09549 -0.09989 0.09844 -0.09942 C 0.10642 -0.0985 0.14184 -0.10636 0.15087 -0.11006 C 0.19896 -0.12994 0.22969 -0.14382 0.27153 -0.18174 C 0.28958 -0.19792 0.30417 -0.21087 0.31441 -0.23677 C 0.31389 -0.24162 0.31441 -0.24717 0.31267 -0.25156 C 0.30885 -0.26197 0.2908 -0.26428 0.2842 -0.26636 C 0.20312 -0.26151 0.11562 -0.25156 0.04132 -0.20301 C 0.03802 -0.18937 0.03715 -0.1926 0.05885 -0.19885 C 0.08403 -0.20625 0.10972 -0.21757 0.1349 -0.22613 C 0.19965 -0.24833 0.2658 -0.26914 0.32378 -0.31492 C 0.32986 -0.32486 0.33628 -0.33041 0.32552 -0.33827 C 0.32309 -0.34035 0.32014 -0.34104 0.31753 -0.34243 C 0.19392 -0.33226 0.07361 -0.30312 -0.04913 -0.28116 C -0.11181 -0.27006 -0.18576 -0.26243 -0.24601 -0.24324 C -0.25504 -0.24047 -0.27274 -0.23468 -0.27274 -0.23468 C -0.24618 -0.23075 -0.27118 -0.23122 -0.24097 -0.24324 C -0.22969 -0.24786 -0.21771 -0.24902 -0.20625 -0.25364 C -0.19097 -0.25966 -0.17656 -0.26844 -0.16181 -0.27492 C -0.07917 -0.31099 0.00398999999999999 -0.34405 0.08733 -0.37642 C 0.12292 -0.39029 0.16493 -0.40231 0.19844 -0.42497 C 0.18871 -0.42937 0.17708 -0.41873 0.16823 -0.41434 C 0.13785 -0.39885 0.10642 -0.38821 0.07621 -0.37203 C 0.07604 -0.37179 0.06094 -0.3563 0.06042 -0.35307 C 0.0599 -0.35006 0.0625 -0.34729 0.06354 -0.34451 C 0.10226 -0.35052 0.13889 -0.36255 0.17621 -0.37642 C 0.20052 -0.38544 0.225 -0.3926 0.24774 -0.4081 C 0.22309 -0.42081 0.18611 -0.40162 0.16042 -0.39746 C 0.07639 -0.38405 0.16788 -0.41041 0.02378 -0.37411 C -0.04688 -0.3563 -0.01493 -0.36047 -0.07135 -0.35723 C -0.08455 -0.35307 -0.10017 -0.35538 -0.11111 -0.34451 C -0.11319 -0.34243 -0.11858 -0.34127 -0.11736 -0.33827 C -0.11615 -0.33503 -0.11215 -0.33966 -0.10955 -0.34058 C -0.07865 -0.35838 -0.04826 -0.37781 -0.01736 -0.39538 C -0.00868 -0.40023 0.00069 -0.4037 0.00955 -0.4081 C 0.01753 -0.41203 0.02552 -0.41619 0.03333 -0.42081 C 0.05243 -0.43191 0.07101 -0.44648 0.08889 -0.46081 C 0.09844 -0.47954 0.08021 -0.46544 0.07621 -0.46289 C 0.06788 -0.45781 0.05434 -0.44925 0.04601 -0.44185 C 0.01701 -0.41665 0.0349 -0.42937 0.0191 -0.4185 C 0.01684 -0.40948 0.01476 -0.4081 0.02865 -0.41018 C 0.03403 -0.4111 0.03906 -0.4148 0.04444 -0.41642 C 0.05712 -0.42012 0.08038 -0.42312 0.09219 -0.42497 C 0.18038 -0.45711 0.07552 -0.42035 0.16042 -0.44601 C 0.17483 -0.45041 0.18889 -0.45619 0.2033 -0.46081 C 0.22014 -0.46613 0.23715 -0.47052 0.25399 -0.47561 C 0.25868 -0.477 0.26354 -0.47815 0.26823 -0.48 C 0.27187 -0.48139 0.27569 -0.48278 0.27934 -0.48416 C 0.2809 -0.48486 0.28594 -0.48671 0.2842 -0.48625 C 0.2559 -0.48 0.22812 -0.46775 0.2 -0.46081 C 0.16892 -0.45318 0.1375 -0.45087 0.10642 -0.44185 C 0.09045 -0.43723 0.07465 -0.4326 0.05885 -0.42705 C 0.05451 -0.42544 0.05017 -0.42312 0.04601 -0.42081 C 0.04271 -0.41896 0.03958 -0.41688 0.03663 -0.41434 C 0.03542 -0.41318 0.03177 -0.40994 0.03333 -0.41018 C 0.05069 -0.41341 0.06753 -0.42705 0.0842 -0.4333 C 0.0941 -0.437 0.10434 -0.43862 0.11441 -0.44185 C 0.13819 -0.44925 0.16215 -0.45503 0.18576 -0.46289 C 0.22292 -0.47515 0.25972 -0.4911 0.29687 -0.50312 C 0.28056 -0.50844 0.2651 -0.49873 0.24931 -0.4948 C 0.22448 -0.48856 0.19948 -0.4837 0.17465 -0.47769 C 0.10035 -0.46012 0.02691 -0.43723 -0.04757 -0.42081 C -0.05347 -0.41804 -0.05938 -0.41549 -0.0651 -0.41226 C -0.0684 -0.41041 -0.07274 -0.40994 -0.07448 -0.40601 C -0.07552 -0.40393 -0.07135 -0.40301 -0.06979 -0.40162 C 0.09792 -0.43584 0.26302 -0.48902 0.43177 -0.51376 C 0.43646 -0.51584 0.48733 -0.53734 0.40955 -0.50729 C 0.40052 -0.50382 0.39184 -0.49942 0.38264 -0.49688 C 0.35642 -0.48948 0.32969 -0.48416 0.3033 -0.47769 C 0.28646 -0.47353 0.2691 -0.47237 0.25243 -0.46729 C 0.22934 -0.46035 0.20712 -0.44925 0.1842 -0.44185 C 0.10434 -0.41619 0.16215 -0.44278 0.08264 -0.41434 C 0.06441 -0.40786 0.0467 -0.39838 0.02865 -0.39122 C 0.02552 -0.38844 0.01806 -0.38752 0.0191 -0.38266 C 0.02031 -0.37688 0.02726 -0.37596 0.03177 -0.37642 C 0.04896 -0.37804 0.06562 -0.38544 0.08264 -0.3889 C 0.1276 -0.39815 0.14236 -0.40047 0.19219 -0.41642 C 0.27656 -0.44347 0.36042 -0.47399 0.44444 -0.50312 C 0.45712 -0.50752 0.46996 -0.51145 0.48264 -0.51584 C 0.49271 -0.51931 0.5026 -0.52301 0.51267 -0.52648 C 0.52101 -0.52948 0.5467 -0.53411 0.53819 -0.53272 C 0.53403 -0.53203 0.52969 -0.53133 0.52552 -0.53064 C 0.43854 -0.49665 0.34809 -0.47075 0.26042 -0.43977 C 0.22899 -0.42867 0.19878 -0.41226 0.16823 -0.39746 C 0.15799 -0.3926 0.13819 -0.38058 0.13819 -0.38058 C 0.12917 -0.36925 0.14878 -0.37573 0.15087 -0.37642 C 0.16788 -0.38174 0.18472 -0.38775 0.20156 -0.3933 C 0.24705 -0.40833 0.29323 -0.4222 0.33819 -0.43977 C 0.41788 -0.47075 0.34358 -0.44324 0.39844 -0.46081 C 0.40434 -0.46266 0.41007 -0.46497 0.41597 -0.46729 C 0.41753 -0.46798 0.42222 -0.4696 0.42066 -0.46937 C 0.40052 -0.46613 0.38142 -0.45734 0.36198 -0.45041 C 0.32309 -0.4363 0.28576 -0.42243 0.25087 -0.39538 C 0.22413 -0.37457 0.23698 -0.3896 0.22222 -0.36994 C 0.22118 -0.36601 0.21788 -0.35931 0.22552 -0.35931 C 0.24722 -0.35931 0.26875 -0.36231 0.29045 -0.3637 C 0.32378 -0.36994 0.35746 -0.37226 0.39045 -0.38058 C 0.42621 -0.3896 0.46128 -0.40208 0.49687 -0.41226 C 0.51979 -0.41873 0.54253 -0.4252 0.5651 -0.4333 C 0.57153 -0.43561 0.57795 -0.43862 0.5842 -0.44185 C 0.58646 -0.44301 0.59271 -0.44601 0.59045 -0.44601 C 0.53941 -0.44601 0.47951 -0.41688 0.42865 -0.40162 C 0.36649 -0.38312 0.30087 -0.36717 0.24444 -0.32555 C 0.2316 -0.29989 0.23958 -0.31885 0.29219 -0.33619 C 0.32049 -0.34567 0.34826 -0.357 0.37621 -0.36786 C 0.41701 -0.38405 0.45764 -0.40208 0.49844 -0.4185 C 0.5191 -0.42682 0.53837 -0.44093 0.55885 -0.45041 C 0.59549 -0.46752 0.61892 -0.46659 0.64601 -0.4948 C 0.59149 -0.50497 0.50677 -0.46798 0.46042 -0.45457 C 0.34253 -0.42058 0.36753 -0.42659 0.22066 -0.37642 C 0.1724 -0.36 0.12222 -0.34104 0.08108 -0.30243 C 0.09913 -0.27168 0.17743 -0.30035 0.20799 -0.30867 C 0.27986 -0.3281 0.35226 -0.3459 0.42378 -0.36786 C 0.46615 -0.38081 0.50799 -0.39862 0.55087 -0.4081 C 0.57847 -0.41411 0.60521 -0.41966 0.63177 -0.43122 C 0.62865 -0.4326 0.62552 -0.43561 0.62222 -0.43561 C 0.60833 -0.43561 0.57448 -0.41781 0.56198 -0.41018 C 0.55278 -0.4044 0.54323 -0.39908 0.5349 -0.39122 C 0.53125 -0.38775 0.52378 -0.38058 0.52378 -0.38058 C 0.52483 -0.37919 0.52552 -0.37642 0.52708 -0.37642 C 0.53455 -0.37642 0.53681 -0.38474 0.54288 -0.38474 E">
                                      <p:cBhvr>
                                        <p:cTn id="24" dur="2000" fill="hold"/>
                                        <p:tgtEl>
                                          <p:spTgt spid="2465">
                                            <p:txEl>
                                              <p:pRg st="5" end="5"/>
                                            </p:txEl>
                                          </p:spTgt>
                                        </p:tgtEl>
                                      </p:cBhvr>
                                    </p:animMotion>
                                  </p:childTnLst>
                                </p:cTn>
                              </p:par>
                            </p:childTnLst>
                          </p:cTn>
                        </p:par>
                      </p:childTnLst>
                    </p:cTn>
                  </p:par>
                  <p:par>
                    <p:cTn id="25" fill="hold">
                      <p:stCondLst>
                        <p:cond delay="indefinite"/>
                      </p:stCondLst>
                      <p:childTnLst>
                        <p:par>
                          <p:cTn id="26" fill="hold">
                            <p:stCondLst>
                              <p:cond delay="0"/>
                            </p:stCondLst>
                            <p:childTnLst>
                              <p:par>
                                <p:cTn id="27" nodeType="clickEffect" fill="hold" presetClass="emph" presetID="8">
                                  <p:stCondLst>
                                    <p:cond delay="0"/>
                                  </p:stCondLst>
                                  <p:childTnLst>
                                    <p:animRot by="21600000">
                                      <p:cBhvr>
                                        <p:cTn id="28" dur="2000" fill="hold"/>
                                        <p:tgtEl>
                                          <p:spTgt spid="2465">
                                            <p:txEl>
                                              <p:pRg st="5" end="5"/>
                                            </p:txEl>
                                          </p:spTgt>
                                        </p:tgtEl>
                                        <p:attrNameLst>
                                          <p:attrName>r</p:attrName>
                                        </p:attrNameLst>
                                      </p:cBhvr>
                                    </p:animRot>
                                  </p:childTnLst>
                                </p:cTn>
                              </p:par>
                            </p:childTnLst>
                          </p:cTn>
                        </p:par>
                      </p:childTnLst>
                    </p:cTn>
                  </p:par>
                  <p:par>
                    <p:cTn id="29" fill="hold">
                      <p:stCondLst>
                        <p:cond delay="indefinite"/>
                      </p:stCondLst>
                      <p:childTnLst>
                        <p:par>
                          <p:cTn id="30" fill="hold">
                            <p:stCondLst>
                              <p:cond delay="0"/>
                            </p:stCondLst>
                            <p:childTnLst>
                              <p:par>
                                <p:cTn id="31" nodeType="clickEffect" fill="hold" presetClass="emph" presetID="8">
                                  <p:stCondLst>
                                    <p:cond delay="0"/>
                                  </p:stCondLst>
                                  <p:childTnLst>
                                    <p:animRot by="21600000">
                                      <p:cBhvr>
                                        <p:cTn id="32" dur="2000" fill="hold"/>
                                        <p:tgtEl>
                                          <p:spTgt spid="2465">
                                            <p:txEl>
                                              <p:pRg st="2" end="2"/>
                                            </p:txEl>
                                          </p:spTgt>
                                        </p:tgtEl>
                                        <p:attrNameLst>
                                          <p:attrName>r</p:attrName>
                                        </p:attrNameLst>
                                      </p:cBhvr>
                                    </p:animRot>
                                  </p:childTnLst>
                                </p:cTn>
                              </p:par>
                            </p:childTnLst>
                          </p:cTn>
                        </p:par>
                      </p:childTnLst>
                    </p:cTn>
                  </p:par>
                  <p:par>
                    <p:cTn id="33" fill="hold">
                      <p:stCondLst>
                        <p:cond delay="indefinite"/>
                      </p:stCondLst>
                      <p:childTnLst>
                        <p:par>
                          <p:cTn id="34" fill="hold">
                            <p:stCondLst>
                              <p:cond delay="0"/>
                            </p:stCondLst>
                            <p:childTnLst>
                              <p:par>
                                <p:cTn id="35" nodeType="clickEffect" fill="hold" presetClass="path" presetID="0">
                                  <p:stCondLst>
                                    <p:cond delay="0"/>
                                  </p:stCondLst>
                                  <p:childTnLst>
                                    <p:animMotion origin="layout" path="M 0 0 C -0.02309 0.00508 -0.02656 0.00277 -0.03021 0.03167 C -0.02795 0.04 -0.02726 0.04924 -0.02396 0.05687 C -0.00799 0.09364 0.03403 0.09549 0.06024 0.09711 C 0.0809 0.09572 0.10156 0.09664 0.12205 0.09294 C 0.14062 0.08971 0.15799 0.07953 0.17621 0.07398 C 0.18403 0.06867 0.1908 0.0652 0.19687 0.05687 C 0.1717 0.00832 0.10104 0.01294 0.06198 0.0104 C 0.03646 0.01179 0.01094 0.01202 -0.01424 0.01479 C -0.02882 0.01641 -0.05712 0.02312 -0.05712 0.02312 C -0.03715 0.02843 -0.00451 0.01179 0.0125 0.00416 C 0.09844 -0.03399 0.18889 -0.06775 0.26198 -0.14174 C 0.27535 -0.16925 0.25417 -0.1792 0.23663 -0.18613 C 0.18542 -0.20625 0.13542 -0.20995 0.08246 -0.21157 C -0.01198 -0.21018 -0.09271 -0.20833 -0.18403 -0.19029 C -0.18819 -0.18821 -0.1941 -0.18867 -0.19688 -0.18405 C -0.19844 -0.18174 -0.19271 -0.17966 -0.19063 -0.17989 C -0.14427 -0.18243 -0.09826 -0.18821 -0.05243 -0.19237 C 0.06701 -0.22567 0.17899 -0.27076 0.29201 -0.33411 C 0.34705 -0.36486 0.32656 -0.34798 0.35712 -0.37642 C 0.3592 -0.38128 0.36267 -0.38567 0.36354 -0.39122 C 0.36493 -0.40232 0.34722 -0.40555 0.34601 -0.40602 C 0.3217 -0.41526 0.31806 -0.41365 0.28715 -0.41873 C 0.17743 -0.41249 0.03993 -0.40185 -0.05087 -0.30659 C -0.06198 -0.28116 -0.05243 -0.27469 -0.03021 -0.26867 C 0.00642 -0.25873 0.0441 -0.25989 0.0809 -0.25596 C 0.2467 -0.2659 0.40781 -0.27168 0.57135 -0.29596 C 0.59809 -0.30405 0.62187 -0.30544 0.59514 -0.30867 C 0.58733 -0.3096 0.57951 -0.31006 0.57135 -0.31076 C 0.41753 -0.30336 0.27882 -0.2918 0.12865 -0.22844 C 0.05556 -0.19769 -0.01858 -0.17388 -0.07934 -0.11006 C -0.09306 -0.07723 -0.08507 -0.07237 -0.05417 -0.05711 C 0.00538 -0.02752 0.07569 -0.02798 0.13802 -0.02128 C 0.23056 -0.02266 0.32344 -0.03399 0.41597 -0.02544 C 0.48507 -0.01896 0.27691 -0.02197 0.20781 -0.0148 C 0.09496 -0.00301 -0.01997 0.03329 -0.12535 0.08647 C -0.13056 0.09294 -0.14201 0.09618 -0.14115 0.10566 C -0.13785 0.14381 -0.08177 0.16 -0.06823 0.16485 C -0.03073 0.17872 0.00729 0.19213 0.04601 0.20069 C 0.1974 0.23445 0.35486 0.23283 0.50799 0.23676 C 0.62535 0.24531 0.74184 0.25734 0.85868 0.2726 C 0.86719 0.27537 0.89253 0.27791 0.88403 0.28115 C 0.86215 0.28971 0.73785 0.29294 0.72535 0.29364 C 0.55955 0.30335 0.63003 0.30312 0.44931 0.30843 C 0.13542 0.31768 0.08611 0.31722 -0.2191 0.32115 C -0.2507 0.32393 -0.28247 0.32647 -0.31424 0.32971 C -0.35556 0.33387 -0.35729 0.33225 -0.3349 0.33595 C -0.06372 0.31676 0.20278 0.25965 0.47135 0.21133 C 0.52431 0.20185 0.57726 0.19445 0.63003 0.18797 C 0.7 0.17965 0.83958 0.16693 0.83958 0.16693 C 0.85087 0.16346 0.86371 0.16508 0.87292 0.1563 C 0.87656 0.15283 0.86615 0.14751 0.86198 0.14566 C 0.84896 0.14034 0.83542 0.13826 0.82205 0.13526 C 0.78993 0.12786 0.75799 0.11953 0.72535 0.11398 C 0.64306 0.09988 0.52587 0.09063 0.44757 0.08647 C 0.33333 0.08023 0.10486 0.07167 0.10486 0.07167 C -0.04375 0.07606 -0.18316 0.07422 -0.32847 0.09919 C -0.28108 0.1119 -0.11007 0.06497 -0.06024 0.05479 C 0.20208 0.00161 0.46649 -0.05896 0.71892 -0.16925 C 0.73212 -0.18266 0.74601 -0.19515 0.75885 -0.20948 C 0.76302 -0.21434 0.77066 -0.21896 0.76979 -0.22636 C 0.76545 -0.26821 0.73299 -0.2881 0.70955 -0.30451 C 0.66962 -0.33226 0.59184 -0.37318 0.55243 -0.38914 C 0.37222 -0.46128 0.1809 -0.47307 -0.00486 -0.49896 C -0.01736 -0.49827 -0.05521 -0.50151 -0.04306 -0.49688 C -0.02726 -0.49087 -0.01007 -0.49688 0.00642 -0.4948 C 0.02969 -0.4918 0.05312 -0.4874 0.07604 -0.48185 C 0.22969 -0.44763 0.42795 -0.41758 0.5349 -0.24948 C 0.53854 -0.23746 0.54358 -0.22613 0.54601 -0.21365 C 0.56858 -0.08347 0.4401 0.02913 0.37917 0.09294 C 0.36128 0.11167 0.33976 0.12832 0.32691 0.15422 C 0.34583 0.1667 0.3875 0.13618 0.40625 0.12878 C 0.50712 0.08901 0.41615 0.14104 0.57448 0.06543 C 0.59514 0.05549 0.61788 0.05086 0.63646 0.03583 C 0.63906 0.03375 0.64722 0.02959 0.64444 0.02959 C 0.60503 0.02959 0.56615 0.03375 0.52691 0.03583 C 0.31615 0.08185 0.10521 0.12115 -0.1 0.20069 C -0.18646 0.23398 -0.26129 0.26543 -0.33177 0.34034 C -0.34722 0.37849 -0.34497 0.39514 -0.31111 0.41849 C -0.23576 0.47075 -0.15608 0.47907 -0.07309 0.48601 C 0.00174000000000001 0.47976 0.07674 0.47976 0.15087 0.46705 C 0.33628 0.43537 0.56528 0.29526 0.6809 0.09502 C 0.68507 0.07745 0.69149 0.06034 0.69375 0.04208 C 0.7 -0.01087 0.64323 -0.04324 0.61753 -0.05711 C 0.51719 -0.11052 0.42101 -0.11237 0.31441 -0.11631 C 0.14948 -0.09873 -0.07813 -0.11122 -0.19063 0.08878 C -0.18681 0.10566 -0.18785 0.12578 -0.17951 0.13942 C -0.1717 0.15237 -0.15799 0.15722 -0.14601 0.16277 C -0.08507 0.19167 -0.06962 0.18705 -0.0033 0.19445 C 0.06458 0.18797 0.13264 0.1882 0.19983 0.17526 C 0.23524 0.16832 0.2691 0.14936 0.30312 0.13526 C 0.38212 0.10242 0.45226 0.06982 0.51753 0.00208 C 0.47448 -0.02683 0.39184 0.000920000000000001 0.34757 0.01248 C 0.17118 0.05872 -0.03906 0.13248 -0.16667 0.31075 C -0.16823 0.32208 -0.17257 0.33317 -0.17135 0.3445 C -0.1691 0.37109 -0.14254 0.3845 -0.12865 0.39098 C -0.0783 0.4141 -0.04913 0.41225 0.00486 0.41849 C 0.06996 0.41225 0.13542 0.41133 0.19983 0.39953 C 0.23628 0.39283 0.27118 0.37711 0.30625 0.36346 C 0.44948 0.3082 0.59757 0.2245 0.7 0.07606 C 0.70139 0.06751 0.70503 0.05942 0.70469 0.05063 C 0.70347 0.01364 0.63698 0.01248 0.62708 0.0104 C 0.57205 0.01109 0.51667 0.00739 0.46181 0.01248 C 0.34722 0.02335 0.22604 0.0756 0.11736 0.12254 C 0.02378 0.16323 -0.09549 0.21109 -0.16181 0.31491 C -0.15712 0.32554 -0.15556 0.34057 -0.14774 0.34659 C -0.13438 0.35653 -0.1184 0.35907 -0.10313 0.3593 C -0.04132 0.35976 0.02066 0.35213 0.08246 0.34867 C 0.28889 0.29526 0.50469 0.22774 0.69514 0.10358 C 0.64566 0.09757 0.68229 0.09872 0.58871 0.13942 C 0.53837 0.16161 0.5026 0.18497 0.45556 0.21965 C 0.40382 0.2578 0.31996 0.31075 0.27292 0.3741 C 0.26823 0.41179 0.29861 0.40878 0.3191 0.41202 C 0.4125 0.40231 0.48958 0.32693 0.55885 0.24716 C 0.67604 0.11213 0.76944 -0.04879 0.82535 -0.24116 C 0.8283 -0.26752 0.83924 -0.32463 0.83021 -0.35515 C 0.81892 -0.39237 0.78472 -0.41573 0.76024 -0.42914 C 0.69844 -0.46266 0.67326 -0.45943 0.60469 -0.46937 C 0.53264 -0.46659 0.46059 -0.46937 0.38871 -0.46081 C 0.34687 -0.45619 0.3059 -0.44139 0.26493 -0.42914 C 0.16111 -0.39839 0.04983 -0.36024 -0.03802 -0.27492 C -0.05486 -0.25873 -0.06684 -0.23538 -0.0809 -0.21573 C -0.08507 -0.19815 -0.09375 -0.18128 -0.09375 -0.16278 C -0.09375 -0.06867 -0.00451 -0.01018 0.04601 0.02104 C 0.18368 0.10612 0.29687 0.12231 0.44601 0.13734 C 0.61701 0.12971 0.80156 0.12208 0.93472 -0.04024 C 0.93906 -0.05295 0.94583 -0.06451 0.94774 -0.07839 C 0.9526 -0.11931 0.90573 -0.15284 0.88715 -0.16509 C 0.8092 -0.21711 0.7316 -0.22289 0.64583 -0.23052 C 0.5625 -0.22498 0.4783 -0.22544 0.39531 -0.21365 C 0.34618 -0.20671 0.17031 -0.1496 0.12205 -0.12902 C 0.03524 -0.09203 -0.04497 -0.0481 -0.11111 0.03583 C -0.10521 0.05549 -0.10434 0.0793 -0.09375 0.09502 C -0.0809 0.11375 -0.06198 0.12346 -0.04462 0.13317 C 0.05347 0.18774 0.15087 0.19676 0.25556 0.20069 C 0.29479 0.19583 0.3342 0.1956 0.37309 0.18589 C 0.49948 0.15422 0.62951 0.07167 0.68889 -0.08671 C 0.68576 -0.10636 0.68715 -0.12879 0.67934 -0.1459 C 0.66736 -0.17157 0.62222 -0.18821 0.60469 -0.19469 C 0.53559 -0.22035 0.5408 -0.21388 0.46181 -0.22197 C 0.39115 -0.21642 0.31979 -0.21526 0.24913 -0.20509 C 0.1125 -0.18521 -0.0342 -0.12509 -0.15556 -0.04024 C -0.16181 -0.0296 -0.175 -0.02197 -0.17448 -0.00856 C -0.17431 0.00601 -0.16354 0.01826 -0.15399 0.0252 C -0.11892 0.05109 -0.05451 0.04809 -0.02083 0.05063 C 0.1408 0.04138 0.29219 0.00948 0.44427 -0.06775 C 0.51892 -0.10544 0.61181 -0.1533 0.65694 -0.2474 C 0.65174 -0.27631 0.63281 -0.28925 0.61111 -0.29596 C 0.56701 -0.3096 0.52257 -0.30844 0.47778 -0.31076 C 0.41163 -0.30521 0.34496 -0.30405 0.27934 -0.29388 C 0.14514 -0.27307 0.0151 -0.20671 -0.09861 -0.11214 C -0.10712 -0.09665 -0.1224 -0.08463 -0.12379 -0.06567 C -0.1283 -0.000700000000000006 -0.07934 0.02982 -0.04618 0.05271 C 0.05365 0.12115 0.16007 0.1408 0.26979 0.15838 C 0.44462 0.14173 0.65885 0.1563 0.76024 -0.07631 C 0.76371 -0.10197 0.77187 -0.12879 0.76198 -0.15446 C 0.74653 -0.19422 0.73038 -0.2081 0.7 -0.22636 C 0.62448 -0.27168 0.54462 -0.26937 0.46354 -0.27284 C 0.29826 -0.26012 0.14253 -0.22798 -0.00156 -0.11006 C -0.03108 -0.08602 -0.05677 -0.05503 -0.0842 -0.02752 C -0.09826 0.00346 -0.11754 0.03144 -0.12708 0.06543 C -0.14288 0.12208 -0.12882 0.17757 -0.10313 0.22404 C -0.04063 0.33734 0.07031 0.4 0.16996 0.42913 C 0.2099 0.44092 0.25121 0.44185 0.29201 0.44809 C 0.33056 0.44323 0.36996 0.44346 0.40799 0.43329 C 0.53264 0.40023 0.66719 0.30659 0.73958 0.16277 C 0.75191 0.13872 0.75868 0.11052 0.76823 0.08439 C 0.77257 0.03815 0.7809 0.00254 0.76649 -0.04232 C 0.75434 -0.08047 0.7217 -0.11376 0.69687 -0.13318 C 0.61944 -0.19284 0.5408 -0.19769 0.45382 -0.20509 C 0.37621 -0.19677 0.29809 -0.19353 0.22049 -0.17989 C 0.07708 -0.15446 -0.0467 -0.07515 -0.15399 0.05063 C -0.16163 0.08786 -0.17708 0.12971 -0.16042 0.16901 C -0.13906 0.21872 -0.07622 0.25988 -0.04306 0.27884 C 0.05677 0.33595 0.06736 0.32878 0.17465 0.35075 C 0.25972 0.34312 0.34583 0.3445 0.43003 0.32763 C 0.47049 0.31953 0.50833 0.29734 0.54601 0.27676 C 0.63108 0.23052 0.72257 0.16208 0.77292 0.05479 C 0.78385 0.03144 0.78889 0.00416 0.79687 -0.02128 C 0.79757 -0.05619 0.80243 -0.0955 0.79028 -0.12902 C 0.76233 -0.20717 0.69878 -0.25249 0.64132 -0.28116 C 0.54566 -0.32902 0.45191 -0.33642 0.35069 -0.34035 C 0.21337 -0.33018 0.07101 -0.30498 -0.03976 -0.18405 C -0.05781 -0.16417 -0.07135 -0.13758 -0.0875 -0.11422 C -0.09792 -0.0622 -0.11111 -0.02937 -0.09688 0.0252 C -0.05504 0.18265 0.1151 0.29549 0.22205 0.34867 C 0.2651 0.37017 0.30903 0.3889 0.35399 0.40161 C 0.39826 0.41433 0.44375 0.41711 0.48871 0.42474 C 0.59358 0.41942 0.69514 0.4215 0.7809 0.32763 C 0.79479 0.31237 0.80417 0.29086 0.81597 0.2726 C 0.82014 0.25711 0.82743 0.24254 0.82847 0.22612 C 0.8309 0.19468 0.81181 0.15861 0.79687 0.13942 C 0.74115 0.0682 0.66545 0.04115 0.59201 0.02104 C 0.55729 0.01156 0.5224 0.00208 0.48733 -0.00232 C 0.44844 -0.00717 0.40903 -0.00509 0.36996 -0.00648 C 0.1967 0.00462 0.02257 0.02635 -0.13177 0.14358 C -0.15538 0.16161 -0.17517 0.18728 -0.19688 0.20924 C -0.2059 0.2282 -0.21823 0.24508 -0.22379 0.26635 C -0.23403 0.30612 -0.20625 0.3445 -0.18906 0.36763 C -0.12031 0.45896 -0.02188 0.50867 0.07153 0.53271 C 0.11441 0.54381 0.15799 0.54543 0.20139 0.55167 C 0.24583 0.54959 0.2908 0.55398 0.33472 0.5452 C 0.45764 0.52069 0.56649 0.45687 0.63819 0.32115 C 0.64253 0.28809 0.65243 0.25849 0.63958 0.22612 C 0.62465 0.18774 0.59618 0.16231 0.56806 0.14358 C 0.49236 0.09317 0.40955 0.08971 0.32691 0.08231 C 0.12604 0.08971 -0.01892 0.12716 -0.18906 0.27468 C -0.19861 0.29156 -0.21615 0.3045 -0.21736 0.32554 C -0.2217 0.403 -0.18559 0.43144 -0.14115 0.45872 C -0.0566 0.51098 -0.02969 0.50751 0.0651 0.52832 C 0.14705 0.52069 0.23003 0.52277 0.31111 0.5052 C 0.35139 0.49641 0.38924 0.4719 0.42691 0.45017 C 0.50955 0.40277 0.55868 0.3489 0.61111 0.25572 C 0.61424 0.24092 0.61962 0.22659 0.62066 0.21133 C 0.62222 0.18242 0.61111 0.16185 0.59375 0.14566 C 0.54983 0.10474 0.48507 0.10265 0.4349 0.09294 C 0.37726 0.09641 0.3191 0.09456 0.26198 0.10358 C 0.16007 0.11976 0.05417 0.17988 -0.02552 0.26404 C -0.04219 0.31722 -0.02483 0.33202 0.01736 0.35283 C 0.08976 0.38843 0.11389 0.38196 0.19375 0.3889 C 0.35347 0.38034 0.51788 0.35953 0.65885 0.24716 C 0.71424 0.203 0.72917 0.17179 0.76823 0.1119 C 0.77257 0.09225 0.78229 0.07329 0.7809 0.05271 C 0.77726 -0.00625 0.75556 -0.0296 0.72066 -0.05503 C 0.64115 -0.11284 0.55833 -0.11746 0.46996 -0.12486 C 0.3309 -0.11723 0.18368 -0.13157 0.05868 -0.03191 C 0.0408 -0.01758 0.02708 0.00485 0.01094 0.02312 C 0.00642 0.03722 -0.00069 0.0504 -0.0033 0.06543 C -0.01146 0.11676 0.05174 0.1563 0.07448 0.16901 C 0.16128 0.21664 0.25573 0.21849 0.34757 0.2282 C 0.41111 0.22358 0.56181 0.24531 0.62378 0.16277 C 0.6217 0.15491 0.62135 0.14589 0.61753 0.13942 C 0.61389 0.13341 0.59184 0.12254 0.58733 0.12046 C 0.55799 0.10705 0.53455 0.10774 0.5033 0.10774 E">
                                      <p:cBhvr>
                                        <p:cTn id="36" dur="2000" fill="hold"/>
                                        <p:tgtEl>
                                          <p:spTgt spid="2465">
                                            <p:txEl>
                                              <p:pRg st="2" end="2"/>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nd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r  is i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413" name="" descr=""/>
          <p:cNvPicPr/>
          <p:nvPr/>
        </p:nvPicPr>
        <p:blipFill>
          <a:blip r:embed="rId1"/>
          <a:stretch/>
        </p:blipFill>
        <p:spPr>
          <a:xfrm>
            <a:off x="0" y="0"/>
            <a:ext cx="95248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The Gods </a:t>
            </a:r>
            <a:br>
              <a:rPr sz="3800"/>
            </a:br>
            <a:endParaRPr b="0" lang="en-US" sz="3800" spc="-1" strike="noStrike">
              <a:solidFill>
                <a:srgbClr val="ffffcc"/>
              </a:solidFill>
              <a:latin typeface="Tahoma"/>
            </a:endParaRPr>
          </a:p>
        </p:txBody>
      </p:sp>
      <p:sp>
        <p:nvSpPr>
          <p:cNvPr id="24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eus the God of the God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eidon the God of Water.</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des (aka: satin) the God of the Underworld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se are all of the Gods that they believed in at this time in histor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King and the Queen </a:t>
            </a:r>
            <a:endParaRPr b="0" lang="en-US" sz="4400" spc="-1" strike="noStrike">
              <a:solidFill>
                <a:srgbClr val="ffffff"/>
              </a:solidFill>
              <a:latin typeface="Arial"/>
            </a:endParaRPr>
          </a:p>
        </p:txBody>
      </p:sp>
      <p:sp>
        <p:nvSpPr>
          <p:cNvPr id="2417" name="PlaceHolder 2"/>
          <p:cNvSpPr>
            <a:spLocks noGrp="1"/>
          </p:cNvSpPr>
          <p:nvPr>
            <p:ph/>
          </p:nvPr>
        </p:nvSpPr>
        <p:spPr>
          <a:xfrm>
            <a:off x="533520" y="1599840"/>
            <a:ext cx="792936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18" name="" descr=""/>
          <p:cNvPicPr/>
          <p:nvPr/>
        </p:nvPicPr>
        <p:blipFill>
          <a:blip r:embed="rId1"/>
          <a:stretch/>
        </p:blipFill>
        <p:spPr>
          <a:xfrm>
            <a:off x="0" y="1295280"/>
            <a:ext cx="9144000" cy="556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9" name="PlaceHolder 1"/>
          <p:cNvSpPr>
            <a:spLocks noGrp="1"/>
          </p:cNvSpPr>
          <p:nvPr>
            <p:ph type="title"/>
          </p:nvPr>
        </p:nvSpPr>
        <p:spPr>
          <a:xfrm>
            <a:off x="228600" y="274320"/>
            <a:ext cx="86868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Food the People Ate in Ancient Greece </a:t>
            </a:r>
            <a:br>
              <a:rPr sz="4000"/>
            </a:br>
            <a:endParaRPr b="1" lang="en-US" sz="4000" spc="-1" strike="noStrike">
              <a:solidFill>
                <a:srgbClr val="b9efee"/>
              </a:solidFill>
              <a:latin typeface="Garamond"/>
            </a:endParaRPr>
          </a:p>
        </p:txBody>
      </p:sp>
      <p:sp>
        <p:nvSpPr>
          <p:cNvPr id="2420"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King and Queen ate beef, pork, chicken and drank wine and ale.</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se foods and drinks were considered delicacies to noble people.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21" name="" descr=""/>
          <p:cNvPicPr/>
          <p:nvPr/>
        </p:nvPicPr>
        <p:blipFill>
          <a:blip r:embed="rId1"/>
          <a:stretch/>
        </p:blipFill>
        <p:spPr>
          <a:xfrm>
            <a:off x="0" y="2971800"/>
            <a:ext cx="9144000" cy="3886200"/>
          </a:xfrm>
          <a:prstGeom prst="rect">
            <a:avLst/>
          </a:prstGeom>
          <a:ln w="0">
            <a:noFill/>
          </a:ln>
        </p:spPr>
      </p:pic>
      <p:sp>
        <p:nvSpPr>
          <p:cNvPr id="24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stume Design </a:t>
            </a:r>
            <a:endParaRPr b="0" lang="en-US" sz="4400" spc="-1" strike="noStrike">
              <a:solidFill>
                <a:srgbClr val="ffffff"/>
              </a:solidFill>
              <a:latin typeface="Arial Black"/>
            </a:endParaRPr>
          </a:p>
        </p:txBody>
      </p:sp>
      <p:sp>
        <p:nvSpPr>
          <p:cNvPr id="2423"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s is a costume that they wore in the original play.</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4.72222E-006 -6.5896E-006 C 0.03177 -0.01665 0.05937 0.00739 0.07465 0.04231 C 0.08333 0.08994 0.06545 0.10959 0.03663 0.12046 C -0.02483 0.11537 -0.06059 0.10543 -0.1158 0.0719 C -0.12257 0.06288 -0.12709 0.05641 -0.13004 0.04439 C -0.12952 0.03953 -0.13021 0.03398 -0.12848 0.02959 C -0.12153 0.01109 -0.08941 0.0104 -0.07605 0.00647 C -0.04219 0.00786 -0.00816 0.00647 0.02552 0.01063 C 0.03697 0.01202 0.05885 0.02335 0.05885 0.02335 C 0.07013 0.0319 0.07621 0.03953 0.0842 0.05294 C 0.08923 0.07329 0.07691 0.08601 0.0651 0.09525 C 0.03767 0.11676 0.0059 0.12554 -0.02535 0.12901 C -0.04445 0.12762 -0.06355 0.12786 -0.08247 0.12485 C -0.08959 0.12369 -0.09653 0.11999 -0.10313 0.1163 C -0.11077 0.11213 -0.12535 0.1015 -0.12535 0.1015 C -0.13108 0.08994 -0.13612 0.08323 -0.13803 0.06982 C -0.13733 0.06127 -0.13959 0.05017 -0.1349 0.04439 C -0.10782 0.01086 -0.07032 0.00647 -0.0349 0.00208 C 0.01024 0.00346 0.04097 0.00462 0.08263 0.01479 C 0.09513 0.02312 0.10729 0.02959 0.11597 0.04439 C 0.12222 0.08739 0.09322 0.1119 0.0684 0.12693 C 0.06302 0.13017 0.05816 0.13525 0.05243 0.13757 C 0.04444 0.14104 0.02465 0.14288 0.01597 0.14381 C -0.0165 0.1408 -0.0441 0.14034 -0.07448 0.12485 C -0.08542 0.1193 -0.09445 0.11167 -0.10313 0.1015 C -0.10764 0.09618 -0.1158 0.08462 -0.1158 0.08462 C -0.11528 0.07468 -0.11806 0.06358 -0.11424 0.05502 C -0.10087 0.02497 -0.07171 0.01872 -0.04914 0.01063 C -0.0066 -0.00463 0.03593 -0.01712 0.07951 -0.02521 C 0.09635 -0.02451 0.11336 -0.02498 0.1302 -0.02313 C 0.13298 -0.0229 0.1375 -0.02266 0.13819 -0.01896 C 0.14253 0.00346 0.11857 0.03283 0.11111 0.04439 C 0.08506 0.08485 0.0309 0.11398 -0.00782 0.12046 C -0.02865 0.11699 -0.04393 0.11421 -0.06025 0.09734 C -0.06094 0.09271 -0.06355 0.07537 -0.06337 0.0719 C -0.06216 0.05549 -0.06059 0.03907 -0.05712 0.02335 C -0.05157 -0.00255 -0.03143 -0.01712 -0.0158 -0.0296 C -0.00921 -0.03492 -0.00348 -0.04185 0.00329 -0.04648 C 0.03333 -0.06636 0.06753 -0.07006 0.1 -0.07816 C 0.12656 -0.07723 0.15868 -0.09457 0.16996 -0.0592 C 0.16788 -0.04509 0.16649 -0.03076 0.16354 -0.01688 C 0.15659 0.01687 0.13715 0.04762 0.12222 0.07606 C 0.10607 0.10705 0.09583 0.12878 0.0684 0.13965 C 0.05416 0.13826 0.03975 0.13734 0.02552 0.13525 C 0.01215 0.13317 -0.01424 0.12693 -0.01424 0.12693 C -0.03212 0.11653 -0.04237 0.11236 -0.05556 0.09525 C -0.05678 0.09202 -0.06216 0.07953 -0.06181 0.07398 C -0.06094 0.06127 -0.06007 0.04832 -0.05712 0.03606 C -0.05625 0.03213 -0.05296 0.03028 -0.0507 0.02751 C -0.0349 0.00855 -0.01719 0.00277 0.00329 -0.00209 C 0.05538 0.00046 0.09288 -0.00625 0.13663 0.02335 C 0.14965 0.05294 0.13576 0.07144 0.11597 0.08878 C 0.09079 0.11075 0.06579 0.12554 0.03663 0.13525 C 0.03177 0.13687 0.02708 0.13872 0.02222 0.13965 C 0.01006 0.14173 -0.01424 0.14381 -0.01424 0.14381 C -0.01997 0.14265 -0.04931 0.13895 -0.05869 0.13109 C -0.0632 0.12739 -0.0698 0.1163 -0.0698 0.1163 C -0.07257 0.10127 -0.07709 0.07976 -0.07136 0.06566 C -0.06806 0.05757 -0.05973 0.05572 -0.05382 0.05086 C -0.03959 0.03884 -0.02605 0.03815 -0.00938 0.03606 C 0.03645 0.03768 0.07413 0.0356 0.11597 0.05919 C 0.12013 0.06473 0.12708 0.07121 0.12708 0.08046 C 0.12708 0.10682 0.09704 0.13341 0.08107 0.14173 C 0.07083 0.14705 0.05989 0.15028 0.0493 0.15445 C 0.04357 0.15676 0.03767 0.15861 0.03177 0.16069 C -0.00938 0.1556 -0.06962 0.15722 -0.10313 0.11421 C -0.08855 0.09849 -0.07049 0.10104 -0.05226 0.09942 C 0.01024 0.10404 0.07256 0.10959 0.13506 0.11213 C 0.1467 0.11144 0.15833 0.1119 0.16996 0.11005 C 0.17187 0.10982 0.1743 0.1082 0.17465 0.10566 C 0.17691 0.0904 0.17552 0.07445 0.17777 0.05919 C 0.17899 0.05086 0.18107 0.03398 0.18107 0.03398 C 0.17899 0.02034 0.17708 -0.00116 0.17152 -0.0148 C 0.16111 -0.04093 0.13888 -0.05943 0.11753 -0.06336 C 0.11111 -0.06058 0.10434 -0.0592 0.09843 -0.0548 C 0.09392 -0.05157 0.09045 -0.03862 0.08732 -0.03376 C 0.07986 -0.02197 0.0717 -0.01087 0.06354 -6.5896E-006 C 0.04357 0.02658 0.02135 0.05687 -0.00313 0.07606 C -0.01077 0.0971 -0.000529999999999999 0.0726 -0.01268 0.09086 C -0.01494 0.09433 -0.01875 0.10543 -0.02049 0.11005 C -0.01997 0.11768 -0.02049 0.12578 -0.01893 0.13317 C -0.01667 0.14358 -0.00573 0.14566 0.00173 0.15005 C 0.02621 0.16439 0.05121 0.16531 0.07777 0.16716 C 0.10017 0.16393 0.12066 0.16138 0.14131 0.15005 C 0.15121 0.13248 0.15156 0.13248 0.15399 0.11213 C 0.15069 0.08601 0.13715 0.05387 0.12222 0.03606 C 0.11579 0.0282 0.08802 0.00901 0.08732 0.00855 C 0.07899 0.00231 0.06979 -0.00255 0.06041 -0.00417 C 0.05191 -0.00555 0.03506 -0.00833 0.03506 -0.00833 C 0.02395 -0.00694 0.01267 -0.0074 0.00173 -0.00417 C -0.02309 0.00346 -0.04636 0.02751 -0.06025 0.05502 C -0.06077 0.05734 -0.06667 0.08092 -0.06667 0.08254 C -0.06511 0.12208 -0.03299 0.14751 -0.00782 0.15861 C 0.00399 0.16393 0.01666 0.16508 0.02864 0.16924 C 0.06006 0.1667 0.08229 0.16485 0.11111 0.15653 C 0.11701 0.15306 0.1309 0.14543 0.13663 0.13965 C 0.15086 0.12508 0.15763 0.10196 0.16354 0.08046 C 0.1625 0.06913 0.1618 0.0578 0.16041 0.04647 C 0.15816 0.02867 0.14913 0.0104 0.13663 0.00208 C 0.13055 -0.00209 0.12256 -0.00185 0.11597 -0.00417 C 0.10277 -0.00278 0.08941 -0.00278 0.07621 -6.5896E-006 C 0.06597 0.00208 0.04947 0.01456 0.03975 0.01919 C 0.03246 0.02265 0.02465 0.02335 0.01753 0.02751 C 0.00798 0.03306 0.00052 0.03999 -0.00938 0.04439 C -0.01528 0.0504 -0.01962 0.05549 -0.02379 0.06358 C -0.02744 0.08809 -0.02066 0.09063 -0.00938 0.10566 C -0.00018 0.11791 -0.01025 0.11283 0.00329 0.1163 C 0.01197 0.12208 0.02048 0.123 0.0302 0.12485 C 0.05086 0.123 0.07222 0.12601 0.09218 0.11838 C 0.11336 0.11005 0.12291 0.10104 0.13975 0.08462 C 0.14062 0.07838 0.14288 0.07213 0.14288 0.06566 C 0.14288 0.03907 0.12013 0.02427 0.10642 0.01271 C 0.07552 -0.01318 0.04045 -0.02243 0.00486 -0.03168 C -0.00625 -0.03099 -0.01737 -0.03122 -0.02848 -0.0296 C -0.03785 -0.02821 -0.03507 -0.0259 -0.03959 -0.01896 C -0.0448 -0.01087 -0.05053 -0.0037 -0.05556 0.00439 C -0.06094 0.01294 -0.06598 0.02959 -0.0698 0.04023 C -0.07084 0.04716 -0.07188 0.05433 -0.07292 0.06127 C -0.07639 0.08485 -0.05625 0.10242 -0.04445 0.11213 C -0.01684 0.13456 0.00972 0.13919 0.04131 0.14381 C 0.0552 0.14242 0.06684 0.14219 0.07951 0.13525 C 0.08715 0.13109 0.09114 0.12416 0.09843 0.12046 C 0.11232 0.09803 0.11649 0.07213 0.12066 0.04439 C 0.12013 0.03028 0.12031 0.01618 0.11909 0.00208 C 0.11875 -0.00093 0.11805 -0.00463 0.11597 -0.00625 C 0.11458 -0.0074 0.11267 -0.00486 0.11111 -0.00417 C 0.10572 0.00809 0.10121 0.01988 0.09531 0.03167 C 0.08142 0.05942 0.03888 0.06612 0.01753 0.06774 C -0.00365 0.06936 -0.02483 0.06913 -0.04601 0.06982 C -0.06094 0.07236 -0.0757 0.07491 -0.09046 0.07838 C -0.09896 0.07699 -0.10747 0.07653 -0.1158 0.07398 C -0.12518 0.07098 -0.13803 0.0571 -0.14601 0.05086 C -0.16806 0.03375 -0.1915 0.01826 -0.21112 -0.00417 C -0.22084 -0.01527 -0.23646 -0.03168 -0.24115 -0.04648 C -0.254 -0.08648 -0.26789 -0.12509 -0.28091 -0.16486 C -0.28716 -0.21527 -0.25643 -0.23238 -0.22535 -0.24093 C -0.2132 -0.24417 -0.18889 -0.24949 -0.18889 -0.24949 C -0.14497 -0.24833 -0.10348 -0.2481 -0.06025 -0.24301 C -0.05035 -0.23977 -0.04445 -0.23792 -0.03646 -0.23029 C -0.03681 -0.22891 -0.0415 -0.21295 -0.04271 -0.21133 C -0.04566 -0.2074 -0.06059 -0.19792 -0.06494 -0.19654 C -0.07119 -0.19469 -0.08403 -0.19238 -0.08403 -0.19238 C -0.104 -0.19607 -0.11945 -0.20116 -0.13803 -0.21133 C -0.14896 -0.22382 -0.15851 -0.23399 -0.16494 -0.25157 C -0.16337 -0.2622 -0.16303 -0.27307 -0.16025 -0.28324 C -0.15782 -0.29203 -0.14966 -0.29295 -0.14445 -0.29596 C -0.12049 -0.3096 -0.10348 -0.32093 -0.07778 -0.32555 C -0.07153 -0.32671 -0.06511 -0.32694 -0.05869 -0.32764 C -0.04757 -0.32902 -0.02535 -0.3318 -0.02535 -0.3318 C 0.03298 -0.32671 0.0592 -0.3244 0.11111 -0.28949 C 0.12413 -0.2807 0.13246 -0.27816 0.14288 -0.26428 C 0.14375 -0.26058 0.14652 -0.25018 0.14618 -0.24717 C 0.14566 -0.2407 0.13489 -0.2333 0.13177 -0.23029 C 0.09444 -0.23654 0.10104 -0.23168 0.07951 -0.24949 C 0.06371 -0.27654 0.09409 -0.29318 0.10954 -0.29804 C 0.15468 -0.31261 0.20191 -0.31816 0.24774 -0.32555 C 0.30312 -0.32024 0.31406 -0.34359 0.32395 -0.29596 C 0.32604 -0.26683 0.33003 -0.24024 0.33177 -0.21133 C 0.32222 -0.14729 0.30659 -0.11515 0.27621 -0.06544 C 0.24461 -0.01388 0.19375 0.00971 0.1651 0.06566 C 0.16822 0.04416 0.1651 0.05803 0.18107 0.02751 C 0.19687 -0.00255 0.22361 -0.02775 0.25086 -0.03376 C 0.25399 -0.03307 0.25798 -0.03446 0.26041 -0.03168 C 0.26822 -0.0222 0.27066 0.00393 0.27309 0.01687 C 0.27361 0.03098 0.27517 0.04508 0.27465 0.05919 C 0.27326 0.10335 0.27118 0.17202 0.23506 0.19445 C 0.21996 0.20393 0.20364 0.20531 0.18732 0.20716 C 0.13316 0.20046 0.08784 0.19283 0.03506 0.17132 C 0.01753 0.16416 -0.01737 0.15005 -0.01737 0.15005 C -0.02535 0.14312 -0.0408 0.13479 -0.04601 0.12485 C -0.04202 0.10312 -0.01754 0.09826 -0.00313 0.09525 C 0.0059 0.09341 0.02395 0.09086 0.02395 0.09086 C 0.06319 0.09456 0.06163 0.09018 0.08888 0.1015 C 0.09843 0.10543 0.11753 0.11421 0.11753 0.11421 C 0.12465 0.12115 0.12656 0.12393 0.12864 0.13525 C 0.12517 0.1741 0.11145 0.17895 0.09218 0.20092 C 0.07083 0.22543 0.06996 0.22867 0.03975 0.2326 C -0.00747 0.22982 -0.05313 0.2252 -0.1 0.21988 C -0.1566 0.20531 -0.21355 0.19722 -0.26823 0.17341 C -0.27691 0.15745 -0.27275 0.14034 -0.26494 0.12485 C -0.24184 0.07884 -0.20869 0.07398 -0.1698 0.06982 C -0.13421 0.07144 -0.10278 0.0756 -0.06823 0.08462 C -0.06372 0.08762 -0.05643 0.08878 -0.05556 0.09525 C -0.05452 0.10427 -0.06025 0.10682 -0.06494 0.11005 C -0.07865 0.1193 -0.09098 0.12369 -0.10625 0.12693 C -0.1823 0.12138 -0.26216 0.11953 -0.33646 0.09086 C -0.36598 0.07953 -0.39827 0.06566 -0.42049 0.03606 C -0.42153 0.0319 -0.42396 0.02774 -0.42379 0.02335 C -0.42223 -0.02752 -0.41598 -0.01873 -0.39202 -0.05064 C -0.36337 -0.08879 -0.33195 -0.10937 -0.29202 -0.12047 C -0.28473 -0.12255 -0.27726 -0.1237 -0.2698 -0.12463 C -0.25452 -0.12648 -0.22379 -0.12879 -0.22379 -0.12879 C -0.19046 -0.12764 -0.15174 -0.13896 -0.1349 -0.09295 C -0.14202 -0.05943 -0.15816 -0.05596 -0.18247 -0.05272 C -0.23039 -0.0629 -0.29914 -0.08301 -0.32535 -0.14359 C -0.32969 -0.17873 -0.30035 -0.20579 -0.27778 -0.2155 C -0.20886 -0.24509 -0.23073 -0.23099 -0.17292 -0.24301 C -0.10504 -0.25688 -0.04028 -0.27376 0.02864 -0.27677 C 0.07534 -0.28185 0.12465 -0.29018 0.16996 -0.27053 C 0.19288 -0.24764 0.16701 -0.19816 0.15243 -0.17758 C 0.12239 -0.1348 0.08194 -0.11053 0.04618 -0.07816 C 0.02673 -0.06058 0.00138 -0.02544 -0.02379 -0.01896 C -0.02917 -0.01966 -0.04445 -0.01989 -0.04601 -0.02521 C -0.04983 -0.03839 -0.03594 -0.0548 -0.0316 -0.06336 C -0.01997 -0.08602 -0.00938 -0.11076 0.00798 -0.12671 C 0.0118 -0.13041 0.01614 -0.13318 0.02066 -0.13527 C 0.03159 -0.14035 0.05399 -0.14798 0.05399 -0.14798 C 0.07413 -0.14659 0.09444 -0.14683 0.11441 -0.14359 C 0.14774 -0.13827 0.17135 -0.10659 0.18263 -0.06752 C 0.18802 -0.02336 0.17222 -0.0044 0.15399 0.02543 C 0.15208 0.02867 0.15156 0.03306 0.1493 0.03606 C 0.14184 0.04601 0.13107 0.05687 0.12066 0.06127 C 0.11562 0.0682 0.11076 0.07005 0.10486 0.07606 C 0.09427 0.07537 0.08368 0.0756 0.07309 0.07398 C 0.06753 0.07306 0.06163 0.06635 0.05555 0.06566 C 0.046 0.0645 0.03663 0.06427 0.02708 0.06358 C 0.02899 0.05572 0.03055 0.05502 0.03663 0.05502 E">
                                      <p:cBhvr>
                                        <p:cTn id="6" dur="2000" fill="hold"/>
                                        <p:tgtEl>
                                          <p:spTgt spid="2421"/>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emph" presetID="8">
                                  <p:stCondLst>
                                    <p:cond delay="0"/>
                                  </p:stCondLst>
                                  <p:childTnLst>
                                    <p:animRot by="21600000">
                                      <p:cBhvr>
                                        <p:cTn id="10" dur="500" fill="hold"/>
                                        <p:tgtEl>
                                          <p:spTgt spid="2421"/>
                                        </p:tgtEl>
                                        <p:attrNameLst>
                                          <p:attrName>r</p:attrName>
                                        </p:attrNameLst>
                                      </p:cBhvr>
                                    </p:animRot>
                                  </p:childTnLst>
                                </p:cTn>
                              </p:par>
                            </p:childTnLst>
                          </p:cTn>
                        </p:par>
                      </p:childTnLst>
                    </p:cTn>
                  </p:par>
                  <p:par>
                    <p:cTn id="11" fill="hold">
                      <p:stCondLst>
                        <p:cond delay="indefinite"/>
                      </p:stCondLst>
                      <p:childTnLst>
                        <p:par>
                          <p:cTn id="12" fill="hold">
                            <p:stCondLst>
                              <p:cond delay="0"/>
                            </p:stCondLst>
                            <p:childTnLst>
                              <p:par>
                                <p:cTn id="13" nodeType="clickEffect" fill="hold" presetClass="emph" presetID="8">
                                  <p:stCondLst>
                                    <p:cond delay="0"/>
                                  </p:stCondLst>
                                  <p:childTnLst>
                                    <p:animRot by="21600000">
                                      <p:cBhvr>
                                        <p:cTn id="14" dur="500" fill="hold"/>
                                        <p:tgtEl>
                                          <p:spTgt spid="2421"/>
                                        </p:tgtEl>
                                        <p:attrNameLst>
                                          <p:attrName>r</p:attrName>
                                        </p:attrNameLst>
                                      </p:cBhvr>
                                    </p:animRot>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8">
                                  <p:stCondLst>
                                    <p:cond delay="0"/>
                                  </p:stCondLst>
                                  <p:childTnLst>
                                    <p:animRot by="21600000">
                                      <p:cBhvr>
                                        <p:cTn id="18" dur="500" fill="hold"/>
                                        <p:tgtEl>
                                          <p:spTgt spid="242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Story</a:t>
            </a:r>
            <a:endParaRPr b="0" lang="en-US" sz="4400" spc="-1" strike="noStrike">
              <a:solidFill>
                <a:srgbClr val="b7e7ff"/>
              </a:solidFill>
              <a:latin typeface="Arial"/>
            </a:endParaRPr>
          </a:p>
        </p:txBody>
      </p:sp>
      <p:sp>
        <p:nvSpPr>
          <p:cNvPr id="242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edipus has been made King of Thebes for freeing the people from the pestilence brought on them by the presence of the riddling Sphinx. Since Laius, the former King, had shortly been killed, Oedipus has been further honored by the hand of Queen Jocast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426" name="" descr=""/>
          <p:cNvPicPr/>
          <p:nvPr/>
        </p:nvPicPr>
        <p:blipFill>
          <a:blip r:embed="rId1"/>
          <a:stretch/>
        </p:blipFill>
        <p:spPr>
          <a:xfrm>
            <a:off x="2895480" y="3657600"/>
            <a:ext cx="3200400" cy="3200400"/>
          </a:xfrm>
          <a:prstGeom prst="rect">
            <a:avLst/>
          </a:prstGeom>
          <a:ln w="0">
            <a:noFill/>
          </a:ln>
        </p:spPr>
      </p:pic>
      <p:sp>
        <p:nvSpPr>
          <p:cNvPr id="24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o is Oedipus?</a:t>
            </a:r>
            <a:endParaRPr b="0" lang="en-US" sz="4400" spc="-1" strike="noStrike">
              <a:solidFill>
                <a:srgbClr val="ffffff"/>
              </a:solidFill>
              <a:latin typeface="Arial"/>
            </a:endParaRPr>
          </a:p>
        </p:txBody>
      </p:sp>
      <p:sp>
        <p:nvSpPr>
          <p:cNvPr id="24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edipus is the King of Thebes, Father of Antigone.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s also a man of swift action and great insigh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2T20:55:43Z</dcterms:created>
  <dc:creator> </dc:creator>
  <dc:description/>
  <dc:language>en-US</dc:language>
  <cp:lastModifiedBy> </cp:lastModifiedBy>
  <dcterms:modified xsi:type="dcterms:W3CDTF">2010-02-04T21:34:52Z</dcterms:modified>
  <cp:revision>6</cp:revision>
  <dc:subject/>
  <dc:title>Oedipus Rex </dc:title>
</cp:coreProperties>
</file>